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A5C-18F8-408D-9C73-52F2C1D1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381B-DCF1-4E82-B6FE-58A66317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6F5-31B8-4433-996B-B2ECEC62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737-422F-405D-B745-AD88E110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04C-DB04-4221-8661-031E7484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06E-6D96-419B-B66C-7BDEE794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F1A-111E-4B49-AB49-ACE0E16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382-659F-41A2-8F7D-A0F20590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BAC-391E-4084-9286-AAF2F3E5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568-D217-4F32-A219-A585A53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0E5-7C5F-4380-95EF-32F04A0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971-70F3-4377-9B19-BD27571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37C4-34A3-46BB-85C1-3524BF846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ОПОЛОГИЧЕСКИЕ МОДЕЛИ  ССТ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28440" y="1218960"/>
            <a:ext cx="9144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извольном не пустом граф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любая связная совокупность ребер, не содержащая контуров, циклов и петель, вместе с инцидентными им вершинами образует дерево данного графа. Если такое дерево является суграфом, т.е. содержит все вершины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то оно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язующи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рывающи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дерев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тов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ра графа, которые принадлежат его дереву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твя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сли дерево является связующим (покрывающим), то множество ребер графа разбивается на два подмножества: подмножество ветвей и подмножество ребер, образующи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полнения дере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называем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орд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вязный граф, все компоненты которого являются деревьями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с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ы, которые при всей несхожести геометрической интерпретации имеют идентичные отношения инцидентности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оморфн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оски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ар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если существует изоморфный ему граф, который может быть изображен на плоскости таким образом, что никакие его ребра не пересе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2844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 оптимальной конфигурации сети телекоммуникаций в некотором заданном регионе сводится именно к задаче постро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нимального остовного дере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МОД) для соответствующего гра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построения покрывающего МОД для связного взвешенного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формулируется следующим обр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граф, имеющи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шин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бер, задан своей матрицей инциденци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усть также известны длины (веса) всех ребер граф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м дополнительную булевскую переменную  такую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 найти такое связующее дерево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для которого сумма длин всех ребер, входящих в данное дерево, была бы минимальн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-9360" y="22860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а оптимизация конфигурации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64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лгоритм решения задачи оптимизации конфигурации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простой и эффективный алгоритм построения МОД основан на последовательном включении в него ребер с приоритетом по минимуму их длин (весов). Первоначально в дере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ключается ребро с минимальным весом среди всех осталь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на каждом шаге алгоритма рассматривается следующее минимальное по весу ребро, которое включается в дерево, если данное ребро не образует цикла с другими ранее включенными в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в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ие МОД заканчивается, когда для включения в дерево будет отобрано ровн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реб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лено, что данный алгоритм корректно решает задачу построения МОД за врем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|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80" y="1519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остановка задачи поиска кратчайших пу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4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оиска кратчайших путей на графах имеет важное практическое значение для телекоммуникационной сферы, поскольку ее решение обеспечивает выбор наиболее рациональных вариантов пересылки пакетов в сетях передачи данных, что постоянно выполняется устройствами маршрутизации. Подобный приём широко используется различными сетевыми протоколами и технолог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ю сети телекоммуникаций в данном случае служит взвешенный ориентированный или неориентированный граф без петель и дуг (ребер) с отрицательными весами. Вершины графа соответствуют узлам обработки данных, а его ребра или дуги – существующим путям передачи данных между ЦОДами в рамках телекоммуникационной инфраструктуры се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веса дуг или ребер графа, связывающих смежные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пределяют соответствующие расстояния («стоимости» пути) от одной вершины до друг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состоит в том, чтобы определить кратчайшие пути (в неориентированном графе – маршруты) от одной заданной вершины (источника) до всех остальных вершин графа (приёмников) так, чтобы они обладали минимальными суммарными весами по сравнению с остальными вариа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етод решения задачи поиска кратчайши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более эффективный и достаточно простой метод решения данной проблемы был предложен голландским ученым Э.Дейкстрой в 1959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 основан на приписывании вершинам графа на каждой итерации вр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ных меток, которые дают текущую оценку верхней границы длины пути от заданной вершины-источника к рассматриваемым на данной итерации вершинам-приёмник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ждой последующей итерации эти метки-оценки пересматриваются в сторону уменьшения, причем одна из текущих меток на данной стадии будет зафиксирована в качестве постоянной для одной из вершин-приёмников. Это свидетельствует о том, что найденная финальная оценка больше не рассматривается как верхняя граница, а дает точную длину («стоимость») кратчайшего пути (маршрута) от заданной исходной вершины к рассматрива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после выполнени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й итерации алгоритм находит ровн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чайших путей (обладающих наименьшей стоимостью) к вершинам графа из числа ближайших к вершине-источ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240" y="75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писание алгоритма Дейк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700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ём следующи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число вершин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шина-источни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ножество вершин графа, из числа обработанных алгоритмом к очередной итерации (так называемых посещённых вершин), т.е. таких, для которых окончательно определены кратчайшие пу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ножество вершин графа, смежных с рассматриваемой вершин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но еще не включенных на момент выполнения очередной итерации во множество посещённых верши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вязующее МОД для вершин, принадлежащих множеств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стоимость (длина) пути от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причем изначально принимаетс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= ∞, если данные вершины не являются смежными,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ринимается равным стоимости (длине) соответствующей дуги (ребра) между данными вершинами, если они смеж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оценка минимальной стоимости (длины) пути от вершины-источни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вершины-приёмни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становленная на текущий момент с помощью алго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чало работы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работы алгоритма осуществляется инициализация (т.е. нулевая итерация), в ходе которой вершине-источнику присваивается метка, равная стоимости (длине пути) с оценкой «0». Метка с данной оценкой считается постоянной. Всем остальным вершинам присваиваются в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ные метки с оценкой, равной «∞». При этом вершина-источник считается посещённой и включается во множест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также в минимальное связующее дере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на же выбирается в качестве текущей рассматриваемой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выполнения первой ит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олнение итераций  -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ени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й итерац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чередн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й итерации происходит обновление текущих меток (оценок) для некоторых выбранных вершин и выбор очередной вершины в качестве кандидатуры, подлежащей включению во множест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метим, что оценка, присвоенная вершине, включаемой на данной итерации во множест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считается окончательной (постоянной) и дальнейшему пересмотру не подлежит. Каждая итерация осуществляется в два ш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1. Обновление меток (оценок) смежных ве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нном шаге итерации осуществляется пересмотр оценок для всех вершин, смежных с текущей рассматриваемой вершин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принадлежащих множеств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еще не включенных во множест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2. Просмотр вершин и расширение М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нном шаге очередной итерации в качестве кандидатов на включение 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ются все ранее не посещённые вершины, т.е. имеющие в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ные метки и значит не включенные во множеств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. Из них выбирается та верши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имеет минимальную текущую оцен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40" y="22824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полнение итераций  -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ая вершина помечается как посещённая, т.е. подлежащая включению во 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 связующее дере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а также выбирается в качестве текущей рассматриваемой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выполнения следующей ит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текущая оц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минимального пути к ней от вершины-источника фиксируется в качестве постоянной и окончательной. Соответствующее ребро (дуга), формирующее последний участок кратчайшего пути к данной вершине, также включается в дере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осле выполнения данного шага очередной итерации все вершины графа окажутся посещёнными, т.е. отмечены постоянными метками и включены во 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о работа алгоритма на этом заверш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тивном случае осуществляется переход к шагу 1 для выполнения следующей ит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имер. Исходный гра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"/>
          <p:cNvGrpSpPr/>
          <p:nvPr/>
        </p:nvGrpSpPr>
        <p:grpSpPr>
          <a:xfrm>
            <a:off x="1728720" y="1468440"/>
            <a:ext cx="5941800" cy="5227200"/>
            <a:chOff x="1728720" y="1468440"/>
            <a:chExt cx="5941800" cy="5227200"/>
          </a:xfrm>
        </p:grpSpPr>
        <p:sp>
          <p:nvSpPr>
            <p:cNvPr id="79" name="AutoShape 56"/>
            <p:cNvSpPr/>
            <p:nvPr/>
          </p:nvSpPr>
          <p:spPr>
            <a:xfrm>
              <a:off x="1728720" y="1468440"/>
              <a:ext cx="5941800" cy="52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3"/>
            <p:cNvSpPr/>
            <p:nvPr/>
          </p:nvSpPr>
          <p:spPr>
            <a:xfrm>
              <a:off x="2954160" y="4888080"/>
              <a:ext cx="695160" cy="56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2"/>
            <p:cNvSpPr/>
            <p:nvPr/>
          </p:nvSpPr>
          <p:spPr>
            <a:xfrm>
              <a:off x="5735160" y="1495800"/>
              <a:ext cx="695160" cy="56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47"/>
            <p:cNvSpPr/>
            <p:nvPr/>
          </p:nvSpPr>
          <p:spPr>
            <a:xfrm>
              <a:off x="5998680" y="2856240"/>
              <a:ext cx="35172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6"/>
            <p:cNvSpPr/>
            <p:nvPr/>
          </p:nvSpPr>
          <p:spPr>
            <a:xfrm>
              <a:off x="6350400" y="2410200"/>
              <a:ext cx="1951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5"/>
            <p:cNvSpPr/>
            <p:nvPr/>
          </p:nvSpPr>
          <p:spPr>
            <a:xfrm>
              <a:off x="6350400" y="4113720"/>
              <a:ext cx="19368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4"/>
            <p:cNvSpPr/>
            <p:nvPr/>
          </p:nvSpPr>
          <p:spPr>
            <a:xfrm>
              <a:off x="5803200" y="3366720"/>
              <a:ext cx="1951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3"/>
            <p:cNvSpPr/>
            <p:nvPr/>
          </p:nvSpPr>
          <p:spPr>
            <a:xfrm>
              <a:off x="4657320" y="4775760"/>
              <a:ext cx="245880" cy="50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2"/>
            <p:cNvSpPr/>
            <p:nvPr/>
          </p:nvSpPr>
          <p:spPr>
            <a:xfrm>
              <a:off x="4550040" y="4251960"/>
              <a:ext cx="19512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1"/>
            <p:cNvSpPr/>
            <p:nvPr/>
          </p:nvSpPr>
          <p:spPr>
            <a:xfrm>
              <a:off x="4550040" y="3536280"/>
              <a:ext cx="353160" cy="5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0"/>
            <p:cNvSpPr/>
            <p:nvPr/>
          </p:nvSpPr>
          <p:spPr>
            <a:xfrm>
              <a:off x="4354200" y="2958480"/>
              <a:ext cx="32400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39"/>
            <p:cNvSpPr/>
            <p:nvPr/>
          </p:nvSpPr>
          <p:spPr>
            <a:xfrm>
              <a:off x="4354200" y="2164320"/>
              <a:ext cx="19548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8"/>
            <p:cNvSpPr/>
            <p:nvPr/>
          </p:nvSpPr>
          <p:spPr>
            <a:xfrm>
              <a:off x="4461840" y="1611360"/>
              <a:ext cx="19548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7"/>
            <p:cNvSpPr/>
            <p:nvPr/>
          </p:nvSpPr>
          <p:spPr>
            <a:xfrm>
              <a:off x="6156720" y="3668040"/>
              <a:ext cx="19368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6"/>
            <p:cNvSpPr/>
            <p:nvPr/>
          </p:nvSpPr>
          <p:spPr>
            <a:xfrm>
              <a:off x="3739320" y="3121200"/>
              <a:ext cx="1933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5"/>
            <p:cNvSpPr/>
            <p:nvPr/>
          </p:nvSpPr>
          <p:spPr>
            <a:xfrm>
              <a:off x="5735160" y="4888080"/>
              <a:ext cx="696600" cy="56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34"/>
            <p:cNvSpPr/>
            <p:nvPr/>
          </p:nvSpPr>
          <p:spPr>
            <a:xfrm>
              <a:off x="2994840" y="2711160"/>
              <a:ext cx="193680" cy="44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3"/>
            <p:cNvSpPr/>
            <p:nvPr/>
          </p:nvSpPr>
          <p:spPr>
            <a:xfrm>
              <a:off x="2693880" y="2410200"/>
              <a:ext cx="1933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2954160" y="3668040"/>
              <a:ext cx="1936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1"/>
            <p:cNvSpPr/>
            <p:nvPr/>
          </p:nvSpPr>
          <p:spPr>
            <a:xfrm>
              <a:off x="1819800" y="2690280"/>
              <a:ext cx="696600" cy="56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0"/>
            <p:cNvSpPr/>
            <p:nvPr/>
          </p:nvSpPr>
          <p:spPr>
            <a:xfrm>
              <a:off x="6594480" y="2709720"/>
              <a:ext cx="69516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9"/>
            <p:cNvSpPr/>
            <p:nvPr/>
          </p:nvSpPr>
          <p:spPr>
            <a:xfrm>
              <a:off x="2269080" y="3272400"/>
              <a:ext cx="243720" cy="26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3545280" y="2032920"/>
              <a:ext cx="240480" cy="261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7"/>
            <p:cNvSpPr/>
            <p:nvPr/>
          </p:nvSpPr>
          <p:spPr>
            <a:xfrm>
              <a:off x="3545280" y="4624560"/>
              <a:ext cx="242280" cy="26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6874560" y="3404520"/>
              <a:ext cx="239040" cy="26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5"/>
            <p:cNvSpPr/>
            <p:nvPr/>
          </p:nvSpPr>
          <p:spPr>
            <a:xfrm>
              <a:off x="5614560" y="4624560"/>
              <a:ext cx="239040" cy="26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392200" y="3553920"/>
              <a:ext cx="1133280" cy="1220760"/>
              <a:chOff x="2392200" y="3553920"/>
              <a:chExt cx="1133280" cy="1220760"/>
            </a:xfrm>
          </p:grpSpPr>
          <p:cxnSp>
            <p:nvCxnSpPr>
              <p:cNvPr id="106" name="AutoShape 24"/>
              <p:cNvCxnSpPr/>
              <p:nvPr/>
            </p:nvCxnSpPr>
            <p:spPr>
              <a:xfrm>
                <a:off x="2392200" y="3553920"/>
                <a:ext cx="1133640" cy="122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" name=""/>
              <p:cNvSpPr txBox="1"/>
              <p:nvPr/>
            </p:nvSpPr>
            <p:spPr>
              <a:xfrm>
                <a:off x="2392200" y="3553920"/>
                <a:ext cx="1132920" cy="122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512800" y="3403800"/>
              <a:ext cx="1136520" cy="1220760"/>
              <a:chOff x="2512800" y="3403800"/>
              <a:chExt cx="1136520" cy="1220760"/>
            </a:xfrm>
          </p:grpSpPr>
          <p:cxnSp>
            <p:nvCxnSpPr>
              <p:cNvPr id="109" name="AutoShape 23"/>
              <p:cNvCxnSpPr/>
              <p:nvPr/>
            </p:nvCxnSpPr>
            <p:spPr>
              <a:xfrm flipH="1" flipV="1">
                <a:off x="2512800" y="3403800"/>
                <a:ext cx="1136880" cy="1220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0" name=""/>
              <p:cNvSpPr txBox="1"/>
              <p:nvPr/>
            </p:nvSpPr>
            <p:spPr>
              <a:xfrm rot="10800000">
                <a:off x="2513160" y="3404520"/>
                <a:ext cx="1136160" cy="122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853600" y="2182680"/>
              <a:ext cx="1136520" cy="1221840"/>
              <a:chOff x="5853600" y="2182680"/>
              <a:chExt cx="1136520" cy="1221840"/>
            </a:xfrm>
          </p:grpSpPr>
          <p:cxnSp>
            <p:nvCxnSpPr>
              <p:cNvPr id="112" name="AutoShape 22"/>
              <p:cNvCxnSpPr/>
              <p:nvPr/>
            </p:nvCxnSpPr>
            <p:spPr>
              <a:xfrm flipH="1" flipV="1">
                <a:off x="5853600" y="2182680"/>
                <a:ext cx="1136880" cy="1222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3" name=""/>
              <p:cNvSpPr txBox="1"/>
              <p:nvPr/>
            </p:nvSpPr>
            <p:spPr>
              <a:xfrm rot="10800000">
                <a:off x="5853960" y="2182680"/>
                <a:ext cx="1136160" cy="122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734800" y="2317320"/>
              <a:ext cx="1139760" cy="1218960"/>
              <a:chOff x="5734800" y="2317320"/>
              <a:chExt cx="1139760" cy="1218960"/>
            </a:xfrm>
          </p:grpSpPr>
          <p:cxnSp>
            <p:nvCxnSpPr>
              <p:cNvPr id="115" name="AutoShape 21"/>
              <p:cNvCxnSpPr/>
              <p:nvPr/>
            </p:nvCxnSpPr>
            <p:spPr>
              <a:xfrm>
                <a:off x="5734800" y="2317320"/>
                <a:ext cx="1140120" cy="121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6" name=""/>
              <p:cNvSpPr txBox="1"/>
              <p:nvPr/>
            </p:nvSpPr>
            <p:spPr>
              <a:xfrm>
                <a:off x="5734800" y="2317320"/>
                <a:ext cx="113940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18880" y="4697280"/>
              <a:ext cx="1796040" cy="2160"/>
              <a:chOff x="3818880" y="4697280"/>
              <a:chExt cx="1796040" cy="2160"/>
            </a:xfrm>
          </p:grpSpPr>
          <p:cxnSp>
            <p:nvCxnSpPr>
              <p:cNvPr id="118" name="AutoShape 20"/>
              <p:cNvCxnSpPr/>
              <p:nvPr/>
            </p:nvCxnSpPr>
            <p:spPr>
              <a:xfrm>
                <a:off x="3818880" y="4697280"/>
                <a:ext cx="179640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 txBox="1"/>
              <p:nvPr/>
            </p:nvSpPr>
            <p:spPr>
              <a:xfrm>
                <a:off x="3818880" y="4697280"/>
                <a:ext cx="1795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787200" y="2274840"/>
              <a:ext cx="1825200" cy="2160"/>
              <a:chOff x="3787200" y="2274840"/>
              <a:chExt cx="1825200" cy="2160"/>
            </a:xfrm>
          </p:grpSpPr>
          <p:cxnSp>
            <p:nvCxnSpPr>
              <p:cNvPr id="121" name="AutoShape 19"/>
              <p:cNvCxnSpPr/>
              <p:nvPr/>
            </p:nvCxnSpPr>
            <p:spPr>
              <a:xfrm flipH="1">
                <a:off x="3787200" y="2274840"/>
                <a:ext cx="182556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2" name=""/>
              <p:cNvSpPr txBox="1"/>
              <p:nvPr/>
            </p:nvSpPr>
            <p:spPr>
              <a:xfrm>
                <a:off x="3787560" y="2274840"/>
                <a:ext cx="1824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373840" y="2163960"/>
              <a:ext cx="1152720" cy="1089000"/>
              <a:chOff x="2373840" y="2163960"/>
              <a:chExt cx="1152720" cy="1089000"/>
            </a:xfrm>
          </p:grpSpPr>
          <p:cxnSp>
            <p:nvCxnSpPr>
              <p:cNvPr id="124" name="AutoShape 18"/>
              <p:cNvCxnSpPr/>
              <p:nvPr/>
            </p:nvCxnSpPr>
            <p:spPr>
              <a:xfrm flipV="1">
                <a:off x="2374200" y="2163960"/>
                <a:ext cx="1152720" cy="1089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5" name=""/>
              <p:cNvSpPr txBox="1"/>
              <p:nvPr/>
            </p:nvSpPr>
            <p:spPr>
              <a:xfrm rot="10800000">
                <a:off x="2373840" y="2164320"/>
                <a:ext cx="1152360" cy="108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787560" y="2052000"/>
              <a:ext cx="1862640" cy="16560"/>
              <a:chOff x="3787560" y="2052000"/>
              <a:chExt cx="1862640" cy="16560"/>
            </a:xfrm>
          </p:grpSpPr>
          <p:cxnSp>
            <p:nvCxnSpPr>
              <p:cNvPr id="127" name="AutoShape 17"/>
              <p:cNvCxnSpPr/>
              <p:nvPr/>
            </p:nvCxnSpPr>
            <p:spPr>
              <a:xfrm>
                <a:off x="3787560" y="2052000"/>
                <a:ext cx="1863000" cy="16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787560" y="2052000"/>
                <a:ext cx="1862280" cy="1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val 16"/>
            <p:cNvSpPr/>
            <p:nvPr/>
          </p:nvSpPr>
          <p:spPr>
            <a:xfrm>
              <a:off x="5614560" y="2049120"/>
              <a:ext cx="239040" cy="255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515680" y="2275200"/>
              <a:ext cx="1133280" cy="1091880"/>
              <a:chOff x="2515680" y="2275200"/>
              <a:chExt cx="1133280" cy="1091880"/>
            </a:xfrm>
          </p:grpSpPr>
          <p:cxnSp>
            <p:nvCxnSpPr>
              <p:cNvPr id="131" name="AutoShape 15"/>
              <p:cNvCxnSpPr/>
              <p:nvPr/>
            </p:nvCxnSpPr>
            <p:spPr>
              <a:xfrm flipH="1">
                <a:off x="2515680" y="2275200"/>
                <a:ext cx="1133640" cy="109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2" name=""/>
              <p:cNvSpPr txBox="1"/>
              <p:nvPr/>
            </p:nvSpPr>
            <p:spPr>
              <a:xfrm>
                <a:off x="2516040" y="2275200"/>
                <a:ext cx="1132920" cy="109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735160" y="3566880"/>
              <a:ext cx="1137600" cy="1037880"/>
              <a:chOff x="5735160" y="3566880"/>
              <a:chExt cx="1137600" cy="1037880"/>
            </a:xfrm>
          </p:grpSpPr>
          <p:cxnSp>
            <p:nvCxnSpPr>
              <p:cNvPr id="134" name="AutoShape 14"/>
              <p:cNvCxnSpPr/>
              <p:nvPr/>
            </p:nvCxnSpPr>
            <p:spPr>
              <a:xfrm flipV="1">
                <a:off x="5735160" y="3566880"/>
                <a:ext cx="1137960" cy="103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5" name=""/>
              <p:cNvSpPr txBox="1"/>
              <p:nvPr/>
            </p:nvSpPr>
            <p:spPr>
              <a:xfrm rot="10800000">
                <a:off x="5735160" y="3567240"/>
                <a:ext cx="1137600" cy="103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851440" y="3687120"/>
              <a:ext cx="1143360" cy="1075680"/>
              <a:chOff x="5851440" y="3687120"/>
              <a:chExt cx="1143360" cy="1075680"/>
            </a:xfrm>
          </p:grpSpPr>
          <p:cxnSp>
            <p:nvCxnSpPr>
              <p:cNvPr id="137" name="AutoShape 13"/>
              <p:cNvCxnSpPr/>
              <p:nvPr/>
            </p:nvCxnSpPr>
            <p:spPr>
              <a:xfrm flipH="1">
                <a:off x="5851440" y="3687120"/>
                <a:ext cx="1143720" cy="1076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38" name=""/>
              <p:cNvSpPr txBox="1"/>
              <p:nvPr/>
            </p:nvSpPr>
            <p:spPr>
              <a:xfrm>
                <a:off x="5851800" y="3687120"/>
                <a:ext cx="1143000" cy="107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738600" y="4886640"/>
              <a:ext cx="1826640" cy="1800"/>
              <a:chOff x="3738600" y="4886640"/>
              <a:chExt cx="1826640" cy="1800"/>
            </a:xfrm>
          </p:grpSpPr>
          <p:cxnSp>
            <p:nvCxnSpPr>
              <p:cNvPr id="140" name="AutoShape 12"/>
              <p:cNvCxnSpPr/>
              <p:nvPr/>
            </p:nvCxnSpPr>
            <p:spPr>
              <a:xfrm flipH="1">
                <a:off x="3738600" y="4886640"/>
                <a:ext cx="1827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1" name=""/>
              <p:cNvSpPr txBox="1"/>
              <p:nvPr/>
            </p:nvSpPr>
            <p:spPr>
              <a:xfrm>
                <a:off x="3738960" y="4886640"/>
                <a:ext cx="1826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629880" y="2274840"/>
              <a:ext cx="1982880" cy="2320560"/>
              <a:chOff x="3629880" y="2274840"/>
              <a:chExt cx="1982880" cy="2320560"/>
            </a:xfrm>
          </p:grpSpPr>
          <p:cxnSp>
            <p:nvCxnSpPr>
              <p:cNvPr id="143" name="AutoShape 11"/>
              <p:cNvCxnSpPr/>
              <p:nvPr/>
            </p:nvCxnSpPr>
            <p:spPr>
              <a:xfrm flipH="1">
                <a:off x="3629880" y="2274840"/>
                <a:ext cx="1983240" cy="2320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4" name=""/>
              <p:cNvSpPr txBox="1"/>
              <p:nvPr/>
            </p:nvSpPr>
            <p:spPr>
              <a:xfrm>
                <a:off x="3629880" y="2274840"/>
                <a:ext cx="1982880" cy="232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785400" y="2317680"/>
              <a:ext cx="2017440" cy="2349360"/>
              <a:chOff x="3785400" y="2317680"/>
              <a:chExt cx="2017440" cy="2349360"/>
            </a:xfrm>
          </p:grpSpPr>
          <p:cxnSp>
            <p:nvCxnSpPr>
              <p:cNvPr id="146" name="AutoShape 10"/>
              <p:cNvCxnSpPr/>
              <p:nvPr/>
            </p:nvCxnSpPr>
            <p:spPr>
              <a:xfrm flipV="1">
                <a:off x="3785760" y="2317680"/>
                <a:ext cx="2017440" cy="2349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47" name=""/>
              <p:cNvSpPr txBox="1"/>
              <p:nvPr/>
            </p:nvSpPr>
            <p:spPr>
              <a:xfrm rot="10800000">
                <a:off x="3785400" y="2317680"/>
                <a:ext cx="2017080" cy="23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749760" y="2274480"/>
              <a:ext cx="5400" cy="2328480"/>
              <a:chOff x="3749760" y="2274480"/>
              <a:chExt cx="5400" cy="2328480"/>
            </a:xfrm>
          </p:grpSpPr>
          <p:cxnSp>
            <p:nvCxnSpPr>
              <p:cNvPr id="149" name="AutoShape 9"/>
              <p:cNvCxnSpPr/>
              <p:nvPr/>
            </p:nvCxnSpPr>
            <p:spPr>
              <a:xfrm flipH="1" flipV="1">
                <a:off x="3749760" y="2274480"/>
                <a:ext cx="5760" cy="232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0" name=""/>
              <p:cNvSpPr txBox="1"/>
              <p:nvPr/>
            </p:nvSpPr>
            <p:spPr>
              <a:xfrm rot="10800000">
                <a:off x="3750120" y="2274480"/>
                <a:ext cx="5040" cy="232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851440" y="2317320"/>
              <a:ext cx="2160" cy="2326680"/>
              <a:chOff x="5851440" y="2317320"/>
              <a:chExt cx="2160" cy="2326680"/>
            </a:xfrm>
          </p:grpSpPr>
          <p:cxnSp>
            <p:nvCxnSpPr>
              <p:cNvPr id="152" name="AutoShape 8"/>
              <p:cNvCxnSpPr/>
              <p:nvPr/>
            </p:nvCxnSpPr>
            <p:spPr>
              <a:xfrm flipH="1" flipV="1">
                <a:off x="5851440" y="2317320"/>
                <a:ext cx="2520" cy="2327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3" name=""/>
              <p:cNvSpPr txBox="1"/>
              <p:nvPr/>
            </p:nvSpPr>
            <p:spPr>
              <a:xfrm rot="10800000">
                <a:off x="5851440" y="2317680"/>
                <a:ext cx="1800" cy="232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581280" y="2275200"/>
              <a:ext cx="1800" cy="2369160"/>
              <a:chOff x="3581280" y="2275200"/>
              <a:chExt cx="1800" cy="2369160"/>
            </a:xfrm>
          </p:grpSpPr>
          <p:cxnSp>
            <p:nvCxnSpPr>
              <p:cNvPr id="155" name="AutoShape 7"/>
              <p:cNvCxnSpPr/>
              <p:nvPr/>
            </p:nvCxnSpPr>
            <p:spPr>
              <a:xfrm>
                <a:off x="3581280" y="2275200"/>
                <a:ext cx="2160" cy="236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6" name=""/>
              <p:cNvSpPr txBox="1"/>
              <p:nvPr/>
            </p:nvSpPr>
            <p:spPr>
              <a:xfrm>
                <a:off x="3581280" y="2275200"/>
                <a:ext cx="1440" cy="236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650560" y="2286360"/>
              <a:ext cx="1800" cy="2409840"/>
              <a:chOff x="5650560" y="2286360"/>
              <a:chExt cx="1800" cy="2409840"/>
            </a:xfrm>
          </p:grpSpPr>
          <p:cxnSp>
            <p:nvCxnSpPr>
              <p:cNvPr id="158" name="AutoShape 6"/>
              <p:cNvCxnSpPr/>
              <p:nvPr/>
            </p:nvCxnSpPr>
            <p:spPr>
              <a:xfrm>
                <a:off x="5650560" y="2286360"/>
                <a:ext cx="2160" cy="2410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59" name=""/>
              <p:cNvSpPr txBox="1"/>
              <p:nvPr/>
            </p:nvSpPr>
            <p:spPr>
              <a:xfrm>
                <a:off x="5650560" y="2286360"/>
                <a:ext cx="1440" cy="24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 Box 5"/>
            <p:cNvSpPr/>
            <p:nvPr/>
          </p:nvSpPr>
          <p:spPr>
            <a:xfrm>
              <a:off x="2887560" y="1470240"/>
              <a:ext cx="695160" cy="5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2592720" y="3908880"/>
              <a:ext cx="100800" cy="52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3"/>
            <p:cNvSpPr/>
            <p:nvPr/>
          </p:nvSpPr>
          <p:spPr>
            <a:xfrm>
              <a:off x="3330360" y="3121200"/>
              <a:ext cx="1951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"/>
            <p:cNvSpPr/>
            <p:nvPr/>
          </p:nvSpPr>
          <p:spPr>
            <a:xfrm>
              <a:off x="5370120" y="3121200"/>
              <a:ext cx="195120" cy="44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0960" y="1295280"/>
            <a:ext cx="885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графов предоставляет разработчикам ССТК исключительно наглядный и эффективный аппарат для моделирования структурных свойств сложных транспортных сетей и систем телекоммуникаций, а также анализа взаимоотношений между компонентами сетевой инфраструктуры подоб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ответствии с данным подходом инфраструктура ССТК может быть представлена в виде некоторо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ф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вершинами которого являются узлы этой сети, т.е. Центры обработки данных (ЦОД), соединенные друг с другом транспортными сетевыми коммуникациями. При этом сами сетевые коммуникации получают свое отображение на графе в виде связующих  линий между его верш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графов является разделом дискретной математики, а точнее, теории множеств.  В ее рамках в качестве предмета исследований рассматривается множеств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ш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афа </a:t>
            </a:r>
            <a:r>
              <a:rPr b="1" i="1" lang="de-DE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заимоотношения между его элементами, описываемые с помощью множеств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яз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бр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рафа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Если граф задаётся посредством прямого визуального изображения множества всех своих вершин и соединяющих их ребер, то такой способ его задания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ометрическ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7424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. Инициализ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1955880" y="2882880"/>
            <a:ext cx="5486400" cy="4335480"/>
            <a:chOff x="1955880" y="2882880"/>
            <a:chExt cx="5486400" cy="4335480"/>
          </a:xfrm>
        </p:grpSpPr>
        <p:sp>
          <p:nvSpPr>
            <p:cNvPr id="167" name="AutoShape 56"/>
            <p:cNvSpPr/>
            <p:nvPr/>
          </p:nvSpPr>
          <p:spPr>
            <a:xfrm>
              <a:off x="1955880" y="2882880"/>
              <a:ext cx="5486400" cy="43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5"/>
            <p:cNvSpPr/>
            <p:nvPr/>
          </p:nvSpPr>
          <p:spPr>
            <a:xfrm>
              <a:off x="3612600" y="3208320"/>
              <a:ext cx="47988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4"/>
            <p:cNvSpPr/>
            <p:nvPr/>
          </p:nvSpPr>
          <p:spPr>
            <a:xfrm>
              <a:off x="5234760" y="3208320"/>
              <a:ext cx="594000" cy="48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3"/>
            <p:cNvSpPr/>
            <p:nvPr/>
          </p:nvSpPr>
          <p:spPr>
            <a:xfrm>
              <a:off x="3044880" y="6044760"/>
              <a:ext cx="6674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2"/>
            <p:cNvSpPr/>
            <p:nvPr/>
          </p:nvSpPr>
          <p:spPr>
            <a:xfrm>
              <a:off x="5714640" y="3118680"/>
              <a:ext cx="66744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6809040" y="4878720"/>
              <a:ext cx="47952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0"/>
            <p:cNvSpPr/>
            <p:nvPr/>
          </p:nvSpPr>
          <p:spPr>
            <a:xfrm>
              <a:off x="5234760" y="6044760"/>
              <a:ext cx="4798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9"/>
            <p:cNvSpPr/>
            <p:nvPr/>
          </p:nvSpPr>
          <p:spPr>
            <a:xfrm>
              <a:off x="3612600" y="6043320"/>
              <a:ext cx="479880" cy="48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8"/>
            <p:cNvSpPr/>
            <p:nvPr/>
          </p:nvSpPr>
          <p:spPr>
            <a:xfrm>
              <a:off x="1955880" y="4694760"/>
              <a:ext cx="431280" cy="505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7"/>
            <p:cNvSpPr/>
            <p:nvPr/>
          </p:nvSpPr>
          <p:spPr>
            <a:xfrm>
              <a:off x="5967720" y="4291920"/>
              <a:ext cx="33768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6"/>
            <p:cNvSpPr/>
            <p:nvPr/>
          </p:nvSpPr>
          <p:spPr>
            <a:xfrm>
              <a:off x="6305760" y="3907080"/>
              <a:ext cx="1872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5"/>
            <p:cNvSpPr/>
            <p:nvPr/>
          </p:nvSpPr>
          <p:spPr>
            <a:xfrm>
              <a:off x="6305760" y="5376600"/>
              <a:ext cx="18576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4"/>
            <p:cNvSpPr/>
            <p:nvPr/>
          </p:nvSpPr>
          <p:spPr>
            <a:xfrm>
              <a:off x="5780520" y="4732560"/>
              <a:ext cx="1872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3"/>
            <p:cNvSpPr/>
            <p:nvPr/>
          </p:nvSpPr>
          <p:spPr>
            <a:xfrm>
              <a:off x="4680000" y="5947920"/>
              <a:ext cx="235800" cy="43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4577040" y="5496120"/>
              <a:ext cx="18720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4577040" y="4878720"/>
              <a:ext cx="339120" cy="49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0"/>
            <p:cNvSpPr/>
            <p:nvPr/>
          </p:nvSpPr>
          <p:spPr>
            <a:xfrm>
              <a:off x="4389120" y="4380120"/>
              <a:ext cx="31104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4389120" y="3695400"/>
              <a:ext cx="18756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8"/>
            <p:cNvSpPr/>
            <p:nvPr/>
          </p:nvSpPr>
          <p:spPr>
            <a:xfrm>
              <a:off x="4492080" y="3218040"/>
              <a:ext cx="18756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6119640" y="4992120"/>
              <a:ext cx="18576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6"/>
            <p:cNvSpPr/>
            <p:nvPr/>
          </p:nvSpPr>
          <p:spPr>
            <a:xfrm>
              <a:off x="3798720" y="4520520"/>
              <a:ext cx="1854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5714640" y="6044760"/>
              <a:ext cx="66852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4"/>
            <p:cNvSpPr/>
            <p:nvPr/>
          </p:nvSpPr>
          <p:spPr>
            <a:xfrm>
              <a:off x="3084120" y="4167000"/>
              <a:ext cx="185760" cy="38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3"/>
            <p:cNvSpPr/>
            <p:nvPr/>
          </p:nvSpPr>
          <p:spPr>
            <a:xfrm>
              <a:off x="2795040" y="3907080"/>
              <a:ext cx="1854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2"/>
            <p:cNvSpPr/>
            <p:nvPr/>
          </p:nvSpPr>
          <p:spPr>
            <a:xfrm>
              <a:off x="3044880" y="4992120"/>
              <a:ext cx="1857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1"/>
            <p:cNvSpPr/>
            <p:nvPr/>
          </p:nvSpPr>
          <p:spPr>
            <a:xfrm>
              <a:off x="1955880" y="4148640"/>
              <a:ext cx="66852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0"/>
            <p:cNvSpPr/>
            <p:nvPr/>
          </p:nvSpPr>
          <p:spPr>
            <a:xfrm>
              <a:off x="6540120" y="4165560"/>
              <a:ext cx="667440" cy="48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9"/>
            <p:cNvSpPr/>
            <p:nvPr/>
          </p:nvSpPr>
          <p:spPr>
            <a:xfrm>
              <a:off x="2387160" y="4651200"/>
              <a:ext cx="234000" cy="2275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3612600" y="3581640"/>
              <a:ext cx="230760" cy="225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7"/>
            <p:cNvSpPr/>
            <p:nvPr/>
          </p:nvSpPr>
          <p:spPr>
            <a:xfrm>
              <a:off x="3612600" y="5817600"/>
              <a:ext cx="232560" cy="22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6809040" y="4764960"/>
              <a:ext cx="229680" cy="227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5"/>
            <p:cNvSpPr/>
            <p:nvPr/>
          </p:nvSpPr>
          <p:spPr>
            <a:xfrm>
              <a:off x="5599080" y="5817600"/>
              <a:ext cx="229680" cy="227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505600" y="4893840"/>
              <a:ext cx="1087920" cy="1053000"/>
              <a:chOff x="2505600" y="4893840"/>
              <a:chExt cx="1087920" cy="1053000"/>
            </a:xfrm>
          </p:grpSpPr>
          <p:cxnSp>
            <p:nvCxnSpPr>
              <p:cNvPr id="200" name="AutoShape 24"/>
              <p:cNvCxnSpPr/>
              <p:nvPr/>
            </p:nvCxnSpPr>
            <p:spPr>
              <a:xfrm>
                <a:off x="2505600" y="4893840"/>
                <a:ext cx="1088280" cy="105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1" name=""/>
              <p:cNvSpPr txBox="1"/>
              <p:nvPr/>
            </p:nvSpPr>
            <p:spPr>
              <a:xfrm>
                <a:off x="2505600" y="4893840"/>
                <a:ext cx="1087560" cy="10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621160" y="4764240"/>
              <a:ext cx="1091160" cy="1053000"/>
              <a:chOff x="2621160" y="4764240"/>
              <a:chExt cx="1091160" cy="1053000"/>
            </a:xfrm>
          </p:grpSpPr>
          <p:cxnSp>
            <p:nvCxnSpPr>
              <p:cNvPr id="203" name="AutoShape 23"/>
              <p:cNvCxnSpPr/>
              <p:nvPr/>
            </p:nvCxnSpPr>
            <p:spPr>
              <a:xfrm flipH="1" flipV="1">
                <a:off x="2621160" y="4764240"/>
                <a:ext cx="1091520" cy="10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4" name=""/>
              <p:cNvSpPr txBox="1"/>
              <p:nvPr/>
            </p:nvSpPr>
            <p:spPr>
              <a:xfrm rot="10800000">
                <a:off x="2621520" y="4764960"/>
                <a:ext cx="1090800" cy="10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828400" y="3710520"/>
              <a:ext cx="1091160" cy="1054440"/>
              <a:chOff x="5828400" y="3710520"/>
              <a:chExt cx="1091160" cy="1054440"/>
            </a:xfrm>
          </p:grpSpPr>
          <p:cxnSp>
            <p:nvCxnSpPr>
              <p:cNvPr id="206" name="AutoShape 22"/>
              <p:cNvCxnSpPr/>
              <p:nvPr/>
            </p:nvCxnSpPr>
            <p:spPr>
              <a:xfrm flipH="1" flipV="1">
                <a:off x="5828400" y="3710520"/>
                <a:ext cx="1091520" cy="1054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 txBox="1"/>
              <p:nvPr/>
            </p:nvSpPr>
            <p:spPr>
              <a:xfrm rot="10800000">
                <a:off x="5828760" y="3710880"/>
                <a:ext cx="1090800" cy="105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714280" y="3827160"/>
              <a:ext cx="1094400" cy="1051560"/>
              <a:chOff x="5714280" y="3827160"/>
              <a:chExt cx="1094400" cy="1051560"/>
            </a:xfrm>
          </p:grpSpPr>
          <p:cxnSp>
            <p:nvCxnSpPr>
              <p:cNvPr id="209" name="AutoShape 21"/>
              <p:cNvCxnSpPr/>
              <p:nvPr/>
            </p:nvCxnSpPr>
            <p:spPr>
              <a:xfrm>
                <a:off x="5714280" y="3827160"/>
                <a:ext cx="1094760" cy="105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0" name=""/>
              <p:cNvSpPr txBox="1"/>
              <p:nvPr/>
            </p:nvSpPr>
            <p:spPr>
              <a:xfrm>
                <a:off x="5714280" y="3827160"/>
                <a:ext cx="1094040" cy="10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874680" y="5880600"/>
              <a:ext cx="1724400" cy="1800"/>
              <a:chOff x="3874680" y="5880600"/>
              <a:chExt cx="1724400" cy="1800"/>
            </a:xfrm>
          </p:grpSpPr>
          <p:cxnSp>
            <p:nvCxnSpPr>
              <p:cNvPr id="212" name="AutoShape 20"/>
              <p:cNvCxnSpPr/>
              <p:nvPr/>
            </p:nvCxnSpPr>
            <p:spPr>
              <a:xfrm>
                <a:off x="3874680" y="5880600"/>
                <a:ext cx="1724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3" name=""/>
              <p:cNvSpPr txBox="1"/>
              <p:nvPr/>
            </p:nvSpPr>
            <p:spPr>
              <a:xfrm>
                <a:off x="3874680" y="5880600"/>
                <a:ext cx="1724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845160" y="3790800"/>
              <a:ext cx="1752120" cy="1800"/>
              <a:chOff x="3845160" y="3790800"/>
              <a:chExt cx="1752120" cy="1800"/>
            </a:xfrm>
          </p:grpSpPr>
          <p:cxnSp>
            <p:nvCxnSpPr>
              <p:cNvPr id="215" name="AutoShape 19"/>
              <p:cNvCxnSpPr/>
              <p:nvPr/>
            </p:nvCxnSpPr>
            <p:spPr>
              <a:xfrm flipH="1">
                <a:off x="3845160" y="3790800"/>
                <a:ext cx="17524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6" name=""/>
              <p:cNvSpPr txBox="1"/>
              <p:nvPr/>
            </p:nvSpPr>
            <p:spPr>
              <a:xfrm>
                <a:off x="3845520" y="3790800"/>
                <a:ext cx="1751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487600" y="3695040"/>
              <a:ext cx="1107000" cy="939240"/>
              <a:chOff x="2487600" y="3695040"/>
              <a:chExt cx="1107000" cy="939240"/>
            </a:xfrm>
          </p:grpSpPr>
          <p:cxnSp>
            <p:nvCxnSpPr>
              <p:cNvPr id="218" name="AutoShape 18"/>
              <p:cNvCxnSpPr/>
              <p:nvPr/>
            </p:nvCxnSpPr>
            <p:spPr>
              <a:xfrm flipV="1">
                <a:off x="2487960" y="3695040"/>
                <a:ext cx="1107000" cy="939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9" name=""/>
              <p:cNvSpPr txBox="1"/>
              <p:nvPr/>
            </p:nvSpPr>
            <p:spPr>
              <a:xfrm rot="10800000">
                <a:off x="2487600" y="3695400"/>
                <a:ext cx="1106280" cy="93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845160" y="3598560"/>
              <a:ext cx="1788480" cy="14040"/>
              <a:chOff x="3845160" y="3598560"/>
              <a:chExt cx="1788480" cy="14040"/>
            </a:xfrm>
          </p:grpSpPr>
          <p:cxnSp>
            <p:nvCxnSpPr>
              <p:cNvPr id="221" name="AutoShape 17"/>
              <p:cNvCxnSpPr/>
              <p:nvPr/>
            </p:nvCxnSpPr>
            <p:spPr>
              <a:xfrm>
                <a:off x="3845160" y="3598560"/>
                <a:ext cx="1788840" cy="14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2" name=""/>
              <p:cNvSpPr txBox="1"/>
              <p:nvPr/>
            </p:nvSpPr>
            <p:spPr>
              <a:xfrm>
                <a:off x="3845160" y="3598560"/>
                <a:ext cx="1788120" cy="1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Oval 16"/>
            <p:cNvSpPr/>
            <p:nvPr/>
          </p:nvSpPr>
          <p:spPr>
            <a:xfrm>
              <a:off x="5599080" y="3595680"/>
              <a:ext cx="229680" cy="220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623680" y="3790800"/>
              <a:ext cx="1087920" cy="942120"/>
              <a:chOff x="2623680" y="3790800"/>
              <a:chExt cx="1087920" cy="942120"/>
            </a:xfrm>
          </p:grpSpPr>
          <p:cxnSp>
            <p:nvCxnSpPr>
              <p:cNvPr id="225" name="AutoShape 15"/>
              <p:cNvCxnSpPr/>
              <p:nvPr/>
            </p:nvCxnSpPr>
            <p:spPr>
              <a:xfrm flipH="1">
                <a:off x="2623680" y="3790800"/>
                <a:ext cx="1088280" cy="94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6" name=""/>
              <p:cNvSpPr txBox="1"/>
              <p:nvPr/>
            </p:nvSpPr>
            <p:spPr>
              <a:xfrm>
                <a:off x="2624040" y="3790800"/>
                <a:ext cx="1087560" cy="94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714640" y="4905000"/>
              <a:ext cx="1092600" cy="895320"/>
              <a:chOff x="5714640" y="4905000"/>
              <a:chExt cx="1092600" cy="895320"/>
            </a:xfrm>
          </p:grpSpPr>
          <p:cxnSp>
            <p:nvCxnSpPr>
              <p:cNvPr id="228" name="AutoShape 14"/>
              <p:cNvCxnSpPr/>
              <p:nvPr/>
            </p:nvCxnSpPr>
            <p:spPr>
              <a:xfrm flipV="1">
                <a:off x="5714640" y="4905000"/>
                <a:ext cx="1092960" cy="89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9" name=""/>
              <p:cNvSpPr txBox="1"/>
              <p:nvPr/>
            </p:nvSpPr>
            <p:spPr>
              <a:xfrm rot="10800000">
                <a:off x="5714640" y="4905360"/>
                <a:ext cx="1092240" cy="89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826960" y="5008680"/>
              <a:ext cx="1097640" cy="928080"/>
              <a:chOff x="5826960" y="5008680"/>
              <a:chExt cx="1097640" cy="928080"/>
            </a:xfrm>
          </p:grpSpPr>
          <p:cxnSp>
            <p:nvCxnSpPr>
              <p:cNvPr id="231" name="AutoShape 13"/>
              <p:cNvCxnSpPr/>
              <p:nvPr/>
            </p:nvCxnSpPr>
            <p:spPr>
              <a:xfrm flipH="1">
                <a:off x="5826960" y="5008680"/>
                <a:ext cx="1098000" cy="92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2" name=""/>
              <p:cNvSpPr txBox="1"/>
              <p:nvPr/>
            </p:nvSpPr>
            <p:spPr>
              <a:xfrm>
                <a:off x="5827320" y="5008680"/>
                <a:ext cx="1097280" cy="92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798360" y="6042960"/>
              <a:ext cx="1753560" cy="1440"/>
              <a:chOff x="3798360" y="6042960"/>
              <a:chExt cx="1753560" cy="1440"/>
            </a:xfrm>
          </p:grpSpPr>
          <p:cxnSp>
            <p:nvCxnSpPr>
              <p:cNvPr id="234" name="AutoShape 12"/>
              <p:cNvCxnSpPr/>
              <p:nvPr/>
            </p:nvCxnSpPr>
            <p:spPr>
              <a:xfrm flipH="1">
                <a:off x="3798360" y="6042960"/>
                <a:ext cx="175392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 txBox="1"/>
              <p:nvPr/>
            </p:nvSpPr>
            <p:spPr>
              <a:xfrm>
                <a:off x="3798720" y="6042960"/>
                <a:ext cx="1753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693240" y="3790800"/>
              <a:ext cx="1904040" cy="2001960"/>
              <a:chOff x="3693240" y="3790800"/>
              <a:chExt cx="1904040" cy="2001960"/>
            </a:xfrm>
          </p:grpSpPr>
          <p:cxnSp>
            <p:nvCxnSpPr>
              <p:cNvPr id="237" name="AutoShape 11"/>
              <p:cNvCxnSpPr/>
              <p:nvPr/>
            </p:nvCxnSpPr>
            <p:spPr>
              <a:xfrm flipH="1">
                <a:off x="3693240" y="3790800"/>
                <a:ext cx="1904400" cy="200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8" name=""/>
              <p:cNvSpPr txBox="1"/>
              <p:nvPr/>
            </p:nvSpPr>
            <p:spPr>
              <a:xfrm>
                <a:off x="3693600" y="3790800"/>
                <a:ext cx="1903680" cy="20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843000" y="3826440"/>
              <a:ext cx="1937160" cy="2026800"/>
              <a:chOff x="3843000" y="3826440"/>
              <a:chExt cx="1937160" cy="2026800"/>
            </a:xfrm>
          </p:grpSpPr>
          <p:cxnSp>
            <p:nvCxnSpPr>
              <p:cNvPr id="240" name="AutoShape 10"/>
              <p:cNvCxnSpPr/>
              <p:nvPr/>
            </p:nvCxnSpPr>
            <p:spPr>
              <a:xfrm flipV="1">
                <a:off x="3843360" y="3826440"/>
                <a:ext cx="1937160" cy="2027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1" name=""/>
              <p:cNvSpPr txBox="1"/>
              <p:nvPr/>
            </p:nvSpPr>
            <p:spPr>
              <a:xfrm rot="10800000">
                <a:off x="3843000" y="3826440"/>
                <a:ext cx="1936440" cy="202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808440" y="3790080"/>
              <a:ext cx="5040" cy="2008800"/>
              <a:chOff x="3808440" y="3790080"/>
              <a:chExt cx="5040" cy="2008800"/>
            </a:xfrm>
          </p:grpSpPr>
          <p:cxnSp>
            <p:nvCxnSpPr>
              <p:cNvPr id="243" name="AutoShape 9"/>
              <p:cNvCxnSpPr/>
              <p:nvPr/>
            </p:nvCxnSpPr>
            <p:spPr>
              <a:xfrm flipH="1" flipV="1">
                <a:off x="3808440" y="3790080"/>
                <a:ext cx="5400" cy="200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"/>
              <p:cNvSpPr txBox="1"/>
              <p:nvPr/>
            </p:nvSpPr>
            <p:spPr>
              <a:xfrm rot="10800000">
                <a:off x="3808440" y="3790080"/>
                <a:ext cx="4680" cy="200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826960" y="3826440"/>
              <a:ext cx="1800" cy="2007360"/>
              <a:chOff x="5826960" y="3826440"/>
              <a:chExt cx="1800" cy="2007360"/>
            </a:xfrm>
          </p:grpSpPr>
          <p:cxnSp>
            <p:nvCxnSpPr>
              <p:cNvPr id="246" name="AutoShape 8"/>
              <p:cNvCxnSpPr/>
              <p:nvPr/>
            </p:nvCxnSpPr>
            <p:spPr>
              <a:xfrm flipH="1" flipV="1">
                <a:off x="5826960" y="3826800"/>
                <a:ext cx="2160" cy="200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7" name=""/>
              <p:cNvSpPr txBox="1"/>
              <p:nvPr/>
            </p:nvSpPr>
            <p:spPr>
              <a:xfrm rot="10800000">
                <a:off x="5827320" y="3826440"/>
                <a:ext cx="1440" cy="200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646440" y="3790800"/>
              <a:ext cx="1440" cy="2043720"/>
              <a:chOff x="3646440" y="3790800"/>
              <a:chExt cx="1440" cy="2043720"/>
            </a:xfrm>
          </p:grpSpPr>
          <p:cxnSp>
            <p:nvCxnSpPr>
              <p:cNvPr id="249" name="AutoShape 7"/>
              <p:cNvCxnSpPr/>
              <p:nvPr/>
            </p:nvCxnSpPr>
            <p:spPr>
              <a:xfrm>
                <a:off x="3646440" y="3790800"/>
                <a:ext cx="1800" cy="20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0" name=""/>
              <p:cNvSpPr txBox="1"/>
              <p:nvPr/>
            </p:nvSpPr>
            <p:spPr>
              <a:xfrm>
                <a:off x="3646440" y="3790800"/>
                <a:ext cx="1080" cy="204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633280" y="3800520"/>
              <a:ext cx="1440" cy="2079000"/>
              <a:chOff x="5633280" y="3800520"/>
              <a:chExt cx="1440" cy="2079000"/>
            </a:xfrm>
          </p:grpSpPr>
          <p:cxnSp>
            <p:nvCxnSpPr>
              <p:cNvPr id="252" name="AutoShape 6"/>
              <p:cNvCxnSpPr/>
              <p:nvPr/>
            </p:nvCxnSpPr>
            <p:spPr>
              <a:xfrm>
                <a:off x="5633280" y="3800520"/>
                <a:ext cx="1800" cy="2079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 txBox="1"/>
              <p:nvPr/>
            </p:nvSpPr>
            <p:spPr>
              <a:xfrm>
                <a:off x="5633280" y="3800520"/>
                <a:ext cx="1080" cy="207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5"/>
            <p:cNvSpPr/>
            <p:nvPr/>
          </p:nvSpPr>
          <p:spPr>
            <a:xfrm>
              <a:off x="2980800" y="3096360"/>
              <a:ext cx="667440" cy="48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"/>
            <p:cNvSpPr/>
            <p:nvPr/>
          </p:nvSpPr>
          <p:spPr>
            <a:xfrm>
              <a:off x="2697840" y="5200200"/>
              <a:ext cx="968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3"/>
            <p:cNvSpPr/>
            <p:nvPr/>
          </p:nvSpPr>
          <p:spPr>
            <a:xfrm>
              <a:off x="3406320" y="4520520"/>
              <a:ext cx="1872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"/>
            <p:cNvSpPr/>
            <p:nvPr/>
          </p:nvSpPr>
          <p:spPr>
            <a:xfrm>
              <a:off x="5364720" y="4520520"/>
              <a:ext cx="187200" cy="38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Прямоугольник 60"/>
          <p:cNvSpPr/>
          <p:nvPr/>
        </p:nvSpPr>
        <p:spPr>
          <a:xfrm>
            <a:off x="0" y="874800"/>
            <a:ext cx="9144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е-источни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сваивается метка с оценкой «0», т.е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=0. Эта оценка считается окончательной и дальнейшему пересмотру не подлежит. Остальным вершинам, являющимся приёмниками, присваиваются в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ные метки с текущими оценками, равными «∞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-источ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мечается как посещённая (закрашивается синим цветом), включается во множест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 связующее МОД. Она же выбирается в качестве текущей рассматриваемой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выполнения первой ит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4920" y="19800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. Итерация 1. Шаг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0" y="914400"/>
            <a:ext cx="91440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ется просмотр вершин, смежных с верш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К таковым относятся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уги, ведущие к данным вершинам и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делены пунктиром. Производится пересмотр оценок кратчайших путей к этим верши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для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м новую оц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=2 (изначально бы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=∞), а для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ц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=1 (изначально бы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=∞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 = С(1)+с(1,2)=0+2=2 &lt; ∞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 = С(1)+с(1,3)=0+1=1 &lt; ∞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"/>
          <p:cNvGrpSpPr/>
          <p:nvPr/>
        </p:nvGrpSpPr>
        <p:grpSpPr>
          <a:xfrm>
            <a:off x="1509840" y="2263680"/>
            <a:ext cx="6429240" cy="5318280"/>
            <a:chOff x="1509840" y="2263680"/>
            <a:chExt cx="6429240" cy="5318280"/>
          </a:xfrm>
        </p:grpSpPr>
        <p:sp>
          <p:nvSpPr>
            <p:cNvPr id="263" name="AutoShape 56"/>
            <p:cNvSpPr/>
            <p:nvPr/>
          </p:nvSpPr>
          <p:spPr>
            <a:xfrm>
              <a:off x="1509840" y="2263680"/>
              <a:ext cx="6429240" cy="53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5"/>
            <p:cNvSpPr/>
            <p:nvPr/>
          </p:nvSpPr>
          <p:spPr>
            <a:xfrm>
              <a:off x="5257800" y="3308400"/>
              <a:ext cx="471240" cy="41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4"/>
            <p:cNvSpPr/>
            <p:nvPr/>
          </p:nvSpPr>
          <p:spPr>
            <a:xfrm>
              <a:off x="3519720" y="5711400"/>
              <a:ext cx="52956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3993840" y="3322800"/>
              <a:ext cx="3805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2"/>
            <p:cNvSpPr/>
            <p:nvPr/>
          </p:nvSpPr>
          <p:spPr>
            <a:xfrm>
              <a:off x="5638680" y="3232440"/>
              <a:ext cx="529560" cy="4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1"/>
            <p:cNvSpPr/>
            <p:nvPr/>
          </p:nvSpPr>
          <p:spPr>
            <a:xfrm>
              <a:off x="6507360" y="4723560"/>
              <a:ext cx="3805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0"/>
            <p:cNvSpPr/>
            <p:nvPr/>
          </p:nvSpPr>
          <p:spPr>
            <a:xfrm>
              <a:off x="5257800" y="5711400"/>
              <a:ext cx="3808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9"/>
            <p:cNvSpPr/>
            <p:nvPr/>
          </p:nvSpPr>
          <p:spPr>
            <a:xfrm>
              <a:off x="3970080" y="5710320"/>
              <a:ext cx="380880" cy="41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8"/>
            <p:cNvSpPr/>
            <p:nvPr/>
          </p:nvSpPr>
          <p:spPr>
            <a:xfrm>
              <a:off x="2655000" y="4567680"/>
              <a:ext cx="342360" cy="428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7"/>
            <p:cNvSpPr/>
            <p:nvPr/>
          </p:nvSpPr>
          <p:spPr>
            <a:xfrm>
              <a:off x="5839560" y="4226760"/>
              <a:ext cx="2678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6"/>
            <p:cNvSpPr/>
            <p:nvPr/>
          </p:nvSpPr>
          <p:spPr>
            <a:xfrm>
              <a:off x="6107760" y="3900600"/>
              <a:ext cx="14868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6107760" y="5145480"/>
              <a:ext cx="14760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4"/>
            <p:cNvSpPr/>
            <p:nvPr/>
          </p:nvSpPr>
          <p:spPr>
            <a:xfrm>
              <a:off x="5690880" y="4599720"/>
              <a:ext cx="14868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3"/>
            <p:cNvSpPr/>
            <p:nvPr/>
          </p:nvSpPr>
          <p:spPr>
            <a:xfrm>
              <a:off x="4817520" y="5629680"/>
              <a:ext cx="187200" cy="36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2"/>
            <p:cNvSpPr/>
            <p:nvPr/>
          </p:nvSpPr>
          <p:spPr>
            <a:xfrm>
              <a:off x="4735440" y="5246640"/>
              <a:ext cx="14868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1"/>
            <p:cNvSpPr/>
            <p:nvPr/>
          </p:nvSpPr>
          <p:spPr>
            <a:xfrm>
              <a:off x="4735440" y="4723560"/>
              <a:ext cx="268920" cy="42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4586400" y="4301280"/>
              <a:ext cx="24696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9"/>
            <p:cNvSpPr/>
            <p:nvPr/>
          </p:nvSpPr>
          <p:spPr>
            <a:xfrm>
              <a:off x="4586400" y="3720960"/>
              <a:ext cx="14904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8"/>
            <p:cNvSpPr/>
            <p:nvPr/>
          </p:nvSpPr>
          <p:spPr>
            <a:xfrm>
              <a:off x="4668480" y="3317040"/>
              <a:ext cx="1490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7"/>
            <p:cNvSpPr/>
            <p:nvPr/>
          </p:nvSpPr>
          <p:spPr>
            <a:xfrm>
              <a:off x="5960160" y="4819680"/>
              <a:ext cx="1476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4117680" y="4420080"/>
              <a:ext cx="14724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5638680" y="5711400"/>
              <a:ext cx="53064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4"/>
            <p:cNvSpPr/>
            <p:nvPr/>
          </p:nvSpPr>
          <p:spPr>
            <a:xfrm>
              <a:off x="3550680" y="4120560"/>
              <a:ext cx="1476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3"/>
            <p:cNvSpPr/>
            <p:nvPr/>
          </p:nvSpPr>
          <p:spPr>
            <a:xfrm>
              <a:off x="3321360" y="3900600"/>
              <a:ext cx="14724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32"/>
            <p:cNvSpPr/>
            <p:nvPr/>
          </p:nvSpPr>
          <p:spPr>
            <a:xfrm>
              <a:off x="3519720" y="4819680"/>
              <a:ext cx="14760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1"/>
            <p:cNvSpPr/>
            <p:nvPr/>
          </p:nvSpPr>
          <p:spPr>
            <a:xfrm>
              <a:off x="2655000" y="4105440"/>
              <a:ext cx="53064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30"/>
            <p:cNvSpPr/>
            <p:nvPr/>
          </p:nvSpPr>
          <p:spPr>
            <a:xfrm>
              <a:off x="6293520" y="4119480"/>
              <a:ext cx="52956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9"/>
            <p:cNvSpPr/>
            <p:nvPr/>
          </p:nvSpPr>
          <p:spPr>
            <a:xfrm>
              <a:off x="2997360" y="4530960"/>
              <a:ext cx="185760" cy="19260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28"/>
            <p:cNvSpPr/>
            <p:nvPr/>
          </p:nvSpPr>
          <p:spPr>
            <a:xfrm>
              <a:off x="3970080" y="3624840"/>
              <a:ext cx="183240" cy="1911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7"/>
            <p:cNvSpPr/>
            <p:nvPr/>
          </p:nvSpPr>
          <p:spPr>
            <a:xfrm>
              <a:off x="3970080" y="5518800"/>
              <a:ext cx="184680" cy="1922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6507360" y="4627440"/>
              <a:ext cx="182160" cy="192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5"/>
            <p:cNvSpPr/>
            <p:nvPr/>
          </p:nvSpPr>
          <p:spPr>
            <a:xfrm>
              <a:off x="5546880" y="5518800"/>
              <a:ext cx="182160" cy="192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091680" y="4737960"/>
              <a:ext cx="863640" cy="891720"/>
              <a:chOff x="3091680" y="4737960"/>
              <a:chExt cx="863640" cy="891720"/>
            </a:xfrm>
          </p:grpSpPr>
          <p:cxnSp>
            <p:nvCxnSpPr>
              <p:cNvPr id="296" name="AutoShape 24"/>
              <p:cNvCxnSpPr/>
              <p:nvPr/>
            </p:nvCxnSpPr>
            <p:spPr>
              <a:xfrm>
                <a:off x="3091680" y="4737960"/>
                <a:ext cx="864000" cy="892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297" name=""/>
              <p:cNvSpPr txBox="1"/>
              <p:nvPr/>
            </p:nvSpPr>
            <p:spPr>
              <a:xfrm>
                <a:off x="3091680" y="4737960"/>
                <a:ext cx="863280" cy="89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82760" y="4627080"/>
              <a:ext cx="866520" cy="891720"/>
              <a:chOff x="3182760" y="4627080"/>
              <a:chExt cx="866520" cy="891720"/>
            </a:xfrm>
          </p:grpSpPr>
          <p:cxnSp>
            <p:nvCxnSpPr>
              <p:cNvPr id="299" name="AutoShape 23"/>
              <p:cNvCxnSpPr/>
              <p:nvPr/>
            </p:nvCxnSpPr>
            <p:spPr>
              <a:xfrm flipH="1" flipV="1">
                <a:off x="3182760" y="4627080"/>
                <a:ext cx="866520" cy="89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0" name=""/>
              <p:cNvSpPr txBox="1"/>
              <p:nvPr/>
            </p:nvSpPr>
            <p:spPr>
              <a:xfrm rot="10800000">
                <a:off x="3183480" y="4627440"/>
                <a:ext cx="865800" cy="89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728680" y="3733920"/>
              <a:ext cx="866520" cy="893160"/>
              <a:chOff x="5728680" y="3733920"/>
              <a:chExt cx="866520" cy="893160"/>
            </a:xfrm>
          </p:grpSpPr>
          <p:cxnSp>
            <p:nvCxnSpPr>
              <p:cNvPr id="302" name="AutoShape 22"/>
              <p:cNvCxnSpPr/>
              <p:nvPr/>
            </p:nvCxnSpPr>
            <p:spPr>
              <a:xfrm flipH="1" flipV="1">
                <a:off x="5728680" y="3733920"/>
                <a:ext cx="866520" cy="89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3" name=""/>
              <p:cNvSpPr txBox="1"/>
              <p:nvPr/>
            </p:nvSpPr>
            <p:spPr>
              <a:xfrm rot="10800000">
                <a:off x="5729400" y="3734280"/>
                <a:ext cx="865800" cy="89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638680" y="3832560"/>
              <a:ext cx="868680" cy="890640"/>
              <a:chOff x="5638680" y="3832560"/>
              <a:chExt cx="868680" cy="890640"/>
            </a:xfrm>
          </p:grpSpPr>
          <p:cxnSp>
            <p:nvCxnSpPr>
              <p:cNvPr id="305" name="AutoShape 21"/>
              <p:cNvCxnSpPr/>
              <p:nvPr/>
            </p:nvCxnSpPr>
            <p:spPr>
              <a:xfrm>
                <a:off x="5638680" y="3832560"/>
                <a:ext cx="869040" cy="891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6" name=""/>
              <p:cNvSpPr txBox="1"/>
              <p:nvPr/>
            </p:nvSpPr>
            <p:spPr>
              <a:xfrm>
                <a:off x="5638680" y="3832560"/>
                <a:ext cx="868320" cy="89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178160" y="5572080"/>
              <a:ext cx="1368720" cy="1440"/>
              <a:chOff x="4178160" y="5572080"/>
              <a:chExt cx="1368720" cy="1440"/>
            </a:xfrm>
          </p:grpSpPr>
          <p:cxnSp>
            <p:nvCxnSpPr>
              <p:cNvPr id="308" name="AutoShape 20"/>
              <p:cNvCxnSpPr/>
              <p:nvPr/>
            </p:nvCxnSpPr>
            <p:spPr>
              <a:xfrm>
                <a:off x="4178160" y="5572080"/>
                <a:ext cx="13690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9" name=""/>
              <p:cNvSpPr txBox="1"/>
              <p:nvPr/>
            </p:nvSpPr>
            <p:spPr>
              <a:xfrm>
                <a:off x="4178160" y="5572080"/>
                <a:ext cx="1368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54400" y="3801600"/>
              <a:ext cx="1390680" cy="1440"/>
              <a:chOff x="4154400" y="3801600"/>
              <a:chExt cx="1390680" cy="1440"/>
            </a:xfrm>
          </p:grpSpPr>
          <p:cxnSp>
            <p:nvCxnSpPr>
              <p:cNvPr id="311" name="AutoShape 19"/>
              <p:cNvCxnSpPr/>
              <p:nvPr/>
            </p:nvCxnSpPr>
            <p:spPr>
              <a:xfrm flipH="1">
                <a:off x="4154400" y="3801600"/>
                <a:ext cx="13910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2" name=""/>
              <p:cNvSpPr txBox="1"/>
              <p:nvPr/>
            </p:nvSpPr>
            <p:spPr>
              <a:xfrm>
                <a:off x="4154400" y="3801600"/>
                <a:ext cx="13906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077280" y="3720600"/>
              <a:ext cx="878760" cy="795960"/>
              <a:chOff x="3077280" y="3720600"/>
              <a:chExt cx="878760" cy="795960"/>
            </a:xfrm>
          </p:grpSpPr>
          <p:cxnSp>
            <p:nvCxnSpPr>
              <p:cNvPr id="314" name="AutoShape 18"/>
              <p:cNvCxnSpPr/>
              <p:nvPr/>
            </p:nvCxnSpPr>
            <p:spPr>
              <a:xfrm flipV="1">
                <a:off x="3077640" y="3720600"/>
                <a:ext cx="878760" cy="796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315" name=""/>
              <p:cNvSpPr txBox="1"/>
              <p:nvPr/>
            </p:nvSpPr>
            <p:spPr>
              <a:xfrm rot="10800000">
                <a:off x="3077280" y="3720960"/>
                <a:ext cx="878040" cy="79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154400" y="3638880"/>
              <a:ext cx="1422000" cy="3600"/>
              <a:chOff x="4154400" y="3638880"/>
              <a:chExt cx="1422000" cy="3600"/>
            </a:xfrm>
          </p:grpSpPr>
          <p:cxnSp>
            <p:nvCxnSpPr>
              <p:cNvPr id="317" name="AutoShape 17"/>
              <p:cNvCxnSpPr/>
              <p:nvPr/>
            </p:nvCxnSpPr>
            <p:spPr>
              <a:xfrm>
                <a:off x="4154400" y="3638880"/>
                <a:ext cx="142236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8" name=""/>
              <p:cNvSpPr txBox="1"/>
              <p:nvPr/>
            </p:nvSpPr>
            <p:spPr>
              <a:xfrm>
                <a:off x="4154400" y="3638880"/>
                <a:ext cx="14216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Oval 16"/>
            <p:cNvSpPr/>
            <p:nvPr/>
          </p:nvSpPr>
          <p:spPr>
            <a:xfrm>
              <a:off x="5546880" y="3636720"/>
              <a:ext cx="182160" cy="186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85640" y="3801960"/>
              <a:ext cx="863640" cy="798120"/>
              <a:chOff x="3185640" y="3801960"/>
              <a:chExt cx="863640" cy="798120"/>
            </a:xfrm>
          </p:grpSpPr>
          <p:cxnSp>
            <p:nvCxnSpPr>
              <p:cNvPr id="321" name="AutoShape 15"/>
              <p:cNvCxnSpPr/>
              <p:nvPr/>
            </p:nvCxnSpPr>
            <p:spPr>
              <a:xfrm flipH="1">
                <a:off x="3185640" y="3801960"/>
                <a:ext cx="864000" cy="798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2" name=""/>
              <p:cNvSpPr txBox="1"/>
              <p:nvPr/>
            </p:nvSpPr>
            <p:spPr>
              <a:xfrm>
                <a:off x="3186000" y="3801960"/>
                <a:ext cx="863280" cy="79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5638680" y="4745880"/>
              <a:ext cx="867240" cy="758520"/>
              <a:chOff x="5638680" y="4745880"/>
              <a:chExt cx="867240" cy="758520"/>
            </a:xfrm>
          </p:grpSpPr>
          <p:cxnSp>
            <p:nvCxnSpPr>
              <p:cNvPr id="324" name="AutoShape 14"/>
              <p:cNvCxnSpPr/>
              <p:nvPr/>
            </p:nvCxnSpPr>
            <p:spPr>
              <a:xfrm flipV="1">
                <a:off x="5638680" y="4745880"/>
                <a:ext cx="867600" cy="75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5" name=""/>
              <p:cNvSpPr txBox="1"/>
              <p:nvPr/>
            </p:nvSpPr>
            <p:spPr>
              <a:xfrm rot="10800000">
                <a:off x="5638680" y="4746240"/>
                <a:ext cx="866880" cy="75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727240" y="4833720"/>
              <a:ext cx="871200" cy="786240"/>
              <a:chOff x="5727240" y="4833720"/>
              <a:chExt cx="871200" cy="786240"/>
            </a:xfrm>
          </p:grpSpPr>
          <p:cxnSp>
            <p:nvCxnSpPr>
              <p:cNvPr id="327" name="AutoShape 13"/>
              <p:cNvCxnSpPr/>
              <p:nvPr/>
            </p:nvCxnSpPr>
            <p:spPr>
              <a:xfrm flipH="1">
                <a:off x="5727240" y="4833720"/>
                <a:ext cx="871560" cy="786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8" name=""/>
              <p:cNvSpPr txBox="1"/>
              <p:nvPr/>
            </p:nvSpPr>
            <p:spPr>
              <a:xfrm>
                <a:off x="5727600" y="4833720"/>
                <a:ext cx="870840" cy="78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117320" y="5710320"/>
              <a:ext cx="1392120" cy="1080"/>
              <a:chOff x="4117320" y="5710320"/>
              <a:chExt cx="1392120" cy="1080"/>
            </a:xfrm>
          </p:grpSpPr>
          <p:cxnSp>
            <p:nvCxnSpPr>
              <p:cNvPr id="330" name="AutoShape 12"/>
              <p:cNvCxnSpPr/>
              <p:nvPr/>
            </p:nvCxnSpPr>
            <p:spPr>
              <a:xfrm flipH="1">
                <a:off x="4117320" y="5710320"/>
                <a:ext cx="139248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1" name=""/>
              <p:cNvSpPr txBox="1"/>
              <p:nvPr/>
            </p:nvSpPr>
            <p:spPr>
              <a:xfrm>
                <a:off x="4117680" y="5710320"/>
                <a:ext cx="13917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33800" y="3801960"/>
              <a:ext cx="1511280" cy="1695960"/>
              <a:chOff x="4033800" y="3801960"/>
              <a:chExt cx="1511280" cy="1695960"/>
            </a:xfrm>
          </p:grpSpPr>
          <p:cxnSp>
            <p:nvCxnSpPr>
              <p:cNvPr id="333" name="AutoShape 11"/>
              <p:cNvCxnSpPr/>
              <p:nvPr/>
            </p:nvCxnSpPr>
            <p:spPr>
              <a:xfrm flipH="1">
                <a:off x="4033800" y="3801960"/>
                <a:ext cx="1511640" cy="1696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4" name=""/>
              <p:cNvSpPr txBox="1"/>
              <p:nvPr/>
            </p:nvSpPr>
            <p:spPr>
              <a:xfrm>
                <a:off x="4034160" y="3801960"/>
                <a:ext cx="1510920" cy="169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53320" y="3832200"/>
              <a:ext cx="1537560" cy="1717200"/>
              <a:chOff x="4153320" y="3832200"/>
              <a:chExt cx="1537560" cy="1717200"/>
            </a:xfrm>
          </p:grpSpPr>
          <p:cxnSp>
            <p:nvCxnSpPr>
              <p:cNvPr id="336" name="AutoShape 10"/>
              <p:cNvCxnSpPr/>
              <p:nvPr/>
            </p:nvCxnSpPr>
            <p:spPr>
              <a:xfrm flipV="1">
                <a:off x="4153320" y="3832200"/>
                <a:ext cx="1537920" cy="1717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7" name=""/>
              <p:cNvSpPr txBox="1"/>
              <p:nvPr/>
            </p:nvSpPr>
            <p:spPr>
              <a:xfrm rot="10800000">
                <a:off x="4153320" y="3832200"/>
                <a:ext cx="1537200" cy="171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126320" y="3800520"/>
              <a:ext cx="3600" cy="1707480"/>
              <a:chOff x="4126320" y="3800520"/>
              <a:chExt cx="3600" cy="1707480"/>
            </a:xfrm>
          </p:grpSpPr>
          <p:cxnSp>
            <p:nvCxnSpPr>
              <p:cNvPr id="339" name="AutoShape 9"/>
              <p:cNvCxnSpPr/>
              <p:nvPr/>
            </p:nvCxnSpPr>
            <p:spPr>
              <a:xfrm flipH="1" flipV="1">
                <a:off x="4126320" y="3800520"/>
                <a:ext cx="3960" cy="170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40" name=""/>
              <p:cNvSpPr txBox="1"/>
              <p:nvPr/>
            </p:nvSpPr>
            <p:spPr>
              <a:xfrm rot="10800000">
                <a:off x="4126320" y="3800880"/>
                <a:ext cx="3600" cy="170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27240" y="3832560"/>
              <a:ext cx="1440" cy="1700280"/>
              <a:chOff x="5727240" y="3832560"/>
              <a:chExt cx="1440" cy="1700280"/>
            </a:xfrm>
          </p:grpSpPr>
          <p:cxnSp>
            <p:nvCxnSpPr>
              <p:cNvPr id="342" name="AutoShape 8"/>
              <p:cNvCxnSpPr/>
              <p:nvPr/>
            </p:nvCxnSpPr>
            <p:spPr>
              <a:xfrm flipH="1" flipV="1">
                <a:off x="5727240" y="3832560"/>
                <a:ext cx="1800" cy="170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43" name=""/>
              <p:cNvSpPr txBox="1"/>
              <p:nvPr/>
            </p:nvSpPr>
            <p:spPr>
              <a:xfrm rot="10800000">
                <a:off x="5727240" y="3832920"/>
                <a:ext cx="1080" cy="169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3997080" y="3800880"/>
              <a:ext cx="1440" cy="1732680"/>
              <a:chOff x="3997080" y="3800880"/>
              <a:chExt cx="1440" cy="1732680"/>
            </a:xfrm>
          </p:grpSpPr>
          <p:cxnSp>
            <p:nvCxnSpPr>
              <p:cNvPr id="345" name="AutoShape 7"/>
              <p:cNvCxnSpPr/>
              <p:nvPr/>
            </p:nvCxnSpPr>
            <p:spPr>
              <a:xfrm>
                <a:off x="3997080" y="3800880"/>
                <a:ext cx="1800" cy="173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46" name=""/>
              <p:cNvSpPr txBox="1"/>
              <p:nvPr/>
            </p:nvSpPr>
            <p:spPr>
              <a:xfrm>
                <a:off x="3997080" y="3800880"/>
                <a:ext cx="1080" cy="173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73880" y="3808800"/>
              <a:ext cx="1440" cy="1763280"/>
              <a:chOff x="5573880" y="3808800"/>
              <a:chExt cx="1440" cy="1763280"/>
            </a:xfrm>
          </p:grpSpPr>
          <p:cxnSp>
            <p:nvCxnSpPr>
              <p:cNvPr id="348" name="AutoShape 6"/>
              <p:cNvCxnSpPr/>
              <p:nvPr/>
            </p:nvCxnSpPr>
            <p:spPr>
              <a:xfrm>
                <a:off x="5573880" y="3808800"/>
                <a:ext cx="1800" cy="176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49" name=""/>
              <p:cNvSpPr txBox="1"/>
              <p:nvPr/>
            </p:nvSpPr>
            <p:spPr>
              <a:xfrm>
                <a:off x="5573880" y="3808800"/>
                <a:ext cx="1080" cy="176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Text Box 5"/>
            <p:cNvSpPr/>
            <p:nvPr/>
          </p:nvSpPr>
          <p:spPr>
            <a:xfrm>
              <a:off x="3468600" y="3213720"/>
              <a:ext cx="52956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"/>
            <p:cNvSpPr/>
            <p:nvPr/>
          </p:nvSpPr>
          <p:spPr>
            <a:xfrm>
              <a:off x="3244320" y="4995720"/>
              <a:ext cx="77040" cy="38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"/>
            <p:cNvSpPr/>
            <p:nvPr/>
          </p:nvSpPr>
          <p:spPr>
            <a:xfrm>
              <a:off x="3806280" y="4420080"/>
              <a:ext cx="14868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2"/>
            <p:cNvSpPr/>
            <p:nvPr/>
          </p:nvSpPr>
          <p:spPr>
            <a:xfrm>
              <a:off x="5360760" y="4420080"/>
              <a:ext cx="148680" cy="3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2232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. Итерация 1. Шаг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0" y="533520"/>
            <a:ext cx="91393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атриваем все ранее не посещённые вершины. В данном случае это все вершины графа, кром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 них выбираем в качестве кандидата на включение во множест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 в связующее МОД вершин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имеющую минимальную метку-оценку из всех оставшихся вершин. Действительн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=1 меньше, чем текущие значения меток у всех остальных не посещённых вершин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уем («замораживаем») оц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)=1 как окончательную, это и есть длина кратчайшего пути к вершин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вершины-источника. На слайде  эта метка выделена жирным шрифтом с подчерки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верши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ечается как посещённая, включается во множест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 связующее дере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также выбирается в качестве текущей рассматриваемой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выполнения следующей ит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га, ведущая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акже включается в МОД . Первая итерация законч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"/>
          <p:cNvGrpSpPr/>
          <p:nvPr/>
        </p:nvGrpSpPr>
        <p:grpSpPr>
          <a:xfrm>
            <a:off x="2209680" y="3465360"/>
            <a:ext cx="4648320" cy="3899160"/>
            <a:chOff x="2209680" y="3465360"/>
            <a:chExt cx="4648320" cy="3899160"/>
          </a:xfrm>
        </p:grpSpPr>
        <p:sp>
          <p:nvSpPr>
            <p:cNvPr id="358" name="AutoShape 56"/>
            <p:cNvSpPr/>
            <p:nvPr/>
          </p:nvSpPr>
          <p:spPr>
            <a:xfrm>
              <a:off x="2209680" y="3465360"/>
              <a:ext cx="4648320" cy="38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55"/>
            <p:cNvSpPr/>
            <p:nvPr/>
          </p:nvSpPr>
          <p:spPr>
            <a:xfrm>
              <a:off x="4987800" y="4020120"/>
              <a:ext cx="40644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3132360" y="6450840"/>
              <a:ext cx="5652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3"/>
            <p:cNvSpPr/>
            <p:nvPr/>
          </p:nvSpPr>
          <p:spPr>
            <a:xfrm>
              <a:off x="3638520" y="4033080"/>
              <a:ext cx="4060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52"/>
            <p:cNvSpPr/>
            <p:nvPr/>
          </p:nvSpPr>
          <p:spPr>
            <a:xfrm>
              <a:off x="5394240" y="3922560"/>
              <a:ext cx="566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1"/>
            <p:cNvSpPr/>
            <p:nvPr/>
          </p:nvSpPr>
          <p:spPr>
            <a:xfrm>
              <a:off x="6321600" y="5451120"/>
              <a:ext cx="40608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0"/>
            <p:cNvSpPr/>
            <p:nvPr/>
          </p:nvSpPr>
          <p:spPr>
            <a:xfrm>
              <a:off x="4987800" y="6450840"/>
              <a:ext cx="406440" cy="41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3613320" y="6449760"/>
              <a:ext cx="406440" cy="41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48"/>
            <p:cNvSpPr/>
            <p:nvPr/>
          </p:nvSpPr>
          <p:spPr>
            <a:xfrm>
              <a:off x="2209680" y="5293080"/>
              <a:ext cx="365400" cy="433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7"/>
            <p:cNvSpPr/>
            <p:nvPr/>
          </p:nvSpPr>
          <p:spPr>
            <a:xfrm>
              <a:off x="5608800" y="4947840"/>
              <a:ext cx="28620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6"/>
            <p:cNvSpPr/>
            <p:nvPr/>
          </p:nvSpPr>
          <p:spPr>
            <a:xfrm>
              <a:off x="5895000" y="4618080"/>
              <a:ext cx="15876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5"/>
            <p:cNvSpPr/>
            <p:nvPr/>
          </p:nvSpPr>
          <p:spPr>
            <a:xfrm>
              <a:off x="5895000" y="5878080"/>
              <a:ext cx="1573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44"/>
            <p:cNvSpPr/>
            <p:nvPr/>
          </p:nvSpPr>
          <p:spPr>
            <a:xfrm>
              <a:off x="5450040" y="5325840"/>
              <a:ext cx="15876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43"/>
            <p:cNvSpPr/>
            <p:nvPr/>
          </p:nvSpPr>
          <p:spPr>
            <a:xfrm>
              <a:off x="4517640" y="6368040"/>
              <a:ext cx="199800" cy="37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42"/>
            <p:cNvSpPr/>
            <p:nvPr/>
          </p:nvSpPr>
          <p:spPr>
            <a:xfrm>
              <a:off x="4430520" y="5980320"/>
              <a:ext cx="15876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41"/>
            <p:cNvSpPr/>
            <p:nvPr/>
          </p:nvSpPr>
          <p:spPr>
            <a:xfrm>
              <a:off x="4430520" y="5451120"/>
              <a:ext cx="28728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0"/>
            <p:cNvSpPr/>
            <p:nvPr/>
          </p:nvSpPr>
          <p:spPr>
            <a:xfrm>
              <a:off x="4271040" y="5023440"/>
              <a:ext cx="2635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39"/>
            <p:cNvSpPr/>
            <p:nvPr/>
          </p:nvSpPr>
          <p:spPr>
            <a:xfrm>
              <a:off x="4271040" y="4436280"/>
              <a:ext cx="1591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4358520" y="4026960"/>
              <a:ext cx="15912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37"/>
            <p:cNvSpPr/>
            <p:nvPr/>
          </p:nvSpPr>
          <p:spPr>
            <a:xfrm>
              <a:off x="5737320" y="5548320"/>
              <a:ext cx="15732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6"/>
            <p:cNvSpPr/>
            <p:nvPr/>
          </p:nvSpPr>
          <p:spPr>
            <a:xfrm>
              <a:off x="3771000" y="5144040"/>
              <a:ext cx="1573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35"/>
            <p:cNvSpPr/>
            <p:nvPr/>
          </p:nvSpPr>
          <p:spPr>
            <a:xfrm>
              <a:off x="5394240" y="6450840"/>
              <a:ext cx="56664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4"/>
            <p:cNvSpPr/>
            <p:nvPr/>
          </p:nvSpPr>
          <p:spPr>
            <a:xfrm>
              <a:off x="3165480" y="4840560"/>
              <a:ext cx="15732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3"/>
            <p:cNvSpPr/>
            <p:nvPr/>
          </p:nvSpPr>
          <p:spPr>
            <a:xfrm>
              <a:off x="2920680" y="4618080"/>
              <a:ext cx="1573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32"/>
            <p:cNvSpPr/>
            <p:nvPr/>
          </p:nvSpPr>
          <p:spPr>
            <a:xfrm>
              <a:off x="3132360" y="5548320"/>
              <a:ext cx="157320" cy="3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2209680" y="4825080"/>
              <a:ext cx="56664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30"/>
            <p:cNvSpPr/>
            <p:nvPr/>
          </p:nvSpPr>
          <p:spPr>
            <a:xfrm>
              <a:off x="6093720" y="4839480"/>
              <a:ext cx="5652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9"/>
            <p:cNvSpPr/>
            <p:nvPr/>
          </p:nvSpPr>
          <p:spPr>
            <a:xfrm>
              <a:off x="2575080" y="5256000"/>
              <a:ext cx="198360" cy="1951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8"/>
            <p:cNvSpPr/>
            <p:nvPr/>
          </p:nvSpPr>
          <p:spPr>
            <a:xfrm>
              <a:off x="3613320" y="4338720"/>
              <a:ext cx="195480" cy="193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7"/>
            <p:cNvSpPr/>
            <p:nvPr/>
          </p:nvSpPr>
          <p:spPr>
            <a:xfrm>
              <a:off x="3613320" y="6256080"/>
              <a:ext cx="197280" cy="1947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6"/>
            <p:cNvSpPr/>
            <p:nvPr/>
          </p:nvSpPr>
          <p:spPr>
            <a:xfrm>
              <a:off x="6321600" y="5353560"/>
              <a:ext cx="194400" cy="194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5296680" y="6256080"/>
              <a:ext cx="194400" cy="194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675520" y="5465520"/>
              <a:ext cx="921960" cy="900360"/>
              <a:chOff x="2675520" y="5465520"/>
              <a:chExt cx="921960" cy="900360"/>
            </a:xfrm>
          </p:grpSpPr>
          <p:cxnSp>
            <p:nvCxnSpPr>
              <p:cNvPr id="391" name="AutoShape 24"/>
              <p:cNvCxnSpPr/>
              <p:nvPr/>
            </p:nvCxnSpPr>
            <p:spPr>
              <a:xfrm>
                <a:off x="2675520" y="5465520"/>
                <a:ext cx="922320" cy="9007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392" name=""/>
              <p:cNvSpPr txBox="1"/>
              <p:nvPr/>
            </p:nvSpPr>
            <p:spPr>
              <a:xfrm>
                <a:off x="2675520" y="5465520"/>
                <a:ext cx="921600" cy="9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772720" y="5352840"/>
              <a:ext cx="924480" cy="902880"/>
              <a:chOff x="2772720" y="5352840"/>
              <a:chExt cx="924480" cy="902880"/>
            </a:xfrm>
          </p:grpSpPr>
          <p:cxnSp>
            <p:nvCxnSpPr>
              <p:cNvPr id="394" name="AutoShape 23"/>
              <p:cNvCxnSpPr/>
              <p:nvPr/>
            </p:nvCxnSpPr>
            <p:spPr>
              <a:xfrm flipH="1" flipV="1">
                <a:off x="2772720" y="5352840"/>
                <a:ext cx="924840" cy="903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95" name=""/>
              <p:cNvSpPr txBox="1"/>
              <p:nvPr/>
            </p:nvSpPr>
            <p:spPr>
              <a:xfrm rot="10800000">
                <a:off x="2772720" y="5352840"/>
                <a:ext cx="924120" cy="90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5490360" y="4449240"/>
              <a:ext cx="924480" cy="903960"/>
              <a:chOff x="5490360" y="4449240"/>
              <a:chExt cx="924480" cy="903960"/>
            </a:xfrm>
          </p:grpSpPr>
          <p:cxnSp>
            <p:nvCxnSpPr>
              <p:cNvPr id="397" name="AutoShape 22"/>
              <p:cNvCxnSpPr/>
              <p:nvPr/>
            </p:nvCxnSpPr>
            <p:spPr>
              <a:xfrm flipH="1" flipV="1">
                <a:off x="5490360" y="4449240"/>
                <a:ext cx="924840" cy="90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98" name=""/>
              <p:cNvSpPr txBox="1"/>
              <p:nvPr/>
            </p:nvSpPr>
            <p:spPr>
              <a:xfrm rot="10800000">
                <a:off x="5490360" y="4449600"/>
                <a:ext cx="924120" cy="90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393880" y="4549680"/>
              <a:ext cx="927360" cy="901800"/>
              <a:chOff x="5393880" y="4549680"/>
              <a:chExt cx="927360" cy="901800"/>
            </a:xfrm>
          </p:grpSpPr>
          <p:cxnSp>
            <p:nvCxnSpPr>
              <p:cNvPr id="400" name="AutoShape 21"/>
              <p:cNvCxnSpPr/>
              <p:nvPr/>
            </p:nvCxnSpPr>
            <p:spPr>
              <a:xfrm>
                <a:off x="5393880" y="4549680"/>
                <a:ext cx="927720" cy="90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1" name=""/>
              <p:cNvSpPr txBox="1"/>
              <p:nvPr/>
            </p:nvSpPr>
            <p:spPr>
              <a:xfrm>
                <a:off x="5393880" y="4549680"/>
                <a:ext cx="927000" cy="90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835440" y="6309720"/>
              <a:ext cx="1460880" cy="1440"/>
              <a:chOff x="3835440" y="6309720"/>
              <a:chExt cx="1460880" cy="1440"/>
            </a:xfrm>
          </p:grpSpPr>
          <p:cxnSp>
            <p:nvCxnSpPr>
              <p:cNvPr id="403" name="AutoShape 20"/>
              <p:cNvCxnSpPr/>
              <p:nvPr/>
            </p:nvCxnSpPr>
            <p:spPr>
              <a:xfrm>
                <a:off x="3835440" y="6309720"/>
                <a:ext cx="14612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4" name=""/>
              <p:cNvSpPr txBox="1"/>
              <p:nvPr/>
            </p:nvSpPr>
            <p:spPr>
              <a:xfrm>
                <a:off x="3835440" y="6309720"/>
                <a:ext cx="1460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809880" y="4517640"/>
              <a:ext cx="1484640" cy="1440"/>
              <a:chOff x="3809880" y="4517640"/>
              <a:chExt cx="1484640" cy="1440"/>
            </a:xfrm>
          </p:grpSpPr>
          <p:cxnSp>
            <p:nvCxnSpPr>
              <p:cNvPr id="406" name="AutoShape 19"/>
              <p:cNvCxnSpPr/>
              <p:nvPr/>
            </p:nvCxnSpPr>
            <p:spPr>
              <a:xfrm flipH="1">
                <a:off x="3809880" y="4517640"/>
                <a:ext cx="14850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7" name=""/>
              <p:cNvSpPr txBox="1"/>
              <p:nvPr/>
            </p:nvSpPr>
            <p:spPr>
              <a:xfrm>
                <a:off x="3810240" y="4517640"/>
                <a:ext cx="1484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660760" y="4435560"/>
              <a:ext cx="937800" cy="804240"/>
              <a:chOff x="2660760" y="4435560"/>
              <a:chExt cx="937800" cy="804240"/>
            </a:xfrm>
          </p:grpSpPr>
          <p:cxnSp>
            <p:nvCxnSpPr>
              <p:cNvPr id="409" name="AutoShape 18"/>
              <p:cNvCxnSpPr/>
              <p:nvPr/>
            </p:nvCxnSpPr>
            <p:spPr>
              <a:xfrm flipV="1">
                <a:off x="2660760" y="4435560"/>
                <a:ext cx="938160" cy="804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10" name=""/>
              <p:cNvSpPr txBox="1"/>
              <p:nvPr/>
            </p:nvSpPr>
            <p:spPr>
              <a:xfrm rot="10800000">
                <a:off x="2660760" y="4435560"/>
                <a:ext cx="937440" cy="80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810240" y="4352760"/>
              <a:ext cx="1517760" cy="3600"/>
              <a:chOff x="3810240" y="4352760"/>
              <a:chExt cx="1517760" cy="3600"/>
            </a:xfrm>
          </p:grpSpPr>
          <p:cxnSp>
            <p:nvCxnSpPr>
              <p:cNvPr id="412" name="AutoShape 17"/>
              <p:cNvCxnSpPr/>
              <p:nvPr/>
            </p:nvCxnSpPr>
            <p:spPr>
              <a:xfrm>
                <a:off x="3810240" y="4352760"/>
                <a:ext cx="151812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13" name=""/>
              <p:cNvSpPr txBox="1"/>
              <p:nvPr/>
            </p:nvSpPr>
            <p:spPr>
              <a:xfrm>
                <a:off x="3810240" y="4352760"/>
                <a:ext cx="151740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Oval 16"/>
            <p:cNvSpPr/>
            <p:nvPr/>
          </p:nvSpPr>
          <p:spPr>
            <a:xfrm>
              <a:off x="5296680" y="4350960"/>
              <a:ext cx="194400" cy="189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2775960" y="4517640"/>
              <a:ext cx="921960" cy="807840"/>
              <a:chOff x="2775960" y="4517640"/>
              <a:chExt cx="921960" cy="807840"/>
            </a:xfrm>
          </p:grpSpPr>
          <p:cxnSp>
            <p:nvCxnSpPr>
              <p:cNvPr id="416" name="AutoShape 15"/>
              <p:cNvCxnSpPr/>
              <p:nvPr/>
            </p:nvCxnSpPr>
            <p:spPr>
              <a:xfrm flipH="1">
                <a:off x="2775960" y="4517640"/>
                <a:ext cx="922320" cy="80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17" name=""/>
              <p:cNvSpPr txBox="1"/>
              <p:nvPr/>
            </p:nvSpPr>
            <p:spPr>
              <a:xfrm>
                <a:off x="2776320" y="4517640"/>
                <a:ext cx="921600" cy="80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393520" y="5473440"/>
              <a:ext cx="926280" cy="767880"/>
              <a:chOff x="5393520" y="5473440"/>
              <a:chExt cx="926280" cy="767880"/>
            </a:xfrm>
          </p:grpSpPr>
          <p:cxnSp>
            <p:nvCxnSpPr>
              <p:cNvPr id="419" name="AutoShape 14"/>
              <p:cNvCxnSpPr/>
              <p:nvPr/>
            </p:nvCxnSpPr>
            <p:spPr>
              <a:xfrm flipV="1">
                <a:off x="5393880" y="5473440"/>
                <a:ext cx="926280" cy="76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0" name=""/>
              <p:cNvSpPr txBox="1"/>
              <p:nvPr/>
            </p:nvSpPr>
            <p:spPr>
              <a:xfrm rot="10800000">
                <a:off x="5393520" y="5473800"/>
                <a:ext cx="925560" cy="76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89280" y="5561280"/>
              <a:ext cx="929880" cy="795600"/>
              <a:chOff x="5489280" y="5561280"/>
              <a:chExt cx="929880" cy="795600"/>
            </a:xfrm>
          </p:grpSpPr>
          <p:cxnSp>
            <p:nvCxnSpPr>
              <p:cNvPr id="422" name="AutoShape 13"/>
              <p:cNvCxnSpPr/>
              <p:nvPr/>
            </p:nvCxnSpPr>
            <p:spPr>
              <a:xfrm flipH="1">
                <a:off x="5489280" y="5561280"/>
                <a:ext cx="930240" cy="795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3" name=""/>
              <p:cNvSpPr txBox="1"/>
              <p:nvPr/>
            </p:nvSpPr>
            <p:spPr>
              <a:xfrm>
                <a:off x="5489640" y="5561280"/>
                <a:ext cx="929520" cy="795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3770640" y="6449400"/>
              <a:ext cx="1485720" cy="1440"/>
              <a:chOff x="3770640" y="6449400"/>
              <a:chExt cx="1485720" cy="1440"/>
            </a:xfrm>
          </p:grpSpPr>
          <p:cxnSp>
            <p:nvCxnSpPr>
              <p:cNvPr id="425" name="AutoShape 12"/>
              <p:cNvCxnSpPr/>
              <p:nvPr/>
            </p:nvCxnSpPr>
            <p:spPr>
              <a:xfrm flipH="1">
                <a:off x="3770640" y="6449400"/>
                <a:ext cx="14860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6" name=""/>
              <p:cNvSpPr txBox="1"/>
              <p:nvPr/>
            </p:nvSpPr>
            <p:spPr>
              <a:xfrm>
                <a:off x="3771000" y="6449400"/>
                <a:ext cx="1485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681720" y="4517640"/>
              <a:ext cx="1613160" cy="1716480"/>
              <a:chOff x="3681720" y="4517640"/>
              <a:chExt cx="1613160" cy="1716480"/>
            </a:xfrm>
          </p:grpSpPr>
          <p:cxnSp>
            <p:nvCxnSpPr>
              <p:cNvPr id="428" name="AutoShape 11"/>
              <p:cNvCxnSpPr/>
              <p:nvPr/>
            </p:nvCxnSpPr>
            <p:spPr>
              <a:xfrm flipH="1">
                <a:off x="3681720" y="4517640"/>
                <a:ext cx="1613520" cy="1716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"/>
              <p:cNvSpPr txBox="1"/>
              <p:nvPr/>
            </p:nvSpPr>
            <p:spPr>
              <a:xfrm>
                <a:off x="3682080" y="4517640"/>
                <a:ext cx="1612800" cy="17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3809160" y="4548960"/>
              <a:ext cx="1641240" cy="1738080"/>
              <a:chOff x="3809160" y="4548960"/>
              <a:chExt cx="1641240" cy="1738080"/>
            </a:xfrm>
          </p:grpSpPr>
          <p:cxnSp>
            <p:nvCxnSpPr>
              <p:cNvPr id="431" name="AutoShape 10"/>
              <p:cNvCxnSpPr/>
              <p:nvPr/>
            </p:nvCxnSpPr>
            <p:spPr>
              <a:xfrm flipV="1">
                <a:off x="3809160" y="4548960"/>
                <a:ext cx="1641600" cy="17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2" name=""/>
              <p:cNvSpPr txBox="1"/>
              <p:nvPr/>
            </p:nvSpPr>
            <p:spPr>
              <a:xfrm rot="10800000">
                <a:off x="3809160" y="4548960"/>
                <a:ext cx="1640880" cy="173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779280" y="4517640"/>
              <a:ext cx="4320" cy="1724760"/>
              <a:chOff x="3779280" y="4517640"/>
              <a:chExt cx="4320" cy="1724760"/>
            </a:xfrm>
          </p:grpSpPr>
          <p:cxnSp>
            <p:nvCxnSpPr>
              <p:cNvPr id="434" name="AutoShape 9"/>
              <p:cNvCxnSpPr/>
              <p:nvPr/>
            </p:nvCxnSpPr>
            <p:spPr>
              <a:xfrm flipH="1" flipV="1">
                <a:off x="3779280" y="4517640"/>
                <a:ext cx="4680" cy="1725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5" name=""/>
              <p:cNvSpPr txBox="1"/>
              <p:nvPr/>
            </p:nvSpPr>
            <p:spPr>
              <a:xfrm rot="10800000">
                <a:off x="3779280" y="4518000"/>
                <a:ext cx="3960" cy="172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5489280" y="4549320"/>
              <a:ext cx="1800" cy="1721160"/>
              <a:chOff x="5489280" y="4549320"/>
              <a:chExt cx="1800" cy="1721160"/>
            </a:xfrm>
          </p:grpSpPr>
          <p:cxnSp>
            <p:nvCxnSpPr>
              <p:cNvPr id="437" name="AutoShape 8"/>
              <p:cNvCxnSpPr/>
              <p:nvPr/>
            </p:nvCxnSpPr>
            <p:spPr>
              <a:xfrm flipH="1" flipV="1">
                <a:off x="5489280" y="4549320"/>
                <a:ext cx="2160" cy="1721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8" name=""/>
              <p:cNvSpPr txBox="1"/>
              <p:nvPr/>
            </p:nvSpPr>
            <p:spPr>
              <a:xfrm rot="10800000">
                <a:off x="5489640" y="4549680"/>
                <a:ext cx="1440" cy="172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3642120" y="4517640"/>
              <a:ext cx="1440" cy="1752480"/>
              <a:chOff x="3642120" y="4517640"/>
              <a:chExt cx="1440" cy="1752480"/>
            </a:xfrm>
          </p:grpSpPr>
          <p:cxnSp>
            <p:nvCxnSpPr>
              <p:cNvPr id="440" name="AutoShape 7"/>
              <p:cNvCxnSpPr/>
              <p:nvPr/>
            </p:nvCxnSpPr>
            <p:spPr>
              <a:xfrm>
                <a:off x="3642120" y="4517640"/>
                <a:ext cx="1800" cy="175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1" name=""/>
              <p:cNvSpPr txBox="1"/>
              <p:nvPr/>
            </p:nvSpPr>
            <p:spPr>
              <a:xfrm>
                <a:off x="3642120" y="4517640"/>
                <a:ext cx="1080" cy="175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325120" y="4525200"/>
              <a:ext cx="1440" cy="1788480"/>
              <a:chOff x="5325120" y="4525200"/>
              <a:chExt cx="1440" cy="1788480"/>
            </a:xfrm>
          </p:grpSpPr>
          <p:cxnSp>
            <p:nvCxnSpPr>
              <p:cNvPr id="443" name="AutoShape 6"/>
              <p:cNvCxnSpPr/>
              <p:nvPr/>
            </p:nvCxnSpPr>
            <p:spPr>
              <a:xfrm>
                <a:off x="5325120" y="4525200"/>
                <a:ext cx="1800" cy="1788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4" name=""/>
              <p:cNvSpPr txBox="1"/>
              <p:nvPr/>
            </p:nvSpPr>
            <p:spPr>
              <a:xfrm>
                <a:off x="5325120" y="4525200"/>
                <a:ext cx="1080" cy="178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Text Box 5"/>
            <p:cNvSpPr/>
            <p:nvPr/>
          </p:nvSpPr>
          <p:spPr>
            <a:xfrm>
              <a:off x="3078000" y="3922560"/>
              <a:ext cx="56520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"/>
            <p:cNvSpPr/>
            <p:nvPr/>
          </p:nvSpPr>
          <p:spPr>
            <a:xfrm>
              <a:off x="2838240" y="5726520"/>
              <a:ext cx="82080" cy="39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3"/>
            <p:cNvSpPr/>
            <p:nvPr/>
          </p:nvSpPr>
          <p:spPr>
            <a:xfrm>
              <a:off x="3438360" y="5144040"/>
              <a:ext cx="15876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"/>
            <p:cNvSpPr/>
            <p:nvPr/>
          </p:nvSpPr>
          <p:spPr>
            <a:xfrm>
              <a:off x="5097600" y="5144040"/>
              <a:ext cx="15876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9600" y="1141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. Итерация 2. Шаг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14400" y="762120"/>
            <a:ext cx="91296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атриваем вершины, смежные с текущей верш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ачестве которой выступает верши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Они выделены на слайде жёлтым цветом. Дуги, ведущие к данным вершинам и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мечены пункти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ся пересмотр оценок кратчайших путей к этим вершинам. Длина кратчайшего пути к вершин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(3)=1. Отсюда получаем следующие значения оценок для смежных с ней верш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=2 (не меняется, т.к. С(2)=2 &lt; С(3)+с(3,2)=1+2=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)=С(3) + с(3,4)=1+7=8 &lt; ∞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)=С(3) + с(3,5)=1+6=7 &lt; ∞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3678120" y="2798640"/>
            <a:ext cx="4569120" cy="3953160"/>
            <a:chOff x="3678120" y="2798640"/>
            <a:chExt cx="4569120" cy="3953160"/>
          </a:xfrm>
        </p:grpSpPr>
        <p:sp>
          <p:nvSpPr>
            <p:cNvPr id="454" name="AutoShape 56"/>
            <p:cNvSpPr/>
            <p:nvPr/>
          </p:nvSpPr>
          <p:spPr>
            <a:xfrm>
              <a:off x="3678120" y="2798640"/>
              <a:ext cx="4569120" cy="39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55"/>
            <p:cNvSpPr/>
            <p:nvPr/>
          </p:nvSpPr>
          <p:spPr>
            <a:xfrm>
              <a:off x="4584960" y="5878080"/>
              <a:ext cx="55584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54"/>
            <p:cNvSpPr/>
            <p:nvPr/>
          </p:nvSpPr>
          <p:spPr>
            <a:xfrm>
              <a:off x="6408720" y="3249000"/>
              <a:ext cx="399600" cy="45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53"/>
            <p:cNvSpPr/>
            <p:nvPr/>
          </p:nvSpPr>
          <p:spPr>
            <a:xfrm>
              <a:off x="5082480" y="3263040"/>
              <a:ext cx="39924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2"/>
            <p:cNvSpPr/>
            <p:nvPr/>
          </p:nvSpPr>
          <p:spPr>
            <a:xfrm>
              <a:off x="6743520" y="3162960"/>
              <a:ext cx="557280" cy="45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51"/>
            <p:cNvSpPr/>
            <p:nvPr/>
          </p:nvSpPr>
          <p:spPr>
            <a:xfrm>
              <a:off x="7719840" y="4796640"/>
              <a:ext cx="39924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50"/>
            <p:cNvSpPr/>
            <p:nvPr/>
          </p:nvSpPr>
          <p:spPr>
            <a:xfrm>
              <a:off x="6408720" y="5878080"/>
              <a:ext cx="399600" cy="45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9"/>
            <p:cNvSpPr/>
            <p:nvPr/>
          </p:nvSpPr>
          <p:spPr>
            <a:xfrm>
              <a:off x="5057640" y="5877000"/>
              <a:ext cx="39960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48"/>
            <p:cNvSpPr/>
            <p:nvPr/>
          </p:nvSpPr>
          <p:spPr>
            <a:xfrm>
              <a:off x="3678120" y="4626000"/>
              <a:ext cx="358920" cy="46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47"/>
            <p:cNvSpPr/>
            <p:nvPr/>
          </p:nvSpPr>
          <p:spPr>
            <a:xfrm>
              <a:off x="7019280" y="4252680"/>
              <a:ext cx="2811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6"/>
            <p:cNvSpPr/>
            <p:nvPr/>
          </p:nvSpPr>
          <p:spPr>
            <a:xfrm>
              <a:off x="7300800" y="3895560"/>
              <a:ext cx="15588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45"/>
            <p:cNvSpPr/>
            <p:nvPr/>
          </p:nvSpPr>
          <p:spPr>
            <a:xfrm>
              <a:off x="7300800" y="5258520"/>
              <a:ext cx="1548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44"/>
            <p:cNvSpPr/>
            <p:nvPr/>
          </p:nvSpPr>
          <p:spPr>
            <a:xfrm>
              <a:off x="6863040" y="4661280"/>
              <a:ext cx="15588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43"/>
            <p:cNvSpPr/>
            <p:nvPr/>
          </p:nvSpPr>
          <p:spPr>
            <a:xfrm>
              <a:off x="5946840" y="5788440"/>
              <a:ext cx="196560" cy="40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42"/>
            <p:cNvSpPr/>
            <p:nvPr/>
          </p:nvSpPr>
          <p:spPr>
            <a:xfrm>
              <a:off x="5861160" y="5369400"/>
              <a:ext cx="15588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41"/>
            <p:cNvSpPr/>
            <p:nvPr/>
          </p:nvSpPr>
          <p:spPr>
            <a:xfrm>
              <a:off x="5861160" y="4796640"/>
              <a:ext cx="282240" cy="46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40"/>
            <p:cNvSpPr/>
            <p:nvPr/>
          </p:nvSpPr>
          <p:spPr>
            <a:xfrm>
              <a:off x="5704560" y="4334400"/>
              <a:ext cx="25884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9"/>
            <p:cNvSpPr/>
            <p:nvPr/>
          </p:nvSpPr>
          <p:spPr>
            <a:xfrm>
              <a:off x="5704560" y="3699000"/>
              <a:ext cx="15624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8"/>
            <p:cNvSpPr/>
            <p:nvPr/>
          </p:nvSpPr>
          <p:spPr>
            <a:xfrm>
              <a:off x="5790600" y="3256560"/>
              <a:ext cx="15624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7145640" y="4902120"/>
              <a:ext cx="15480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36"/>
            <p:cNvSpPr/>
            <p:nvPr/>
          </p:nvSpPr>
          <p:spPr>
            <a:xfrm>
              <a:off x="5212800" y="4464360"/>
              <a:ext cx="15444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35"/>
            <p:cNvSpPr/>
            <p:nvPr/>
          </p:nvSpPr>
          <p:spPr>
            <a:xfrm>
              <a:off x="6808680" y="5878080"/>
              <a:ext cx="55692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34"/>
            <p:cNvSpPr/>
            <p:nvPr/>
          </p:nvSpPr>
          <p:spPr>
            <a:xfrm>
              <a:off x="4617720" y="4136400"/>
              <a:ext cx="15480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3"/>
            <p:cNvSpPr/>
            <p:nvPr/>
          </p:nvSpPr>
          <p:spPr>
            <a:xfrm>
              <a:off x="4376880" y="3895560"/>
              <a:ext cx="15444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4584960" y="4902120"/>
              <a:ext cx="154800" cy="3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31"/>
            <p:cNvSpPr/>
            <p:nvPr/>
          </p:nvSpPr>
          <p:spPr>
            <a:xfrm>
              <a:off x="3678120" y="4119840"/>
              <a:ext cx="556920" cy="45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30"/>
            <p:cNvSpPr/>
            <p:nvPr/>
          </p:nvSpPr>
          <p:spPr>
            <a:xfrm>
              <a:off x="7495920" y="4135320"/>
              <a:ext cx="555840" cy="45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29"/>
            <p:cNvSpPr/>
            <p:nvPr/>
          </p:nvSpPr>
          <p:spPr>
            <a:xfrm>
              <a:off x="4037040" y="4585680"/>
              <a:ext cx="195120" cy="2109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28"/>
            <p:cNvSpPr/>
            <p:nvPr/>
          </p:nvSpPr>
          <p:spPr>
            <a:xfrm>
              <a:off x="5057640" y="3593880"/>
              <a:ext cx="192240" cy="2095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27"/>
            <p:cNvSpPr/>
            <p:nvPr/>
          </p:nvSpPr>
          <p:spPr>
            <a:xfrm>
              <a:off x="5057640" y="5667480"/>
              <a:ext cx="193680" cy="21060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26"/>
            <p:cNvSpPr/>
            <p:nvPr/>
          </p:nvSpPr>
          <p:spPr>
            <a:xfrm>
              <a:off x="7719840" y="4691160"/>
              <a:ext cx="191160" cy="210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25"/>
            <p:cNvSpPr/>
            <p:nvPr/>
          </p:nvSpPr>
          <p:spPr>
            <a:xfrm>
              <a:off x="6712200" y="5667480"/>
              <a:ext cx="191160" cy="210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136040" y="4812120"/>
              <a:ext cx="906120" cy="964440"/>
              <a:chOff x="4136040" y="4812120"/>
              <a:chExt cx="906120" cy="964440"/>
            </a:xfrm>
          </p:grpSpPr>
          <p:cxnSp>
            <p:nvCxnSpPr>
              <p:cNvPr id="487" name="AutoShape 24"/>
              <p:cNvCxnSpPr/>
              <p:nvPr/>
            </p:nvCxnSpPr>
            <p:spPr>
              <a:xfrm>
                <a:off x="4136040" y="4812120"/>
                <a:ext cx="906480" cy="9648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488" name=""/>
              <p:cNvSpPr txBox="1"/>
              <p:nvPr/>
            </p:nvSpPr>
            <p:spPr>
              <a:xfrm>
                <a:off x="4136040" y="4812120"/>
                <a:ext cx="905760" cy="964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231800" y="4690440"/>
              <a:ext cx="909000" cy="976680"/>
              <a:chOff x="4231800" y="4690440"/>
              <a:chExt cx="909000" cy="976680"/>
            </a:xfrm>
          </p:grpSpPr>
          <p:cxnSp>
            <p:nvCxnSpPr>
              <p:cNvPr id="490" name="AutoShape 23"/>
              <p:cNvCxnSpPr/>
              <p:nvPr/>
            </p:nvCxnSpPr>
            <p:spPr>
              <a:xfrm flipH="1" flipV="1">
                <a:off x="4231800" y="4690440"/>
                <a:ext cx="909360" cy="976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1" name=""/>
              <p:cNvSpPr txBox="1"/>
              <p:nvPr/>
            </p:nvSpPr>
            <p:spPr>
              <a:xfrm rot="10800000">
                <a:off x="4232160" y="4691160"/>
                <a:ext cx="908640" cy="9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903360" y="3712680"/>
              <a:ext cx="909000" cy="978120"/>
              <a:chOff x="6903360" y="3712680"/>
              <a:chExt cx="909000" cy="978120"/>
            </a:xfrm>
          </p:grpSpPr>
          <p:cxnSp>
            <p:nvCxnSpPr>
              <p:cNvPr id="493" name="AutoShape 22"/>
              <p:cNvCxnSpPr/>
              <p:nvPr/>
            </p:nvCxnSpPr>
            <p:spPr>
              <a:xfrm flipH="1" flipV="1">
                <a:off x="6903360" y="3712680"/>
                <a:ext cx="909360" cy="978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4" name=""/>
              <p:cNvSpPr txBox="1"/>
              <p:nvPr/>
            </p:nvSpPr>
            <p:spPr>
              <a:xfrm rot="10800000">
                <a:off x="6903720" y="3713400"/>
                <a:ext cx="908640" cy="97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808320" y="3821760"/>
              <a:ext cx="911520" cy="975240"/>
              <a:chOff x="6808320" y="3821760"/>
              <a:chExt cx="911520" cy="975240"/>
            </a:xfrm>
          </p:grpSpPr>
          <p:cxnSp>
            <p:nvCxnSpPr>
              <p:cNvPr id="496" name="AutoShape 21"/>
              <p:cNvCxnSpPr/>
              <p:nvPr/>
            </p:nvCxnSpPr>
            <p:spPr>
              <a:xfrm>
                <a:off x="6808320" y="3821760"/>
                <a:ext cx="911880" cy="97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"/>
              <p:cNvSpPr txBox="1"/>
              <p:nvPr/>
            </p:nvSpPr>
            <p:spPr>
              <a:xfrm>
                <a:off x="6808320" y="3821760"/>
                <a:ext cx="911160" cy="97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276520" y="5725800"/>
              <a:ext cx="1436040" cy="1800"/>
              <a:chOff x="5276520" y="5725800"/>
              <a:chExt cx="1436040" cy="1800"/>
            </a:xfrm>
          </p:grpSpPr>
          <p:cxnSp>
            <p:nvCxnSpPr>
              <p:cNvPr id="499" name="AutoShape 20"/>
              <p:cNvCxnSpPr/>
              <p:nvPr/>
            </p:nvCxnSpPr>
            <p:spPr>
              <a:xfrm>
                <a:off x="5276520" y="5725800"/>
                <a:ext cx="1436400" cy="2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00" name=""/>
              <p:cNvSpPr txBox="1"/>
              <p:nvPr/>
            </p:nvSpPr>
            <p:spPr>
              <a:xfrm>
                <a:off x="5276520" y="5725800"/>
                <a:ext cx="1435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5250960" y="3787560"/>
              <a:ext cx="1459440" cy="1800"/>
              <a:chOff x="5250960" y="3787560"/>
              <a:chExt cx="1459440" cy="1800"/>
            </a:xfrm>
          </p:grpSpPr>
          <p:cxnSp>
            <p:nvCxnSpPr>
              <p:cNvPr id="502" name="AutoShape 19"/>
              <p:cNvCxnSpPr/>
              <p:nvPr/>
            </p:nvCxnSpPr>
            <p:spPr>
              <a:xfrm flipH="1">
                <a:off x="5250960" y="3787560"/>
                <a:ext cx="1459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3" name=""/>
              <p:cNvSpPr txBox="1"/>
              <p:nvPr/>
            </p:nvSpPr>
            <p:spPr>
              <a:xfrm>
                <a:off x="5251320" y="3787560"/>
                <a:ext cx="1459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121640" y="3698280"/>
              <a:ext cx="921960" cy="871200"/>
              <a:chOff x="4121640" y="3698280"/>
              <a:chExt cx="921960" cy="871200"/>
            </a:xfrm>
          </p:grpSpPr>
          <p:cxnSp>
            <p:nvCxnSpPr>
              <p:cNvPr id="505" name="AutoShape 18"/>
              <p:cNvCxnSpPr/>
              <p:nvPr/>
            </p:nvCxnSpPr>
            <p:spPr>
              <a:xfrm flipV="1">
                <a:off x="4121640" y="3698280"/>
                <a:ext cx="922320" cy="871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6" name=""/>
              <p:cNvSpPr txBox="1"/>
              <p:nvPr/>
            </p:nvSpPr>
            <p:spPr>
              <a:xfrm rot="10800000">
                <a:off x="4121640" y="3698280"/>
                <a:ext cx="921600" cy="87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251320" y="3609360"/>
              <a:ext cx="1491840" cy="3600"/>
              <a:chOff x="5251320" y="3609360"/>
              <a:chExt cx="1491840" cy="3600"/>
            </a:xfrm>
          </p:grpSpPr>
          <p:cxnSp>
            <p:nvCxnSpPr>
              <p:cNvPr id="508" name="AutoShape 17"/>
              <p:cNvCxnSpPr/>
              <p:nvPr/>
            </p:nvCxnSpPr>
            <p:spPr>
              <a:xfrm>
                <a:off x="5251320" y="3609360"/>
                <a:ext cx="1492200" cy="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9" name=""/>
              <p:cNvSpPr txBox="1"/>
              <p:nvPr/>
            </p:nvSpPr>
            <p:spPr>
              <a:xfrm>
                <a:off x="5251320" y="3609360"/>
                <a:ext cx="1491480" cy="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Oval 16"/>
            <p:cNvSpPr/>
            <p:nvPr/>
          </p:nvSpPr>
          <p:spPr>
            <a:xfrm>
              <a:off x="6712200" y="3606840"/>
              <a:ext cx="191160" cy="2044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4234680" y="3787560"/>
              <a:ext cx="906120" cy="873720"/>
              <a:chOff x="4234680" y="3787560"/>
              <a:chExt cx="906120" cy="873720"/>
            </a:xfrm>
          </p:grpSpPr>
          <p:cxnSp>
            <p:nvCxnSpPr>
              <p:cNvPr id="512" name="AutoShape 15"/>
              <p:cNvCxnSpPr/>
              <p:nvPr/>
            </p:nvCxnSpPr>
            <p:spPr>
              <a:xfrm flipH="1">
                <a:off x="4234680" y="3787560"/>
                <a:ext cx="906480" cy="87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"/>
              <p:cNvSpPr txBox="1"/>
              <p:nvPr/>
            </p:nvSpPr>
            <p:spPr>
              <a:xfrm>
                <a:off x="4235040" y="3787560"/>
                <a:ext cx="905760" cy="87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6807960" y="4821120"/>
              <a:ext cx="910440" cy="830520"/>
              <a:chOff x="6807960" y="4821120"/>
              <a:chExt cx="910440" cy="830520"/>
            </a:xfrm>
          </p:grpSpPr>
          <p:cxnSp>
            <p:nvCxnSpPr>
              <p:cNvPr id="515" name="AutoShape 14"/>
              <p:cNvCxnSpPr/>
              <p:nvPr/>
            </p:nvCxnSpPr>
            <p:spPr>
              <a:xfrm flipV="1">
                <a:off x="6808320" y="4821120"/>
                <a:ext cx="910440" cy="83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6" name=""/>
              <p:cNvSpPr txBox="1"/>
              <p:nvPr/>
            </p:nvSpPr>
            <p:spPr>
              <a:xfrm rot="10800000">
                <a:off x="6807960" y="4821480"/>
                <a:ext cx="909720" cy="83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6901920" y="4916160"/>
              <a:ext cx="914040" cy="860400"/>
              <a:chOff x="6901920" y="4916160"/>
              <a:chExt cx="914040" cy="860400"/>
            </a:xfrm>
          </p:grpSpPr>
          <p:cxnSp>
            <p:nvCxnSpPr>
              <p:cNvPr id="518" name="AutoShape 13"/>
              <p:cNvCxnSpPr/>
              <p:nvPr/>
            </p:nvCxnSpPr>
            <p:spPr>
              <a:xfrm flipH="1">
                <a:off x="6901920" y="4916160"/>
                <a:ext cx="914400" cy="860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9" name=""/>
              <p:cNvSpPr txBox="1"/>
              <p:nvPr/>
            </p:nvSpPr>
            <p:spPr>
              <a:xfrm>
                <a:off x="6902280" y="4916160"/>
                <a:ext cx="913680" cy="86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212440" y="5876640"/>
              <a:ext cx="1460520" cy="1440"/>
              <a:chOff x="5212440" y="5876640"/>
              <a:chExt cx="1460520" cy="1440"/>
            </a:xfrm>
          </p:grpSpPr>
          <p:cxnSp>
            <p:nvCxnSpPr>
              <p:cNvPr id="521" name="AutoShape 12"/>
              <p:cNvCxnSpPr/>
              <p:nvPr/>
            </p:nvCxnSpPr>
            <p:spPr>
              <a:xfrm flipH="1">
                <a:off x="5212440" y="5876640"/>
                <a:ext cx="14608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2" name=""/>
              <p:cNvSpPr txBox="1"/>
              <p:nvPr/>
            </p:nvSpPr>
            <p:spPr>
              <a:xfrm>
                <a:off x="5212800" y="5876640"/>
                <a:ext cx="1460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124960" y="3787560"/>
              <a:ext cx="1585800" cy="1856520"/>
              <a:chOff x="5124960" y="3787560"/>
              <a:chExt cx="1585800" cy="1856520"/>
            </a:xfrm>
          </p:grpSpPr>
          <p:cxnSp>
            <p:nvCxnSpPr>
              <p:cNvPr id="524" name="AutoShape 11"/>
              <p:cNvCxnSpPr/>
              <p:nvPr/>
            </p:nvCxnSpPr>
            <p:spPr>
              <a:xfrm flipH="1">
                <a:off x="5124960" y="3787560"/>
                <a:ext cx="1586160" cy="1856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5" name=""/>
              <p:cNvSpPr txBox="1"/>
              <p:nvPr/>
            </p:nvSpPr>
            <p:spPr>
              <a:xfrm>
                <a:off x="5125320" y="3787560"/>
                <a:ext cx="1585440" cy="185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250240" y="3821040"/>
              <a:ext cx="1613160" cy="1879920"/>
              <a:chOff x="5250240" y="3821040"/>
              <a:chExt cx="1613160" cy="1879920"/>
            </a:xfrm>
          </p:grpSpPr>
          <p:cxnSp>
            <p:nvCxnSpPr>
              <p:cNvPr id="527" name="AutoShape 10"/>
              <p:cNvCxnSpPr/>
              <p:nvPr/>
            </p:nvCxnSpPr>
            <p:spPr>
              <a:xfrm flipV="1">
                <a:off x="5250240" y="3821040"/>
                <a:ext cx="1613520" cy="1880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28" name=""/>
              <p:cNvSpPr txBox="1"/>
              <p:nvPr/>
            </p:nvSpPr>
            <p:spPr>
              <a:xfrm rot="10800000">
                <a:off x="5250240" y="3821040"/>
                <a:ext cx="1612800" cy="187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220720" y="3786120"/>
              <a:ext cx="4320" cy="1881000"/>
              <a:chOff x="5220720" y="3786120"/>
              <a:chExt cx="4320" cy="1881000"/>
            </a:xfrm>
          </p:grpSpPr>
          <p:cxnSp>
            <p:nvCxnSpPr>
              <p:cNvPr id="530" name="AutoShape 9"/>
              <p:cNvCxnSpPr/>
              <p:nvPr/>
            </p:nvCxnSpPr>
            <p:spPr>
              <a:xfrm flipH="1" flipV="1">
                <a:off x="5220720" y="3786120"/>
                <a:ext cx="4680" cy="1881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531" name=""/>
              <p:cNvSpPr txBox="1"/>
              <p:nvPr/>
            </p:nvSpPr>
            <p:spPr>
              <a:xfrm rot="10800000">
                <a:off x="5220720" y="3786480"/>
                <a:ext cx="3960" cy="18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901920" y="3821400"/>
              <a:ext cx="1800" cy="1861560"/>
              <a:chOff x="6901920" y="3821400"/>
              <a:chExt cx="1800" cy="1861560"/>
            </a:xfrm>
          </p:grpSpPr>
          <p:cxnSp>
            <p:nvCxnSpPr>
              <p:cNvPr id="533" name="AutoShape 8"/>
              <p:cNvCxnSpPr/>
              <p:nvPr/>
            </p:nvCxnSpPr>
            <p:spPr>
              <a:xfrm flipH="1" flipV="1">
                <a:off x="6901920" y="3821400"/>
                <a:ext cx="2160" cy="186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34" name=""/>
              <p:cNvSpPr txBox="1"/>
              <p:nvPr/>
            </p:nvSpPr>
            <p:spPr>
              <a:xfrm rot="10800000">
                <a:off x="6902280" y="3821760"/>
                <a:ext cx="1440" cy="186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086080" y="3786480"/>
              <a:ext cx="1440" cy="1896840"/>
              <a:chOff x="5086080" y="3786480"/>
              <a:chExt cx="1440" cy="1896840"/>
            </a:xfrm>
          </p:grpSpPr>
          <p:cxnSp>
            <p:nvCxnSpPr>
              <p:cNvPr id="536" name="AutoShape 7"/>
              <p:cNvCxnSpPr/>
              <p:nvPr/>
            </p:nvCxnSpPr>
            <p:spPr>
              <a:xfrm>
                <a:off x="5086080" y="3786480"/>
                <a:ext cx="1800" cy="189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37" name=""/>
              <p:cNvSpPr txBox="1"/>
              <p:nvPr/>
            </p:nvSpPr>
            <p:spPr>
              <a:xfrm>
                <a:off x="5086080" y="3786480"/>
                <a:ext cx="1080" cy="189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740640" y="3795120"/>
              <a:ext cx="1440" cy="1930320"/>
              <a:chOff x="6740640" y="3795120"/>
              <a:chExt cx="1440" cy="1930320"/>
            </a:xfrm>
          </p:grpSpPr>
          <p:cxnSp>
            <p:nvCxnSpPr>
              <p:cNvPr id="539" name="AutoShape 6"/>
              <p:cNvCxnSpPr/>
              <p:nvPr/>
            </p:nvCxnSpPr>
            <p:spPr>
              <a:xfrm>
                <a:off x="6740640" y="3795120"/>
                <a:ext cx="1800" cy="193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40" name=""/>
              <p:cNvSpPr txBox="1"/>
              <p:nvPr/>
            </p:nvSpPr>
            <p:spPr>
              <a:xfrm>
                <a:off x="6740640" y="3795120"/>
                <a:ext cx="1080" cy="192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5"/>
            <p:cNvSpPr/>
            <p:nvPr/>
          </p:nvSpPr>
          <p:spPr>
            <a:xfrm>
              <a:off x="4531680" y="3143520"/>
              <a:ext cx="555840" cy="45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4"/>
            <p:cNvSpPr/>
            <p:nvPr/>
          </p:nvSpPr>
          <p:spPr>
            <a:xfrm>
              <a:off x="4296240" y="5094720"/>
              <a:ext cx="80640" cy="4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3"/>
            <p:cNvSpPr/>
            <p:nvPr/>
          </p:nvSpPr>
          <p:spPr>
            <a:xfrm>
              <a:off x="4885920" y="4464360"/>
              <a:ext cx="15588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"/>
            <p:cNvSpPr/>
            <p:nvPr/>
          </p:nvSpPr>
          <p:spPr>
            <a:xfrm>
              <a:off x="6517080" y="4464360"/>
              <a:ext cx="15588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88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9600" y="1141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. Итерация 2. Шаг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14400" y="762120"/>
            <a:ext cx="928188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ять просматриваем все не посещённые вершины, т.е.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Выбираем из них в качестве кандидата на включение во множест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 в связующее МОД вершин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имеющую минимальную метку-оц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=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ксируем («замораживаем») оц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)=2 как окончательную, т.е. это длина кратчайшего пути к вершин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вершины-источника. На слайде  эта метка выделяется жирным шрифтом с подчерки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верши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ечается как посещённая, включается во множест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 связующее дерев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же выбирается в качестве текущей рассматриваемой верши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выполнения следующей ит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га, ведущая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акже включается в МОД (выделена сплошной жирной синей линией). На этом вторая итерация заверш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8"/>
          <p:cNvSpPr/>
          <p:nvPr/>
        </p:nvSpPr>
        <p:spPr>
          <a:xfrm>
            <a:off x="0" y="29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"/>
          <p:cNvGrpSpPr/>
          <p:nvPr/>
        </p:nvGrpSpPr>
        <p:grpSpPr>
          <a:xfrm>
            <a:off x="2575080" y="3532320"/>
            <a:ext cx="4419360" cy="4000320"/>
            <a:chOff x="2575080" y="3532320"/>
            <a:chExt cx="4419360" cy="4000320"/>
          </a:xfrm>
        </p:grpSpPr>
        <p:sp>
          <p:nvSpPr>
            <p:cNvPr id="553" name="AutoShape 56"/>
            <p:cNvSpPr/>
            <p:nvPr/>
          </p:nvSpPr>
          <p:spPr>
            <a:xfrm>
              <a:off x="2575080" y="3532320"/>
              <a:ext cx="441936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55"/>
            <p:cNvSpPr/>
            <p:nvPr/>
          </p:nvSpPr>
          <p:spPr>
            <a:xfrm>
              <a:off x="3452400" y="6492240"/>
              <a:ext cx="53748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54"/>
            <p:cNvSpPr/>
            <p:nvPr/>
          </p:nvSpPr>
          <p:spPr>
            <a:xfrm>
              <a:off x="6469200" y="5421960"/>
              <a:ext cx="386280" cy="4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53"/>
            <p:cNvSpPr/>
            <p:nvPr/>
          </p:nvSpPr>
          <p:spPr>
            <a:xfrm>
              <a:off x="5216400" y="6492240"/>
              <a:ext cx="38628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52"/>
            <p:cNvSpPr/>
            <p:nvPr/>
          </p:nvSpPr>
          <p:spPr>
            <a:xfrm>
              <a:off x="5153400" y="3908520"/>
              <a:ext cx="38628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51"/>
            <p:cNvSpPr/>
            <p:nvPr/>
          </p:nvSpPr>
          <p:spPr>
            <a:xfrm>
              <a:off x="3959640" y="3870360"/>
              <a:ext cx="386280" cy="43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50"/>
            <p:cNvSpPr/>
            <p:nvPr/>
          </p:nvSpPr>
          <p:spPr>
            <a:xfrm>
              <a:off x="3909600" y="6492240"/>
              <a:ext cx="386280" cy="43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49"/>
            <p:cNvSpPr/>
            <p:nvPr/>
          </p:nvSpPr>
          <p:spPr>
            <a:xfrm>
              <a:off x="2602440" y="5298480"/>
              <a:ext cx="401400" cy="43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48"/>
            <p:cNvSpPr/>
            <p:nvPr/>
          </p:nvSpPr>
          <p:spPr>
            <a:xfrm>
              <a:off x="5539680" y="3868200"/>
              <a:ext cx="53892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7"/>
            <p:cNvSpPr/>
            <p:nvPr/>
          </p:nvSpPr>
          <p:spPr>
            <a:xfrm>
              <a:off x="5806800" y="4921200"/>
              <a:ext cx="27180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46"/>
            <p:cNvSpPr/>
            <p:nvPr/>
          </p:nvSpPr>
          <p:spPr>
            <a:xfrm>
              <a:off x="6078960" y="4576320"/>
              <a:ext cx="15084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45"/>
            <p:cNvSpPr/>
            <p:nvPr/>
          </p:nvSpPr>
          <p:spPr>
            <a:xfrm>
              <a:off x="6078960" y="5893200"/>
              <a:ext cx="14976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4"/>
            <p:cNvSpPr/>
            <p:nvPr/>
          </p:nvSpPr>
          <p:spPr>
            <a:xfrm>
              <a:off x="5655600" y="5316120"/>
              <a:ext cx="15084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4769640" y="6405480"/>
              <a:ext cx="190080" cy="38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42"/>
            <p:cNvSpPr/>
            <p:nvPr/>
          </p:nvSpPr>
          <p:spPr>
            <a:xfrm>
              <a:off x="4686480" y="6000480"/>
              <a:ext cx="15084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41"/>
            <p:cNvSpPr/>
            <p:nvPr/>
          </p:nvSpPr>
          <p:spPr>
            <a:xfrm>
              <a:off x="4686480" y="5446800"/>
              <a:ext cx="273240" cy="44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40"/>
            <p:cNvSpPr/>
            <p:nvPr/>
          </p:nvSpPr>
          <p:spPr>
            <a:xfrm>
              <a:off x="4534920" y="5000040"/>
              <a:ext cx="25056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9"/>
            <p:cNvSpPr/>
            <p:nvPr/>
          </p:nvSpPr>
          <p:spPr>
            <a:xfrm>
              <a:off x="4534920" y="4386240"/>
              <a:ext cx="15120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38"/>
            <p:cNvSpPr/>
            <p:nvPr/>
          </p:nvSpPr>
          <p:spPr>
            <a:xfrm>
              <a:off x="4618080" y="3958560"/>
              <a:ext cx="15120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37"/>
            <p:cNvSpPr/>
            <p:nvPr/>
          </p:nvSpPr>
          <p:spPr>
            <a:xfrm>
              <a:off x="5929200" y="5548680"/>
              <a:ext cx="1497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36"/>
            <p:cNvSpPr/>
            <p:nvPr/>
          </p:nvSpPr>
          <p:spPr>
            <a:xfrm>
              <a:off x="4059360" y="5126040"/>
              <a:ext cx="14940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5"/>
            <p:cNvSpPr/>
            <p:nvPr/>
          </p:nvSpPr>
          <p:spPr>
            <a:xfrm>
              <a:off x="5603040" y="6492240"/>
              <a:ext cx="53856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3483720" y="4808880"/>
              <a:ext cx="14976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3"/>
            <p:cNvSpPr/>
            <p:nvPr/>
          </p:nvSpPr>
          <p:spPr>
            <a:xfrm>
              <a:off x="3251160" y="4576320"/>
              <a:ext cx="14940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2"/>
            <p:cNvSpPr/>
            <p:nvPr/>
          </p:nvSpPr>
          <p:spPr>
            <a:xfrm>
              <a:off x="3452400" y="5548680"/>
              <a:ext cx="149760" cy="34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1"/>
            <p:cNvSpPr/>
            <p:nvPr/>
          </p:nvSpPr>
          <p:spPr>
            <a:xfrm>
              <a:off x="2575080" y="4792680"/>
              <a:ext cx="538560" cy="43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30"/>
            <p:cNvSpPr/>
            <p:nvPr/>
          </p:nvSpPr>
          <p:spPr>
            <a:xfrm>
              <a:off x="6267600" y="4807800"/>
              <a:ext cx="5374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2922480" y="5243040"/>
              <a:ext cx="188640" cy="2037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8"/>
            <p:cNvSpPr/>
            <p:nvPr/>
          </p:nvSpPr>
          <p:spPr>
            <a:xfrm>
              <a:off x="3909600" y="4284360"/>
              <a:ext cx="186120" cy="2023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7"/>
            <p:cNvSpPr/>
            <p:nvPr/>
          </p:nvSpPr>
          <p:spPr>
            <a:xfrm>
              <a:off x="3909600" y="6288480"/>
              <a:ext cx="187560" cy="20340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26"/>
            <p:cNvSpPr/>
            <p:nvPr/>
          </p:nvSpPr>
          <p:spPr>
            <a:xfrm>
              <a:off x="6484320" y="5344920"/>
              <a:ext cx="184680" cy="203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25"/>
            <p:cNvSpPr/>
            <p:nvPr/>
          </p:nvSpPr>
          <p:spPr>
            <a:xfrm>
              <a:off x="5509800" y="6288480"/>
              <a:ext cx="184680" cy="203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017880" y="5460480"/>
              <a:ext cx="876600" cy="955080"/>
              <a:chOff x="3017880" y="5460480"/>
              <a:chExt cx="876600" cy="955080"/>
            </a:xfrm>
          </p:grpSpPr>
          <p:cxnSp>
            <p:nvCxnSpPr>
              <p:cNvPr id="586" name="AutoShape 24"/>
              <p:cNvCxnSpPr/>
              <p:nvPr/>
            </p:nvCxnSpPr>
            <p:spPr>
              <a:xfrm>
                <a:off x="3017880" y="5460480"/>
                <a:ext cx="876960" cy="95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87" name=""/>
              <p:cNvSpPr txBox="1"/>
              <p:nvPr/>
            </p:nvSpPr>
            <p:spPr>
              <a:xfrm>
                <a:off x="3017880" y="5460480"/>
                <a:ext cx="876240" cy="95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110400" y="5344560"/>
              <a:ext cx="879120" cy="943560"/>
              <a:chOff x="3110400" y="5344560"/>
              <a:chExt cx="879120" cy="943560"/>
            </a:xfrm>
          </p:grpSpPr>
          <p:cxnSp>
            <p:nvCxnSpPr>
              <p:cNvPr id="589" name="AutoShape 23"/>
              <p:cNvCxnSpPr/>
              <p:nvPr/>
            </p:nvCxnSpPr>
            <p:spPr>
              <a:xfrm flipH="1" flipV="1">
                <a:off x="3110400" y="5344560"/>
                <a:ext cx="879480" cy="943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3110400" y="5344920"/>
                <a:ext cx="878760" cy="94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694120" y="4399920"/>
              <a:ext cx="879120" cy="945000"/>
              <a:chOff x="5694120" y="4399920"/>
              <a:chExt cx="879120" cy="945000"/>
            </a:xfrm>
          </p:grpSpPr>
          <p:cxnSp>
            <p:nvCxnSpPr>
              <p:cNvPr id="592" name="AutoShape 22"/>
              <p:cNvCxnSpPr/>
              <p:nvPr/>
            </p:nvCxnSpPr>
            <p:spPr>
              <a:xfrm flipH="1" flipV="1">
                <a:off x="5694120" y="4399920"/>
                <a:ext cx="879480" cy="945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3" name=""/>
              <p:cNvSpPr txBox="1"/>
              <p:nvPr/>
            </p:nvSpPr>
            <p:spPr>
              <a:xfrm rot="10800000">
                <a:off x="5694120" y="4400280"/>
                <a:ext cx="878760" cy="9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5603040" y="4504320"/>
              <a:ext cx="881640" cy="942480"/>
              <a:chOff x="5603040" y="4504320"/>
              <a:chExt cx="881640" cy="942480"/>
            </a:xfrm>
          </p:grpSpPr>
          <p:cxnSp>
            <p:nvCxnSpPr>
              <p:cNvPr id="595" name="AutoShape 21"/>
              <p:cNvCxnSpPr/>
              <p:nvPr/>
            </p:nvCxnSpPr>
            <p:spPr>
              <a:xfrm>
                <a:off x="5603040" y="4504320"/>
                <a:ext cx="882000" cy="94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6" name=""/>
              <p:cNvSpPr txBox="1"/>
              <p:nvPr/>
            </p:nvSpPr>
            <p:spPr>
              <a:xfrm>
                <a:off x="5603040" y="4504320"/>
                <a:ext cx="881280" cy="94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120560" y="6344640"/>
              <a:ext cx="1388880" cy="1440"/>
              <a:chOff x="4120560" y="6344640"/>
              <a:chExt cx="1388880" cy="1440"/>
            </a:xfrm>
          </p:grpSpPr>
          <p:cxnSp>
            <p:nvCxnSpPr>
              <p:cNvPr id="598" name="AutoShape 20"/>
              <p:cNvCxnSpPr/>
              <p:nvPr/>
            </p:nvCxnSpPr>
            <p:spPr>
              <a:xfrm>
                <a:off x="4120560" y="6344640"/>
                <a:ext cx="13892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99" name=""/>
              <p:cNvSpPr txBox="1"/>
              <p:nvPr/>
            </p:nvSpPr>
            <p:spPr>
              <a:xfrm>
                <a:off x="4120560" y="6344640"/>
                <a:ext cx="1388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096800" y="4471560"/>
              <a:ext cx="1411560" cy="1440"/>
              <a:chOff x="4096800" y="4471560"/>
              <a:chExt cx="1411560" cy="1440"/>
            </a:xfrm>
          </p:grpSpPr>
          <p:cxnSp>
            <p:nvCxnSpPr>
              <p:cNvPr id="601" name="AutoShape 19"/>
              <p:cNvCxnSpPr/>
              <p:nvPr/>
            </p:nvCxnSpPr>
            <p:spPr>
              <a:xfrm flipH="1">
                <a:off x="4096800" y="4471560"/>
                <a:ext cx="141192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02" name=""/>
              <p:cNvSpPr txBox="1"/>
              <p:nvPr/>
            </p:nvSpPr>
            <p:spPr>
              <a:xfrm>
                <a:off x="4097160" y="4471560"/>
                <a:ext cx="1411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3004200" y="4385880"/>
              <a:ext cx="891720" cy="842040"/>
              <a:chOff x="3004200" y="4385880"/>
              <a:chExt cx="891720" cy="842040"/>
            </a:xfrm>
          </p:grpSpPr>
          <p:cxnSp>
            <p:nvCxnSpPr>
              <p:cNvPr id="604" name="AutoShape 18"/>
              <p:cNvCxnSpPr/>
              <p:nvPr/>
            </p:nvCxnSpPr>
            <p:spPr>
              <a:xfrm flipV="1">
                <a:off x="3004200" y="4385880"/>
                <a:ext cx="892080" cy="8424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605" name=""/>
              <p:cNvSpPr txBox="1"/>
              <p:nvPr/>
            </p:nvSpPr>
            <p:spPr>
              <a:xfrm rot="10800000">
                <a:off x="3004200" y="4386240"/>
                <a:ext cx="891360" cy="84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092840" y="4302720"/>
              <a:ext cx="1444320" cy="4320"/>
              <a:chOff x="4092840" y="4302720"/>
              <a:chExt cx="1444320" cy="4320"/>
            </a:xfrm>
          </p:grpSpPr>
          <p:cxnSp>
            <p:nvCxnSpPr>
              <p:cNvPr id="607" name="AutoShape 17"/>
              <p:cNvCxnSpPr/>
              <p:nvPr/>
            </p:nvCxnSpPr>
            <p:spPr>
              <a:xfrm>
                <a:off x="4092840" y="4302720"/>
                <a:ext cx="1444680" cy="4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08" name=""/>
              <p:cNvSpPr txBox="1"/>
              <p:nvPr/>
            </p:nvSpPr>
            <p:spPr>
              <a:xfrm>
                <a:off x="4092840" y="4302720"/>
                <a:ext cx="1443960" cy="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Oval 16"/>
            <p:cNvSpPr/>
            <p:nvPr/>
          </p:nvSpPr>
          <p:spPr>
            <a:xfrm>
              <a:off x="5509800" y="4296960"/>
              <a:ext cx="184680" cy="197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113280" y="4471920"/>
              <a:ext cx="876600" cy="844200"/>
              <a:chOff x="3113280" y="4471920"/>
              <a:chExt cx="876600" cy="844200"/>
            </a:xfrm>
          </p:grpSpPr>
          <p:cxnSp>
            <p:nvCxnSpPr>
              <p:cNvPr id="611" name="AutoShape 15"/>
              <p:cNvCxnSpPr/>
              <p:nvPr/>
            </p:nvCxnSpPr>
            <p:spPr>
              <a:xfrm flipH="1">
                <a:off x="3113280" y="4471920"/>
                <a:ext cx="876960" cy="84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12" name=""/>
              <p:cNvSpPr txBox="1"/>
              <p:nvPr/>
            </p:nvSpPr>
            <p:spPr>
              <a:xfrm>
                <a:off x="3113640" y="4471920"/>
                <a:ext cx="876240" cy="84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603040" y="5470200"/>
              <a:ext cx="880200" cy="802800"/>
              <a:chOff x="5603040" y="5470200"/>
              <a:chExt cx="880200" cy="802800"/>
            </a:xfrm>
          </p:grpSpPr>
          <p:cxnSp>
            <p:nvCxnSpPr>
              <p:cNvPr id="614" name="AutoShape 14"/>
              <p:cNvCxnSpPr/>
              <p:nvPr/>
            </p:nvCxnSpPr>
            <p:spPr>
              <a:xfrm flipV="1">
                <a:off x="5603040" y="5470200"/>
                <a:ext cx="880560" cy="803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15" name=""/>
              <p:cNvSpPr txBox="1"/>
              <p:nvPr/>
            </p:nvSpPr>
            <p:spPr>
              <a:xfrm rot="10800000">
                <a:off x="5603040" y="5470200"/>
                <a:ext cx="879840" cy="80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692680" y="5562720"/>
              <a:ext cx="884160" cy="834120"/>
              <a:chOff x="5692680" y="5562720"/>
              <a:chExt cx="884160" cy="834120"/>
            </a:xfrm>
          </p:grpSpPr>
          <p:cxnSp>
            <p:nvCxnSpPr>
              <p:cNvPr id="617" name="AutoShape 13"/>
              <p:cNvCxnSpPr/>
              <p:nvPr/>
            </p:nvCxnSpPr>
            <p:spPr>
              <a:xfrm flipH="1">
                <a:off x="5692680" y="5562720"/>
                <a:ext cx="884520" cy="83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18" name=""/>
              <p:cNvSpPr txBox="1"/>
              <p:nvPr/>
            </p:nvSpPr>
            <p:spPr>
              <a:xfrm>
                <a:off x="5693040" y="5562720"/>
                <a:ext cx="883800" cy="83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058640" y="6490800"/>
              <a:ext cx="1412640" cy="1440"/>
              <a:chOff x="4058640" y="6490800"/>
              <a:chExt cx="1412640" cy="1440"/>
            </a:xfrm>
          </p:grpSpPr>
          <p:cxnSp>
            <p:nvCxnSpPr>
              <p:cNvPr id="620" name="AutoShape 12"/>
              <p:cNvCxnSpPr/>
              <p:nvPr/>
            </p:nvCxnSpPr>
            <p:spPr>
              <a:xfrm flipH="1">
                <a:off x="4058640" y="6490800"/>
                <a:ext cx="14130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1" name=""/>
              <p:cNvSpPr txBox="1"/>
              <p:nvPr/>
            </p:nvSpPr>
            <p:spPr>
              <a:xfrm>
                <a:off x="4059000" y="6490800"/>
                <a:ext cx="1412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974040" y="4471560"/>
              <a:ext cx="1533600" cy="1794240"/>
              <a:chOff x="3974040" y="4471560"/>
              <a:chExt cx="1533600" cy="1794240"/>
            </a:xfrm>
          </p:grpSpPr>
          <p:cxnSp>
            <p:nvCxnSpPr>
              <p:cNvPr id="623" name="AutoShape 11"/>
              <p:cNvCxnSpPr/>
              <p:nvPr/>
            </p:nvCxnSpPr>
            <p:spPr>
              <a:xfrm flipH="1">
                <a:off x="3974040" y="4471560"/>
                <a:ext cx="1533960" cy="1794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4" name=""/>
              <p:cNvSpPr txBox="1"/>
              <p:nvPr/>
            </p:nvSpPr>
            <p:spPr>
              <a:xfrm>
                <a:off x="3974400" y="4471560"/>
                <a:ext cx="1533240" cy="179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095000" y="4504320"/>
              <a:ext cx="1560600" cy="1816920"/>
              <a:chOff x="4095000" y="4504320"/>
              <a:chExt cx="1560600" cy="1816920"/>
            </a:xfrm>
          </p:grpSpPr>
          <p:cxnSp>
            <p:nvCxnSpPr>
              <p:cNvPr id="626" name="AutoShape 10"/>
              <p:cNvCxnSpPr/>
              <p:nvPr/>
            </p:nvCxnSpPr>
            <p:spPr>
              <a:xfrm flipV="1">
                <a:off x="4095360" y="4504320"/>
                <a:ext cx="1560600" cy="1817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7" name=""/>
              <p:cNvSpPr txBox="1"/>
              <p:nvPr/>
            </p:nvSpPr>
            <p:spPr>
              <a:xfrm rot="10800000">
                <a:off x="4095000" y="4504680"/>
                <a:ext cx="1559880" cy="181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7280" y="4471200"/>
              <a:ext cx="4320" cy="1807920"/>
              <a:chOff x="4067280" y="4471200"/>
              <a:chExt cx="4320" cy="1807920"/>
            </a:xfrm>
          </p:grpSpPr>
          <p:cxnSp>
            <p:nvCxnSpPr>
              <p:cNvPr id="629" name="AutoShape 9"/>
              <p:cNvCxnSpPr/>
              <p:nvPr/>
            </p:nvCxnSpPr>
            <p:spPr>
              <a:xfrm flipH="1" flipV="1">
                <a:off x="4067280" y="4471200"/>
                <a:ext cx="4680" cy="1808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0" name=""/>
              <p:cNvSpPr txBox="1"/>
              <p:nvPr/>
            </p:nvSpPr>
            <p:spPr>
              <a:xfrm rot="10800000">
                <a:off x="4067280" y="4471200"/>
                <a:ext cx="3960" cy="180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692680" y="4503960"/>
              <a:ext cx="1440" cy="1799280"/>
              <a:chOff x="5692680" y="4503960"/>
              <a:chExt cx="1440" cy="1799280"/>
            </a:xfrm>
          </p:grpSpPr>
          <p:cxnSp>
            <p:nvCxnSpPr>
              <p:cNvPr id="632" name="AutoShape 8"/>
              <p:cNvCxnSpPr/>
              <p:nvPr/>
            </p:nvCxnSpPr>
            <p:spPr>
              <a:xfrm flipH="1" flipV="1">
                <a:off x="5692680" y="4503960"/>
                <a:ext cx="1800" cy="1799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3" name=""/>
              <p:cNvSpPr txBox="1"/>
              <p:nvPr/>
            </p:nvSpPr>
            <p:spPr>
              <a:xfrm rot="10800000">
                <a:off x="5692680" y="4503960"/>
                <a:ext cx="1080" cy="179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936960" y="4471920"/>
              <a:ext cx="1440" cy="1832040"/>
              <a:chOff x="3936960" y="4471920"/>
              <a:chExt cx="1440" cy="1832040"/>
            </a:xfrm>
          </p:grpSpPr>
          <p:cxnSp>
            <p:nvCxnSpPr>
              <p:cNvPr id="635" name="AutoShape 7"/>
              <p:cNvCxnSpPr/>
              <p:nvPr/>
            </p:nvCxnSpPr>
            <p:spPr>
              <a:xfrm>
                <a:off x="3936960" y="4471920"/>
                <a:ext cx="1800" cy="183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6" name=""/>
              <p:cNvSpPr txBox="1"/>
              <p:nvPr/>
            </p:nvSpPr>
            <p:spPr>
              <a:xfrm>
                <a:off x="3936960" y="4471920"/>
                <a:ext cx="1080" cy="183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537160" y="4480200"/>
              <a:ext cx="1440" cy="1866960"/>
              <a:chOff x="5537160" y="4480200"/>
              <a:chExt cx="1440" cy="1866960"/>
            </a:xfrm>
          </p:grpSpPr>
          <p:cxnSp>
            <p:nvCxnSpPr>
              <p:cNvPr id="638" name="AutoShape 6"/>
              <p:cNvCxnSpPr/>
              <p:nvPr/>
            </p:nvCxnSpPr>
            <p:spPr>
              <a:xfrm>
                <a:off x="5537160" y="4480200"/>
                <a:ext cx="1800" cy="1867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9" name=""/>
              <p:cNvSpPr txBox="1"/>
              <p:nvPr/>
            </p:nvSpPr>
            <p:spPr>
              <a:xfrm>
                <a:off x="5537160" y="4480200"/>
                <a:ext cx="1080" cy="18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Text Box 5"/>
            <p:cNvSpPr/>
            <p:nvPr/>
          </p:nvSpPr>
          <p:spPr>
            <a:xfrm>
              <a:off x="3400560" y="3849480"/>
              <a:ext cx="5374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4"/>
            <p:cNvSpPr/>
            <p:nvPr/>
          </p:nvSpPr>
          <p:spPr>
            <a:xfrm>
              <a:off x="3172680" y="5735160"/>
              <a:ext cx="7812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3743280" y="5126040"/>
              <a:ext cx="15084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"/>
            <p:cNvSpPr/>
            <p:nvPr/>
          </p:nvSpPr>
          <p:spPr>
            <a:xfrm>
              <a:off x="5320800" y="5126040"/>
              <a:ext cx="150840" cy="34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34720" y="274680"/>
            <a:ext cx="8832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мер. Итерация 3. Шаги 1,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4"/>
          <p:cNvGrpSpPr/>
          <p:nvPr/>
        </p:nvGrpSpPr>
        <p:grpSpPr>
          <a:xfrm>
            <a:off x="-38160" y="1197000"/>
            <a:ext cx="4467240" cy="3930480"/>
            <a:chOff x="-38160" y="1197000"/>
            <a:chExt cx="4467240" cy="3930480"/>
          </a:xfrm>
        </p:grpSpPr>
        <p:sp>
          <p:nvSpPr>
            <p:cNvPr id="647" name="AutoShape 59"/>
            <p:cNvSpPr/>
            <p:nvPr/>
          </p:nvSpPr>
          <p:spPr>
            <a:xfrm>
              <a:off x="-38160" y="1197000"/>
              <a:ext cx="4467240" cy="39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58"/>
            <p:cNvSpPr/>
            <p:nvPr/>
          </p:nvSpPr>
          <p:spPr>
            <a:xfrm>
              <a:off x="3833280" y="3241080"/>
              <a:ext cx="583920" cy="43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57"/>
            <p:cNvSpPr/>
            <p:nvPr/>
          </p:nvSpPr>
          <p:spPr>
            <a:xfrm>
              <a:off x="35280" y="3125160"/>
              <a:ext cx="39060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56"/>
            <p:cNvSpPr/>
            <p:nvPr/>
          </p:nvSpPr>
          <p:spPr>
            <a:xfrm>
              <a:off x="565920" y="3519720"/>
              <a:ext cx="7884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55"/>
            <p:cNvSpPr/>
            <p:nvPr/>
          </p:nvSpPr>
          <p:spPr>
            <a:xfrm>
              <a:off x="848520" y="4285800"/>
              <a:ext cx="543240" cy="44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54"/>
            <p:cNvSpPr/>
            <p:nvPr/>
          </p:nvSpPr>
          <p:spPr>
            <a:xfrm>
              <a:off x="1322280" y="4288680"/>
              <a:ext cx="390240" cy="43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53"/>
            <p:cNvSpPr/>
            <p:nvPr/>
          </p:nvSpPr>
          <p:spPr>
            <a:xfrm>
              <a:off x="2675160" y="1611720"/>
              <a:ext cx="39060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52"/>
            <p:cNvSpPr/>
            <p:nvPr/>
          </p:nvSpPr>
          <p:spPr>
            <a:xfrm>
              <a:off x="1338840" y="1630800"/>
              <a:ext cx="39060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51"/>
            <p:cNvSpPr/>
            <p:nvPr/>
          </p:nvSpPr>
          <p:spPr>
            <a:xfrm>
              <a:off x="2675160" y="4287240"/>
              <a:ext cx="390600" cy="43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50"/>
            <p:cNvSpPr/>
            <p:nvPr/>
          </p:nvSpPr>
          <p:spPr>
            <a:xfrm>
              <a:off x="3022560" y="4285800"/>
              <a:ext cx="544320" cy="44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49"/>
            <p:cNvSpPr/>
            <p:nvPr/>
          </p:nvSpPr>
          <p:spPr>
            <a:xfrm>
              <a:off x="2958840" y="1611720"/>
              <a:ext cx="544680" cy="43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48"/>
            <p:cNvSpPr/>
            <p:nvPr/>
          </p:nvSpPr>
          <p:spPr>
            <a:xfrm>
              <a:off x="3228480" y="2696400"/>
              <a:ext cx="275040" cy="34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47"/>
            <p:cNvSpPr/>
            <p:nvPr/>
          </p:nvSpPr>
          <p:spPr>
            <a:xfrm>
              <a:off x="3503520" y="2347560"/>
              <a:ext cx="15264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46"/>
            <p:cNvSpPr/>
            <p:nvPr/>
          </p:nvSpPr>
          <p:spPr>
            <a:xfrm>
              <a:off x="3503520" y="3679920"/>
              <a:ext cx="15120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45"/>
            <p:cNvSpPr/>
            <p:nvPr/>
          </p:nvSpPr>
          <p:spPr>
            <a:xfrm>
              <a:off x="3075840" y="3096000"/>
              <a:ext cx="15264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44"/>
            <p:cNvSpPr/>
            <p:nvPr/>
          </p:nvSpPr>
          <p:spPr>
            <a:xfrm>
              <a:off x="2180160" y="4198320"/>
              <a:ext cx="191880" cy="39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43"/>
            <p:cNvSpPr/>
            <p:nvPr/>
          </p:nvSpPr>
          <p:spPr>
            <a:xfrm>
              <a:off x="2095920" y="3788280"/>
              <a:ext cx="152640" cy="34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42"/>
            <p:cNvSpPr/>
            <p:nvPr/>
          </p:nvSpPr>
          <p:spPr>
            <a:xfrm>
              <a:off x="2095920" y="3228480"/>
              <a:ext cx="27612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41"/>
            <p:cNvSpPr/>
            <p:nvPr/>
          </p:nvSpPr>
          <p:spPr>
            <a:xfrm>
              <a:off x="1942920" y="2776320"/>
              <a:ext cx="25308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40"/>
            <p:cNvSpPr/>
            <p:nvPr/>
          </p:nvSpPr>
          <p:spPr>
            <a:xfrm>
              <a:off x="1942920" y="2154960"/>
              <a:ext cx="15264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9"/>
            <p:cNvSpPr/>
            <p:nvPr/>
          </p:nvSpPr>
          <p:spPr>
            <a:xfrm>
              <a:off x="2027160" y="1722600"/>
              <a:ext cx="152640" cy="34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38"/>
            <p:cNvSpPr/>
            <p:nvPr/>
          </p:nvSpPr>
          <p:spPr>
            <a:xfrm>
              <a:off x="3351960" y="3331440"/>
              <a:ext cx="151200" cy="34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37"/>
            <p:cNvSpPr/>
            <p:nvPr/>
          </p:nvSpPr>
          <p:spPr>
            <a:xfrm>
              <a:off x="1462320" y="2903760"/>
              <a:ext cx="15120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36"/>
            <p:cNvSpPr/>
            <p:nvPr/>
          </p:nvSpPr>
          <p:spPr>
            <a:xfrm>
              <a:off x="880200" y="2583000"/>
              <a:ext cx="151200" cy="34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35"/>
            <p:cNvSpPr/>
            <p:nvPr/>
          </p:nvSpPr>
          <p:spPr>
            <a:xfrm>
              <a:off x="645120" y="2347560"/>
              <a:ext cx="15120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848520" y="3331440"/>
              <a:ext cx="151200" cy="34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33"/>
            <p:cNvSpPr/>
            <p:nvPr/>
          </p:nvSpPr>
          <p:spPr>
            <a:xfrm>
              <a:off x="-38160" y="2566440"/>
              <a:ext cx="544320" cy="44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32"/>
            <p:cNvSpPr/>
            <p:nvPr/>
          </p:nvSpPr>
          <p:spPr>
            <a:xfrm>
              <a:off x="3694320" y="2581920"/>
              <a:ext cx="543240" cy="43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31"/>
            <p:cNvSpPr/>
            <p:nvPr/>
          </p:nvSpPr>
          <p:spPr>
            <a:xfrm>
              <a:off x="312840" y="3021840"/>
              <a:ext cx="190440" cy="2062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30"/>
            <p:cNvSpPr/>
            <p:nvPr/>
          </p:nvSpPr>
          <p:spPr>
            <a:xfrm>
              <a:off x="1310760" y="2052000"/>
              <a:ext cx="187920" cy="2048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29"/>
            <p:cNvSpPr/>
            <p:nvPr/>
          </p:nvSpPr>
          <p:spPr>
            <a:xfrm>
              <a:off x="1310760" y="4079880"/>
              <a:ext cx="189360" cy="2059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8"/>
            <p:cNvSpPr/>
            <p:nvPr/>
          </p:nvSpPr>
          <p:spPr>
            <a:xfrm>
              <a:off x="3913560" y="3125160"/>
              <a:ext cx="186840" cy="205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7"/>
            <p:cNvSpPr/>
            <p:nvPr/>
          </p:nvSpPr>
          <p:spPr>
            <a:xfrm>
              <a:off x="2928240" y="4079880"/>
              <a:ext cx="186840" cy="205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09680" y="3243600"/>
              <a:ext cx="885960" cy="947160"/>
              <a:chOff x="409680" y="3243600"/>
              <a:chExt cx="885960" cy="947160"/>
            </a:xfrm>
          </p:grpSpPr>
          <p:cxnSp>
            <p:nvCxnSpPr>
              <p:cNvPr id="681" name="AutoShape 26"/>
              <p:cNvCxnSpPr/>
              <p:nvPr/>
            </p:nvCxnSpPr>
            <p:spPr>
              <a:xfrm>
                <a:off x="409680" y="3243600"/>
                <a:ext cx="886320" cy="9475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682" name=""/>
              <p:cNvSpPr txBox="1"/>
              <p:nvPr/>
            </p:nvSpPr>
            <p:spPr>
              <a:xfrm>
                <a:off x="409680" y="3243600"/>
                <a:ext cx="885600" cy="94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02920" y="3124440"/>
              <a:ext cx="888480" cy="954720"/>
              <a:chOff x="502920" y="3124440"/>
              <a:chExt cx="888480" cy="954720"/>
            </a:xfrm>
          </p:grpSpPr>
          <p:cxnSp>
            <p:nvCxnSpPr>
              <p:cNvPr id="684" name="AutoShape 25"/>
              <p:cNvCxnSpPr/>
              <p:nvPr/>
            </p:nvCxnSpPr>
            <p:spPr>
              <a:xfrm flipH="1" flipV="1">
                <a:off x="502920" y="3124440"/>
                <a:ext cx="888840" cy="955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85" name=""/>
              <p:cNvSpPr txBox="1"/>
              <p:nvPr/>
            </p:nvSpPr>
            <p:spPr>
              <a:xfrm rot="10800000">
                <a:off x="502920" y="3124440"/>
                <a:ext cx="888120" cy="95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114720" y="2168640"/>
              <a:ext cx="888480" cy="956160"/>
              <a:chOff x="3114720" y="2168640"/>
              <a:chExt cx="888480" cy="956160"/>
            </a:xfrm>
          </p:grpSpPr>
          <p:cxnSp>
            <p:nvCxnSpPr>
              <p:cNvPr id="687" name="AutoShape 24"/>
              <p:cNvCxnSpPr/>
              <p:nvPr/>
            </p:nvCxnSpPr>
            <p:spPr>
              <a:xfrm flipH="1" flipV="1">
                <a:off x="3114720" y="2168640"/>
                <a:ext cx="888840" cy="95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88" name=""/>
              <p:cNvSpPr txBox="1"/>
              <p:nvPr/>
            </p:nvSpPr>
            <p:spPr>
              <a:xfrm rot="10800000">
                <a:off x="3114720" y="2168640"/>
                <a:ext cx="888120" cy="95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022560" y="2274840"/>
              <a:ext cx="891000" cy="953640"/>
              <a:chOff x="3022560" y="2274840"/>
              <a:chExt cx="891000" cy="953640"/>
            </a:xfrm>
          </p:grpSpPr>
          <p:cxnSp>
            <p:nvCxnSpPr>
              <p:cNvPr id="690" name="AutoShape 23"/>
              <p:cNvCxnSpPr/>
              <p:nvPr/>
            </p:nvCxnSpPr>
            <p:spPr>
              <a:xfrm>
                <a:off x="3022560" y="2274840"/>
                <a:ext cx="891360" cy="954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1" name=""/>
              <p:cNvSpPr txBox="1"/>
              <p:nvPr/>
            </p:nvSpPr>
            <p:spPr>
              <a:xfrm>
                <a:off x="3022560" y="2274840"/>
                <a:ext cx="890640" cy="95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524240" y="4137120"/>
              <a:ext cx="1404000" cy="1800"/>
              <a:chOff x="1524240" y="4137120"/>
              <a:chExt cx="1404000" cy="1800"/>
            </a:xfrm>
          </p:grpSpPr>
          <p:cxnSp>
            <p:nvCxnSpPr>
              <p:cNvPr id="693" name="AutoShape 22"/>
              <p:cNvCxnSpPr/>
              <p:nvPr/>
            </p:nvCxnSpPr>
            <p:spPr>
              <a:xfrm>
                <a:off x="1524240" y="4137120"/>
                <a:ext cx="14043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4" name=""/>
              <p:cNvSpPr txBox="1"/>
              <p:nvPr/>
            </p:nvSpPr>
            <p:spPr>
              <a:xfrm>
                <a:off x="1524240" y="4137120"/>
                <a:ext cx="1403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1500120" y="2241720"/>
              <a:ext cx="1426680" cy="1800"/>
              <a:chOff x="1500120" y="2241720"/>
              <a:chExt cx="1426680" cy="1800"/>
            </a:xfrm>
          </p:grpSpPr>
          <p:cxnSp>
            <p:nvCxnSpPr>
              <p:cNvPr id="696" name="AutoShape 21"/>
              <p:cNvCxnSpPr/>
              <p:nvPr/>
            </p:nvCxnSpPr>
            <p:spPr>
              <a:xfrm flipH="1">
                <a:off x="1500120" y="2241720"/>
                <a:ext cx="142704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97" name=""/>
              <p:cNvSpPr txBox="1"/>
              <p:nvPr/>
            </p:nvSpPr>
            <p:spPr>
              <a:xfrm>
                <a:off x="1500480" y="2241720"/>
                <a:ext cx="1426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394920" y="2154600"/>
              <a:ext cx="901800" cy="852120"/>
              <a:chOff x="394920" y="2154600"/>
              <a:chExt cx="901800" cy="852120"/>
            </a:xfrm>
          </p:grpSpPr>
          <p:cxnSp>
            <p:nvCxnSpPr>
              <p:cNvPr id="699" name="AutoShape 20"/>
              <p:cNvCxnSpPr/>
              <p:nvPr/>
            </p:nvCxnSpPr>
            <p:spPr>
              <a:xfrm flipV="1">
                <a:off x="395280" y="2154600"/>
                <a:ext cx="901800" cy="85248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700" name=""/>
              <p:cNvSpPr txBox="1"/>
              <p:nvPr/>
            </p:nvSpPr>
            <p:spPr>
              <a:xfrm rot="10800000">
                <a:off x="394920" y="2154960"/>
                <a:ext cx="901080" cy="85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500120" y="2067480"/>
              <a:ext cx="1458720" cy="3600"/>
              <a:chOff x="1500120" y="2067480"/>
              <a:chExt cx="1458720" cy="3600"/>
            </a:xfrm>
          </p:grpSpPr>
          <p:cxnSp>
            <p:nvCxnSpPr>
              <p:cNvPr id="702" name="AutoShape 19"/>
              <p:cNvCxnSpPr/>
              <p:nvPr/>
            </p:nvCxnSpPr>
            <p:spPr>
              <a:xfrm>
                <a:off x="1500120" y="2067480"/>
                <a:ext cx="1459080" cy="3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703" name=""/>
              <p:cNvSpPr txBox="1"/>
              <p:nvPr/>
            </p:nvSpPr>
            <p:spPr>
              <a:xfrm>
                <a:off x="1500120" y="2067480"/>
                <a:ext cx="1458360" cy="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Oval 18"/>
            <p:cNvSpPr/>
            <p:nvPr/>
          </p:nvSpPr>
          <p:spPr>
            <a:xfrm>
              <a:off x="2928240" y="2064960"/>
              <a:ext cx="186840" cy="199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505800" y="2241720"/>
              <a:ext cx="885960" cy="854280"/>
              <a:chOff x="505800" y="2241720"/>
              <a:chExt cx="885960" cy="854280"/>
            </a:xfrm>
          </p:grpSpPr>
          <p:cxnSp>
            <p:nvCxnSpPr>
              <p:cNvPr id="706" name="AutoShape 17"/>
              <p:cNvCxnSpPr/>
              <p:nvPr/>
            </p:nvCxnSpPr>
            <p:spPr>
              <a:xfrm flipH="1">
                <a:off x="505800" y="2241720"/>
                <a:ext cx="886320" cy="854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07" name=""/>
              <p:cNvSpPr txBox="1"/>
              <p:nvPr/>
            </p:nvSpPr>
            <p:spPr>
              <a:xfrm>
                <a:off x="506160" y="2241720"/>
                <a:ext cx="885600" cy="853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3022560" y="3248280"/>
              <a:ext cx="889560" cy="816120"/>
              <a:chOff x="3022560" y="3248280"/>
              <a:chExt cx="889560" cy="816120"/>
            </a:xfrm>
          </p:grpSpPr>
          <p:cxnSp>
            <p:nvCxnSpPr>
              <p:cNvPr id="709" name="AutoShape 16"/>
              <p:cNvCxnSpPr/>
              <p:nvPr/>
            </p:nvCxnSpPr>
            <p:spPr>
              <a:xfrm flipV="1">
                <a:off x="3022560" y="3248280"/>
                <a:ext cx="889920" cy="816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10" name=""/>
              <p:cNvSpPr txBox="1"/>
              <p:nvPr/>
            </p:nvSpPr>
            <p:spPr>
              <a:xfrm rot="10800000">
                <a:off x="3022560" y="3248640"/>
                <a:ext cx="889200" cy="81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3113640" y="3346560"/>
              <a:ext cx="893880" cy="850680"/>
              <a:chOff x="3113640" y="3346560"/>
              <a:chExt cx="893880" cy="850680"/>
            </a:xfrm>
          </p:grpSpPr>
          <p:cxnSp>
            <p:nvCxnSpPr>
              <p:cNvPr id="712" name="AutoShape 15"/>
              <p:cNvCxnSpPr/>
              <p:nvPr/>
            </p:nvCxnSpPr>
            <p:spPr>
              <a:xfrm flipH="1">
                <a:off x="3113640" y="3346560"/>
                <a:ext cx="894240" cy="851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13" name=""/>
              <p:cNvSpPr txBox="1"/>
              <p:nvPr/>
            </p:nvSpPr>
            <p:spPr>
              <a:xfrm>
                <a:off x="3114000" y="3346560"/>
                <a:ext cx="893520" cy="85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1461960" y="4284360"/>
              <a:ext cx="1428120" cy="1440"/>
              <a:chOff x="1461960" y="4284360"/>
              <a:chExt cx="1428120" cy="1440"/>
            </a:xfrm>
          </p:grpSpPr>
          <p:cxnSp>
            <p:nvCxnSpPr>
              <p:cNvPr id="715" name="AutoShape 14"/>
              <p:cNvCxnSpPr/>
              <p:nvPr/>
            </p:nvCxnSpPr>
            <p:spPr>
              <a:xfrm flipH="1">
                <a:off x="1461960" y="4284360"/>
                <a:ext cx="14284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16" name=""/>
              <p:cNvSpPr txBox="1"/>
              <p:nvPr/>
            </p:nvSpPr>
            <p:spPr>
              <a:xfrm>
                <a:off x="1462320" y="4284360"/>
                <a:ext cx="14277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1376280" y="2241720"/>
              <a:ext cx="1550520" cy="1815480"/>
              <a:chOff x="1376280" y="2241720"/>
              <a:chExt cx="1550520" cy="1815480"/>
            </a:xfrm>
          </p:grpSpPr>
          <p:cxnSp>
            <p:nvCxnSpPr>
              <p:cNvPr id="718" name="AutoShape 13"/>
              <p:cNvCxnSpPr/>
              <p:nvPr/>
            </p:nvCxnSpPr>
            <p:spPr>
              <a:xfrm flipH="1">
                <a:off x="1376280" y="2241720"/>
                <a:ext cx="1550880" cy="181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19" name=""/>
              <p:cNvSpPr txBox="1"/>
              <p:nvPr/>
            </p:nvSpPr>
            <p:spPr>
              <a:xfrm>
                <a:off x="1376640" y="2241720"/>
                <a:ext cx="1550160" cy="181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1499040" y="2274120"/>
              <a:ext cx="1577160" cy="1838160"/>
              <a:chOff x="1499040" y="2274120"/>
              <a:chExt cx="1577160" cy="1838160"/>
            </a:xfrm>
          </p:grpSpPr>
          <p:cxnSp>
            <p:nvCxnSpPr>
              <p:cNvPr id="721" name="AutoShape 12"/>
              <p:cNvCxnSpPr/>
              <p:nvPr/>
            </p:nvCxnSpPr>
            <p:spPr>
              <a:xfrm flipV="1">
                <a:off x="1499040" y="2274120"/>
                <a:ext cx="1577520" cy="183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22" name=""/>
              <p:cNvSpPr txBox="1"/>
              <p:nvPr/>
            </p:nvSpPr>
            <p:spPr>
              <a:xfrm rot="10800000">
                <a:off x="1499040" y="2274120"/>
                <a:ext cx="1576800" cy="183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470240" y="2241000"/>
              <a:ext cx="4320" cy="1826640"/>
              <a:chOff x="1470240" y="2241000"/>
              <a:chExt cx="4320" cy="1826640"/>
            </a:xfrm>
          </p:grpSpPr>
          <p:cxnSp>
            <p:nvCxnSpPr>
              <p:cNvPr id="724" name="AutoShape 11"/>
              <p:cNvCxnSpPr/>
              <p:nvPr/>
            </p:nvCxnSpPr>
            <p:spPr>
              <a:xfrm flipH="1" flipV="1">
                <a:off x="1470240" y="2241000"/>
                <a:ext cx="4680" cy="1827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25" name=""/>
              <p:cNvSpPr txBox="1"/>
              <p:nvPr/>
            </p:nvSpPr>
            <p:spPr>
              <a:xfrm rot="10800000">
                <a:off x="1470240" y="2241000"/>
                <a:ext cx="3960" cy="182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113640" y="2274480"/>
              <a:ext cx="1800" cy="1820520"/>
              <a:chOff x="3113640" y="2274480"/>
              <a:chExt cx="1800" cy="1820520"/>
            </a:xfrm>
          </p:grpSpPr>
          <p:cxnSp>
            <p:nvCxnSpPr>
              <p:cNvPr id="727" name="AutoShape 10"/>
              <p:cNvCxnSpPr/>
              <p:nvPr/>
            </p:nvCxnSpPr>
            <p:spPr>
              <a:xfrm flipH="1" flipV="1">
                <a:off x="3113640" y="2274480"/>
                <a:ext cx="2160" cy="182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28" name=""/>
              <p:cNvSpPr txBox="1"/>
              <p:nvPr/>
            </p:nvSpPr>
            <p:spPr>
              <a:xfrm rot="10800000">
                <a:off x="3114000" y="2274840"/>
                <a:ext cx="1440" cy="1820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338480" y="2241720"/>
              <a:ext cx="1440" cy="1853640"/>
              <a:chOff x="1338480" y="2241720"/>
              <a:chExt cx="1440" cy="1853640"/>
            </a:xfrm>
          </p:grpSpPr>
          <p:cxnSp>
            <p:nvCxnSpPr>
              <p:cNvPr id="730" name="AutoShape 9"/>
              <p:cNvCxnSpPr/>
              <p:nvPr/>
            </p:nvCxnSpPr>
            <p:spPr>
              <a:xfrm>
                <a:off x="1338480" y="2241720"/>
                <a:ext cx="1800" cy="1854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31" name=""/>
              <p:cNvSpPr txBox="1"/>
              <p:nvPr/>
            </p:nvSpPr>
            <p:spPr>
              <a:xfrm>
                <a:off x="1338480" y="2241720"/>
                <a:ext cx="1080" cy="185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2955960" y="2250360"/>
              <a:ext cx="1440" cy="1887840"/>
              <a:chOff x="2955960" y="2250360"/>
              <a:chExt cx="1440" cy="1887840"/>
            </a:xfrm>
          </p:grpSpPr>
          <p:cxnSp>
            <p:nvCxnSpPr>
              <p:cNvPr id="733" name="AutoShape 8"/>
              <p:cNvCxnSpPr/>
              <p:nvPr/>
            </p:nvCxnSpPr>
            <p:spPr>
              <a:xfrm>
                <a:off x="2955960" y="2250360"/>
                <a:ext cx="1800" cy="188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34" name=""/>
              <p:cNvSpPr txBox="1"/>
              <p:nvPr/>
            </p:nvSpPr>
            <p:spPr>
              <a:xfrm>
                <a:off x="2955960" y="2250360"/>
                <a:ext cx="1080" cy="188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Text Box 7"/>
            <p:cNvSpPr/>
            <p:nvPr/>
          </p:nvSpPr>
          <p:spPr>
            <a:xfrm>
              <a:off x="796320" y="1611720"/>
              <a:ext cx="543240" cy="43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1142640" y="2903760"/>
              <a:ext cx="15264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5"/>
            <p:cNvSpPr/>
            <p:nvPr/>
          </p:nvSpPr>
          <p:spPr>
            <a:xfrm>
              <a:off x="2737440" y="2903760"/>
              <a:ext cx="152640" cy="34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4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91"/>
          <p:cNvGrpSpPr/>
          <p:nvPr/>
        </p:nvGrpSpPr>
        <p:grpSpPr>
          <a:xfrm>
            <a:off x="4549680" y="2136600"/>
            <a:ext cx="4087800" cy="3597480"/>
            <a:chOff x="4549680" y="2136600"/>
            <a:chExt cx="4087800" cy="3597480"/>
          </a:xfrm>
        </p:grpSpPr>
        <p:sp>
          <p:nvSpPr>
            <p:cNvPr id="740" name="AutoShape 146"/>
            <p:cNvSpPr/>
            <p:nvPr/>
          </p:nvSpPr>
          <p:spPr>
            <a:xfrm>
              <a:off x="4549680" y="2136600"/>
              <a:ext cx="4087800" cy="35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 Box 145"/>
            <p:cNvSpPr/>
            <p:nvPr/>
          </p:nvSpPr>
          <p:spPr>
            <a:xfrm>
              <a:off x="8092440" y="4007520"/>
              <a:ext cx="5342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144"/>
            <p:cNvSpPr/>
            <p:nvPr/>
          </p:nvSpPr>
          <p:spPr>
            <a:xfrm>
              <a:off x="4617000" y="3901680"/>
              <a:ext cx="357480" cy="40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Text Box 143"/>
            <p:cNvSpPr/>
            <p:nvPr/>
          </p:nvSpPr>
          <p:spPr>
            <a:xfrm>
              <a:off x="5102640" y="4262760"/>
              <a:ext cx="7236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Text Box 142"/>
            <p:cNvSpPr/>
            <p:nvPr/>
          </p:nvSpPr>
          <p:spPr>
            <a:xfrm>
              <a:off x="5361120" y="4964040"/>
              <a:ext cx="49716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 Box 141"/>
            <p:cNvSpPr/>
            <p:nvPr/>
          </p:nvSpPr>
          <p:spPr>
            <a:xfrm>
              <a:off x="5794560" y="4966200"/>
              <a:ext cx="3571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140"/>
            <p:cNvSpPr/>
            <p:nvPr/>
          </p:nvSpPr>
          <p:spPr>
            <a:xfrm>
              <a:off x="7041600" y="2438280"/>
              <a:ext cx="357480" cy="3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139"/>
            <p:cNvSpPr/>
            <p:nvPr/>
          </p:nvSpPr>
          <p:spPr>
            <a:xfrm>
              <a:off x="5809680" y="2533680"/>
              <a:ext cx="357480" cy="40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38"/>
            <p:cNvSpPr/>
            <p:nvPr/>
          </p:nvSpPr>
          <p:spPr>
            <a:xfrm>
              <a:off x="7032240" y="4965120"/>
              <a:ext cx="35748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37"/>
            <p:cNvSpPr/>
            <p:nvPr/>
          </p:nvSpPr>
          <p:spPr>
            <a:xfrm>
              <a:off x="7350480" y="4964040"/>
              <a:ext cx="49824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136"/>
            <p:cNvSpPr/>
            <p:nvPr/>
          </p:nvSpPr>
          <p:spPr>
            <a:xfrm>
              <a:off x="7292160" y="2530080"/>
              <a:ext cx="49860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35"/>
            <p:cNvSpPr/>
            <p:nvPr/>
          </p:nvSpPr>
          <p:spPr>
            <a:xfrm>
              <a:off x="7539120" y="3508920"/>
              <a:ext cx="25164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Text Box 134"/>
            <p:cNvSpPr/>
            <p:nvPr/>
          </p:nvSpPr>
          <p:spPr>
            <a:xfrm>
              <a:off x="7790760" y="3189600"/>
              <a:ext cx="13968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133"/>
            <p:cNvSpPr/>
            <p:nvPr/>
          </p:nvSpPr>
          <p:spPr>
            <a:xfrm>
              <a:off x="7790760" y="4409280"/>
              <a:ext cx="13860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132"/>
            <p:cNvSpPr/>
            <p:nvPr/>
          </p:nvSpPr>
          <p:spPr>
            <a:xfrm>
              <a:off x="7399080" y="3874680"/>
              <a:ext cx="13968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131"/>
            <p:cNvSpPr/>
            <p:nvPr/>
          </p:nvSpPr>
          <p:spPr>
            <a:xfrm>
              <a:off x="6579360" y="4883400"/>
              <a:ext cx="1756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130"/>
            <p:cNvSpPr/>
            <p:nvPr/>
          </p:nvSpPr>
          <p:spPr>
            <a:xfrm>
              <a:off x="6502680" y="4508280"/>
              <a:ext cx="13968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129"/>
            <p:cNvSpPr/>
            <p:nvPr/>
          </p:nvSpPr>
          <p:spPr>
            <a:xfrm>
              <a:off x="6502680" y="3996000"/>
              <a:ext cx="252720" cy="41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28"/>
            <p:cNvSpPr/>
            <p:nvPr/>
          </p:nvSpPr>
          <p:spPr>
            <a:xfrm>
              <a:off x="6362640" y="3582000"/>
              <a:ext cx="23184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27"/>
            <p:cNvSpPr/>
            <p:nvPr/>
          </p:nvSpPr>
          <p:spPr>
            <a:xfrm>
              <a:off x="6362640" y="3013560"/>
              <a:ext cx="13968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26"/>
            <p:cNvSpPr/>
            <p:nvPr/>
          </p:nvSpPr>
          <p:spPr>
            <a:xfrm>
              <a:off x="6439320" y="2617560"/>
              <a:ext cx="13968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25"/>
            <p:cNvSpPr/>
            <p:nvPr/>
          </p:nvSpPr>
          <p:spPr>
            <a:xfrm>
              <a:off x="7652160" y="4090320"/>
              <a:ext cx="13860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124"/>
            <p:cNvSpPr/>
            <p:nvPr/>
          </p:nvSpPr>
          <p:spPr>
            <a:xfrm>
              <a:off x="5922720" y="3698640"/>
              <a:ext cx="13824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23"/>
            <p:cNvSpPr/>
            <p:nvPr/>
          </p:nvSpPr>
          <p:spPr>
            <a:xfrm>
              <a:off x="5390280" y="3405240"/>
              <a:ext cx="13860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22"/>
            <p:cNvSpPr/>
            <p:nvPr/>
          </p:nvSpPr>
          <p:spPr>
            <a:xfrm>
              <a:off x="5175000" y="3189600"/>
              <a:ext cx="13824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121"/>
            <p:cNvSpPr/>
            <p:nvPr/>
          </p:nvSpPr>
          <p:spPr>
            <a:xfrm>
              <a:off x="5361120" y="4090320"/>
              <a:ext cx="13860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20"/>
            <p:cNvSpPr/>
            <p:nvPr/>
          </p:nvSpPr>
          <p:spPr>
            <a:xfrm>
              <a:off x="4549680" y="3390120"/>
              <a:ext cx="49824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19"/>
            <p:cNvSpPr/>
            <p:nvPr/>
          </p:nvSpPr>
          <p:spPr>
            <a:xfrm>
              <a:off x="7965360" y="3404160"/>
              <a:ext cx="49716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8"/>
            <p:cNvSpPr/>
            <p:nvPr/>
          </p:nvSpPr>
          <p:spPr>
            <a:xfrm>
              <a:off x="4870800" y="3807000"/>
              <a:ext cx="174240" cy="1886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7"/>
            <p:cNvSpPr/>
            <p:nvPr/>
          </p:nvSpPr>
          <p:spPr>
            <a:xfrm>
              <a:off x="5784120" y="2919240"/>
              <a:ext cx="172080" cy="1875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6"/>
            <p:cNvSpPr/>
            <p:nvPr/>
          </p:nvSpPr>
          <p:spPr>
            <a:xfrm>
              <a:off x="5784120" y="4775400"/>
              <a:ext cx="173520" cy="1882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15"/>
            <p:cNvSpPr/>
            <p:nvPr/>
          </p:nvSpPr>
          <p:spPr>
            <a:xfrm>
              <a:off x="8165520" y="3901680"/>
              <a:ext cx="171000" cy="18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4"/>
            <p:cNvSpPr/>
            <p:nvPr/>
          </p:nvSpPr>
          <p:spPr>
            <a:xfrm>
              <a:off x="7264440" y="4775400"/>
              <a:ext cx="171000" cy="188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959000" y="4009320"/>
              <a:ext cx="810720" cy="866880"/>
              <a:chOff x="4959000" y="4009320"/>
              <a:chExt cx="810720" cy="866880"/>
            </a:xfrm>
          </p:grpSpPr>
          <p:cxnSp>
            <p:nvCxnSpPr>
              <p:cNvPr id="774" name="AutoShape 113"/>
              <p:cNvCxnSpPr/>
              <p:nvPr/>
            </p:nvCxnSpPr>
            <p:spPr>
              <a:xfrm>
                <a:off x="4959000" y="4009320"/>
                <a:ext cx="811080" cy="8672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775" name=""/>
              <p:cNvSpPr txBox="1"/>
              <p:nvPr/>
            </p:nvSpPr>
            <p:spPr>
              <a:xfrm>
                <a:off x="4959000" y="4009320"/>
                <a:ext cx="810360" cy="86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5045040" y="3901320"/>
              <a:ext cx="813240" cy="873720"/>
              <a:chOff x="5045040" y="3901320"/>
              <a:chExt cx="813240" cy="873720"/>
            </a:xfrm>
          </p:grpSpPr>
          <p:cxnSp>
            <p:nvCxnSpPr>
              <p:cNvPr id="777" name="AutoShape 112"/>
              <p:cNvCxnSpPr/>
              <p:nvPr/>
            </p:nvCxnSpPr>
            <p:spPr>
              <a:xfrm flipH="1" flipV="1">
                <a:off x="5045040" y="3901320"/>
                <a:ext cx="813600" cy="87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78" name=""/>
              <p:cNvSpPr txBox="1"/>
              <p:nvPr/>
            </p:nvSpPr>
            <p:spPr>
              <a:xfrm rot="10800000">
                <a:off x="5045400" y="3901680"/>
                <a:ext cx="812880" cy="87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435080" y="3026160"/>
              <a:ext cx="813240" cy="875160"/>
              <a:chOff x="7435080" y="3026160"/>
              <a:chExt cx="813240" cy="875160"/>
            </a:xfrm>
          </p:grpSpPr>
          <p:cxnSp>
            <p:nvCxnSpPr>
              <p:cNvPr id="780" name="AutoShape 111"/>
              <p:cNvCxnSpPr/>
              <p:nvPr/>
            </p:nvCxnSpPr>
            <p:spPr>
              <a:xfrm flipH="1" flipV="1">
                <a:off x="7435080" y="3026160"/>
                <a:ext cx="813600" cy="87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81" name=""/>
              <p:cNvSpPr txBox="1"/>
              <p:nvPr/>
            </p:nvSpPr>
            <p:spPr>
              <a:xfrm rot="10800000">
                <a:off x="7435440" y="3026520"/>
                <a:ext cx="812880" cy="87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7350480" y="3123360"/>
              <a:ext cx="815400" cy="873000"/>
              <a:chOff x="7350480" y="3123360"/>
              <a:chExt cx="815400" cy="873000"/>
            </a:xfrm>
          </p:grpSpPr>
          <p:cxnSp>
            <p:nvCxnSpPr>
              <p:cNvPr id="783" name="AutoShape 110"/>
              <p:cNvCxnSpPr/>
              <p:nvPr/>
            </p:nvCxnSpPr>
            <p:spPr>
              <a:xfrm>
                <a:off x="7350480" y="3123360"/>
                <a:ext cx="815760" cy="873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84" name=""/>
              <p:cNvSpPr txBox="1"/>
              <p:nvPr/>
            </p:nvSpPr>
            <p:spPr>
              <a:xfrm>
                <a:off x="7350480" y="3123360"/>
                <a:ext cx="815040" cy="87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979600" y="4827240"/>
              <a:ext cx="1284840" cy="1440"/>
              <a:chOff x="5979600" y="4827240"/>
              <a:chExt cx="1284840" cy="1440"/>
            </a:xfrm>
          </p:grpSpPr>
          <p:cxnSp>
            <p:nvCxnSpPr>
              <p:cNvPr id="786" name="AutoShape 109"/>
              <p:cNvCxnSpPr/>
              <p:nvPr/>
            </p:nvCxnSpPr>
            <p:spPr>
              <a:xfrm>
                <a:off x="5979600" y="4827240"/>
                <a:ext cx="12852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87" name=""/>
              <p:cNvSpPr txBox="1"/>
              <p:nvPr/>
            </p:nvSpPr>
            <p:spPr>
              <a:xfrm>
                <a:off x="5979600" y="4827240"/>
                <a:ext cx="12844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5957280" y="3092400"/>
              <a:ext cx="1305720" cy="1440"/>
              <a:chOff x="5957280" y="3092400"/>
              <a:chExt cx="1305720" cy="1440"/>
            </a:xfrm>
          </p:grpSpPr>
          <p:cxnSp>
            <p:nvCxnSpPr>
              <p:cNvPr id="789" name="AutoShape 108"/>
              <p:cNvCxnSpPr/>
              <p:nvPr/>
            </p:nvCxnSpPr>
            <p:spPr>
              <a:xfrm flipH="1">
                <a:off x="5957280" y="3092400"/>
                <a:ext cx="13060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90" name=""/>
              <p:cNvSpPr txBox="1"/>
              <p:nvPr/>
            </p:nvSpPr>
            <p:spPr>
              <a:xfrm>
                <a:off x="5957640" y="3092400"/>
                <a:ext cx="1305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946400" y="3012840"/>
              <a:ext cx="824760" cy="779760"/>
              <a:chOff x="4946400" y="3012840"/>
              <a:chExt cx="824760" cy="779760"/>
            </a:xfrm>
          </p:grpSpPr>
          <p:cxnSp>
            <p:nvCxnSpPr>
              <p:cNvPr id="792" name="AutoShape 107"/>
              <p:cNvCxnSpPr/>
              <p:nvPr/>
            </p:nvCxnSpPr>
            <p:spPr>
              <a:xfrm flipV="1">
                <a:off x="4946400" y="3012840"/>
                <a:ext cx="825120" cy="7801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793" name=""/>
              <p:cNvSpPr txBox="1"/>
              <p:nvPr/>
            </p:nvSpPr>
            <p:spPr>
              <a:xfrm rot="10800000">
                <a:off x="4946400" y="3012840"/>
                <a:ext cx="824400" cy="779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57280" y="2932920"/>
              <a:ext cx="1334880" cy="3600"/>
              <a:chOff x="5957280" y="2932920"/>
              <a:chExt cx="1334880" cy="3600"/>
            </a:xfrm>
          </p:grpSpPr>
          <p:cxnSp>
            <p:nvCxnSpPr>
              <p:cNvPr id="795" name="AutoShape 106"/>
              <p:cNvCxnSpPr/>
              <p:nvPr/>
            </p:nvCxnSpPr>
            <p:spPr>
              <a:xfrm>
                <a:off x="5957280" y="2932920"/>
                <a:ext cx="1335240" cy="39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796" name=""/>
              <p:cNvSpPr txBox="1"/>
              <p:nvPr/>
            </p:nvSpPr>
            <p:spPr>
              <a:xfrm>
                <a:off x="5957280" y="2932920"/>
                <a:ext cx="133452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Oval 105"/>
            <p:cNvSpPr/>
            <p:nvPr/>
          </p:nvSpPr>
          <p:spPr>
            <a:xfrm>
              <a:off x="7264440" y="2930760"/>
              <a:ext cx="171000" cy="1828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5047200" y="3092400"/>
              <a:ext cx="810720" cy="781920"/>
              <a:chOff x="5047200" y="3092400"/>
              <a:chExt cx="810720" cy="781920"/>
            </a:xfrm>
          </p:grpSpPr>
          <p:cxnSp>
            <p:nvCxnSpPr>
              <p:cNvPr id="799" name="AutoShape 104"/>
              <p:cNvCxnSpPr/>
              <p:nvPr/>
            </p:nvCxnSpPr>
            <p:spPr>
              <a:xfrm flipH="1">
                <a:off x="5047200" y="3092400"/>
                <a:ext cx="811080" cy="78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00" name=""/>
              <p:cNvSpPr txBox="1"/>
              <p:nvPr/>
            </p:nvSpPr>
            <p:spPr>
              <a:xfrm>
                <a:off x="5047560" y="3092400"/>
                <a:ext cx="810360" cy="78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7349760" y="4014000"/>
              <a:ext cx="814680" cy="747000"/>
              <a:chOff x="7349760" y="4014000"/>
              <a:chExt cx="814680" cy="747000"/>
            </a:xfrm>
          </p:grpSpPr>
          <p:cxnSp>
            <p:nvCxnSpPr>
              <p:cNvPr id="802" name="AutoShape 103"/>
              <p:cNvCxnSpPr/>
              <p:nvPr/>
            </p:nvCxnSpPr>
            <p:spPr>
              <a:xfrm flipV="1">
                <a:off x="7350120" y="4014000"/>
                <a:ext cx="814680" cy="74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03" name=""/>
              <p:cNvSpPr txBox="1"/>
              <p:nvPr/>
            </p:nvSpPr>
            <p:spPr>
              <a:xfrm rot="10800000">
                <a:off x="7349760" y="4014360"/>
                <a:ext cx="813960" cy="74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433280" y="4104000"/>
              <a:ext cx="817920" cy="778680"/>
              <a:chOff x="7433280" y="4104000"/>
              <a:chExt cx="817920" cy="778680"/>
            </a:xfrm>
          </p:grpSpPr>
          <p:cxnSp>
            <p:nvCxnSpPr>
              <p:cNvPr id="805" name="AutoShape 102"/>
              <p:cNvCxnSpPr/>
              <p:nvPr/>
            </p:nvCxnSpPr>
            <p:spPr>
              <a:xfrm flipH="1">
                <a:off x="7433280" y="4104000"/>
                <a:ext cx="818280" cy="779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06" name=""/>
              <p:cNvSpPr txBox="1"/>
              <p:nvPr/>
            </p:nvSpPr>
            <p:spPr>
              <a:xfrm>
                <a:off x="7433640" y="4104000"/>
                <a:ext cx="817560" cy="77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922000" y="4962960"/>
              <a:ext cx="1306800" cy="1080"/>
              <a:chOff x="5922000" y="4962960"/>
              <a:chExt cx="1306800" cy="1080"/>
            </a:xfrm>
          </p:grpSpPr>
          <p:cxnSp>
            <p:nvCxnSpPr>
              <p:cNvPr id="808" name="AutoShape 101"/>
              <p:cNvCxnSpPr/>
              <p:nvPr/>
            </p:nvCxnSpPr>
            <p:spPr>
              <a:xfrm flipH="1">
                <a:off x="5922000" y="4962960"/>
                <a:ext cx="130716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09" name=""/>
              <p:cNvSpPr txBox="1"/>
              <p:nvPr/>
            </p:nvSpPr>
            <p:spPr>
              <a:xfrm>
                <a:off x="5922360" y="4962960"/>
                <a:ext cx="13064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44240" y="3092400"/>
              <a:ext cx="1418760" cy="1661760"/>
              <a:chOff x="5844240" y="3092400"/>
              <a:chExt cx="1418760" cy="1661760"/>
            </a:xfrm>
          </p:grpSpPr>
          <p:cxnSp>
            <p:nvCxnSpPr>
              <p:cNvPr id="811" name="AutoShape 100"/>
              <p:cNvCxnSpPr/>
              <p:nvPr/>
            </p:nvCxnSpPr>
            <p:spPr>
              <a:xfrm flipH="1">
                <a:off x="5844240" y="3092400"/>
                <a:ext cx="1419120" cy="1662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12" name=""/>
              <p:cNvSpPr txBox="1"/>
              <p:nvPr/>
            </p:nvSpPr>
            <p:spPr>
              <a:xfrm>
                <a:off x="5844600" y="3092400"/>
                <a:ext cx="1418400" cy="16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956200" y="3122640"/>
              <a:ext cx="1443240" cy="1682640"/>
              <a:chOff x="5956200" y="3122640"/>
              <a:chExt cx="1443240" cy="1682640"/>
            </a:xfrm>
          </p:grpSpPr>
          <p:cxnSp>
            <p:nvCxnSpPr>
              <p:cNvPr id="814" name="AutoShape 99"/>
              <p:cNvCxnSpPr/>
              <p:nvPr/>
            </p:nvCxnSpPr>
            <p:spPr>
              <a:xfrm flipV="1">
                <a:off x="5956200" y="3122640"/>
                <a:ext cx="1443600" cy="168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15" name=""/>
              <p:cNvSpPr txBox="1"/>
              <p:nvPr/>
            </p:nvSpPr>
            <p:spPr>
              <a:xfrm rot="10800000">
                <a:off x="5956200" y="3122640"/>
                <a:ext cx="1442880" cy="168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30640" y="3092400"/>
              <a:ext cx="3600" cy="1672200"/>
              <a:chOff x="5930640" y="3092400"/>
              <a:chExt cx="3600" cy="1672200"/>
            </a:xfrm>
          </p:grpSpPr>
          <p:cxnSp>
            <p:nvCxnSpPr>
              <p:cNvPr id="817" name="AutoShape 98"/>
              <p:cNvCxnSpPr/>
              <p:nvPr/>
            </p:nvCxnSpPr>
            <p:spPr>
              <a:xfrm flipH="1" flipV="1">
                <a:off x="5930640" y="3092400"/>
                <a:ext cx="3960" cy="1672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18" name=""/>
              <p:cNvSpPr txBox="1"/>
              <p:nvPr/>
            </p:nvSpPr>
            <p:spPr>
              <a:xfrm rot="10800000">
                <a:off x="5930640" y="3092760"/>
                <a:ext cx="3600" cy="167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7433280" y="3122640"/>
              <a:ext cx="1440" cy="1666080"/>
              <a:chOff x="7433280" y="3122640"/>
              <a:chExt cx="1440" cy="1666080"/>
            </a:xfrm>
          </p:grpSpPr>
          <p:cxnSp>
            <p:nvCxnSpPr>
              <p:cNvPr id="820" name="AutoShape 97"/>
              <p:cNvCxnSpPr/>
              <p:nvPr/>
            </p:nvCxnSpPr>
            <p:spPr>
              <a:xfrm flipH="1" flipV="1">
                <a:off x="7433280" y="3122640"/>
                <a:ext cx="1800" cy="166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21" name=""/>
              <p:cNvSpPr txBox="1"/>
              <p:nvPr/>
            </p:nvSpPr>
            <p:spPr>
              <a:xfrm rot="10800000">
                <a:off x="7433280" y="3122640"/>
                <a:ext cx="1080" cy="166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809680" y="3092760"/>
              <a:ext cx="1080" cy="1696680"/>
              <a:chOff x="5809680" y="3092760"/>
              <a:chExt cx="1080" cy="1696680"/>
            </a:xfrm>
          </p:grpSpPr>
          <p:cxnSp>
            <p:nvCxnSpPr>
              <p:cNvPr id="823" name="AutoShape 96"/>
              <p:cNvCxnSpPr/>
              <p:nvPr/>
            </p:nvCxnSpPr>
            <p:spPr>
              <a:xfrm>
                <a:off x="5809680" y="3092760"/>
                <a:ext cx="1440" cy="1697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24" name=""/>
              <p:cNvSpPr txBox="1"/>
              <p:nvPr/>
            </p:nvSpPr>
            <p:spPr>
              <a:xfrm>
                <a:off x="5809680" y="3092760"/>
                <a:ext cx="720" cy="169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290000" y="3100680"/>
              <a:ext cx="1080" cy="1728000"/>
              <a:chOff x="7290000" y="3100680"/>
              <a:chExt cx="1080" cy="1728000"/>
            </a:xfrm>
          </p:grpSpPr>
          <p:cxnSp>
            <p:nvCxnSpPr>
              <p:cNvPr id="826" name="AutoShape 95"/>
              <p:cNvCxnSpPr/>
              <p:nvPr/>
            </p:nvCxnSpPr>
            <p:spPr>
              <a:xfrm>
                <a:off x="7290000" y="3100680"/>
                <a:ext cx="1440" cy="1728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27" name=""/>
              <p:cNvSpPr txBox="1"/>
              <p:nvPr/>
            </p:nvSpPr>
            <p:spPr>
              <a:xfrm>
                <a:off x="7290000" y="3100680"/>
                <a:ext cx="720" cy="172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Text Box 94"/>
            <p:cNvSpPr/>
            <p:nvPr/>
          </p:nvSpPr>
          <p:spPr>
            <a:xfrm>
              <a:off x="5313240" y="2516400"/>
              <a:ext cx="497160" cy="40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93"/>
            <p:cNvSpPr/>
            <p:nvPr/>
          </p:nvSpPr>
          <p:spPr>
            <a:xfrm>
              <a:off x="5630400" y="3698640"/>
              <a:ext cx="13968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92"/>
            <p:cNvSpPr/>
            <p:nvPr/>
          </p:nvSpPr>
          <p:spPr>
            <a:xfrm>
              <a:off x="7089480" y="3698640"/>
              <a:ext cx="13968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34720" y="274680"/>
            <a:ext cx="8832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мер. Итерация 4. Шаги 1,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6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4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"/>
          <p:cNvGrpSpPr/>
          <p:nvPr/>
        </p:nvGrpSpPr>
        <p:grpSpPr>
          <a:xfrm>
            <a:off x="106200" y="1042920"/>
            <a:ext cx="4446720" cy="3484800"/>
            <a:chOff x="106200" y="1042920"/>
            <a:chExt cx="4446720" cy="3484800"/>
          </a:xfrm>
        </p:grpSpPr>
        <p:sp>
          <p:nvSpPr>
            <p:cNvPr id="836" name="AutoShape 56"/>
            <p:cNvSpPr/>
            <p:nvPr/>
          </p:nvSpPr>
          <p:spPr>
            <a:xfrm>
              <a:off x="106200" y="1042920"/>
              <a:ext cx="444672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Text Box 55"/>
            <p:cNvSpPr/>
            <p:nvPr/>
          </p:nvSpPr>
          <p:spPr>
            <a:xfrm>
              <a:off x="3960000" y="2783160"/>
              <a:ext cx="58140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54"/>
            <p:cNvSpPr/>
            <p:nvPr/>
          </p:nvSpPr>
          <p:spPr>
            <a:xfrm>
              <a:off x="179280" y="2667960"/>
              <a:ext cx="388800" cy="43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53"/>
            <p:cNvSpPr/>
            <p:nvPr/>
          </p:nvSpPr>
          <p:spPr>
            <a:xfrm>
              <a:off x="707760" y="3060720"/>
              <a:ext cx="78480" cy="41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52"/>
            <p:cNvSpPr/>
            <p:nvPr/>
          </p:nvSpPr>
          <p:spPr>
            <a:xfrm>
              <a:off x="988920" y="3823200"/>
              <a:ext cx="5407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Text Box 51"/>
            <p:cNvSpPr/>
            <p:nvPr/>
          </p:nvSpPr>
          <p:spPr>
            <a:xfrm>
              <a:off x="1460520" y="3825720"/>
              <a:ext cx="388440" cy="43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50"/>
            <p:cNvSpPr/>
            <p:nvPr/>
          </p:nvSpPr>
          <p:spPr>
            <a:xfrm>
              <a:off x="2806920" y="1162080"/>
              <a:ext cx="388800" cy="43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49"/>
            <p:cNvSpPr/>
            <p:nvPr/>
          </p:nvSpPr>
          <p:spPr>
            <a:xfrm>
              <a:off x="1476720" y="1180800"/>
              <a:ext cx="388800" cy="43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48"/>
            <p:cNvSpPr/>
            <p:nvPr/>
          </p:nvSpPr>
          <p:spPr>
            <a:xfrm>
              <a:off x="2817000" y="3735720"/>
              <a:ext cx="38880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47"/>
            <p:cNvSpPr/>
            <p:nvPr/>
          </p:nvSpPr>
          <p:spPr>
            <a:xfrm>
              <a:off x="3152880" y="3823200"/>
              <a:ext cx="54180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46"/>
            <p:cNvSpPr/>
            <p:nvPr/>
          </p:nvSpPr>
          <p:spPr>
            <a:xfrm>
              <a:off x="3089160" y="1162080"/>
              <a:ext cx="54216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45"/>
            <p:cNvSpPr/>
            <p:nvPr/>
          </p:nvSpPr>
          <p:spPr>
            <a:xfrm>
              <a:off x="3358080" y="2241360"/>
              <a:ext cx="27360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 Box 44"/>
            <p:cNvSpPr/>
            <p:nvPr/>
          </p:nvSpPr>
          <p:spPr>
            <a:xfrm>
              <a:off x="3631680" y="1893960"/>
              <a:ext cx="1519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3631680" y="3220200"/>
              <a:ext cx="15048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3205800" y="2638800"/>
              <a:ext cx="1519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41"/>
            <p:cNvSpPr/>
            <p:nvPr/>
          </p:nvSpPr>
          <p:spPr>
            <a:xfrm>
              <a:off x="2314080" y="3735720"/>
              <a:ext cx="191160" cy="39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 Box 40"/>
            <p:cNvSpPr/>
            <p:nvPr/>
          </p:nvSpPr>
          <p:spPr>
            <a:xfrm>
              <a:off x="2230560" y="3327840"/>
              <a:ext cx="15192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Text Box 39"/>
            <p:cNvSpPr/>
            <p:nvPr/>
          </p:nvSpPr>
          <p:spPr>
            <a:xfrm>
              <a:off x="2230560" y="2770560"/>
              <a:ext cx="274680" cy="44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38"/>
            <p:cNvSpPr/>
            <p:nvPr/>
          </p:nvSpPr>
          <p:spPr>
            <a:xfrm>
              <a:off x="2078280" y="2320920"/>
              <a:ext cx="25200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37"/>
            <p:cNvSpPr/>
            <p:nvPr/>
          </p:nvSpPr>
          <p:spPr>
            <a:xfrm>
              <a:off x="2078280" y="1702440"/>
              <a:ext cx="1519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36"/>
            <p:cNvSpPr/>
            <p:nvPr/>
          </p:nvSpPr>
          <p:spPr>
            <a:xfrm>
              <a:off x="2161800" y="1271880"/>
              <a:ext cx="15192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Text Box 35"/>
            <p:cNvSpPr/>
            <p:nvPr/>
          </p:nvSpPr>
          <p:spPr>
            <a:xfrm>
              <a:off x="3480840" y="2873160"/>
              <a:ext cx="15048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 Box 34"/>
            <p:cNvSpPr/>
            <p:nvPr/>
          </p:nvSpPr>
          <p:spPr>
            <a:xfrm>
              <a:off x="1599840" y="2447640"/>
              <a:ext cx="15048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 Box 33"/>
            <p:cNvSpPr/>
            <p:nvPr/>
          </p:nvSpPr>
          <p:spPr>
            <a:xfrm>
              <a:off x="1020600" y="2128320"/>
              <a:ext cx="150480" cy="34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32"/>
            <p:cNvSpPr/>
            <p:nvPr/>
          </p:nvSpPr>
          <p:spPr>
            <a:xfrm>
              <a:off x="786240" y="1893960"/>
              <a:ext cx="15048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31"/>
            <p:cNvSpPr/>
            <p:nvPr/>
          </p:nvSpPr>
          <p:spPr>
            <a:xfrm>
              <a:off x="988920" y="2873160"/>
              <a:ext cx="150480" cy="3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Text Box 30"/>
            <p:cNvSpPr/>
            <p:nvPr/>
          </p:nvSpPr>
          <p:spPr>
            <a:xfrm>
              <a:off x="106200" y="2112120"/>
              <a:ext cx="54180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3821760" y="2127240"/>
              <a:ext cx="54072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8"/>
            <p:cNvSpPr/>
            <p:nvPr/>
          </p:nvSpPr>
          <p:spPr>
            <a:xfrm>
              <a:off x="455760" y="2565360"/>
              <a:ext cx="189720" cy="20520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1449000" y="1600200"/>
              <a:ext cx="187200" cy="2037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1449000" y="3618000"/>
              <a:ext cx="188640" cy="2048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5"/>
            <p:cNvSpPr/>
            <p:nvPr/>
          </p:nvSpPr>
          <p:spPr>
            <a:xfrm>
              <a:off x="4039560" y="2667960"/>
              <a:ext cx="186120" cy="204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3059280" y="3618000"/>
              <a:ext cx="186120" cy="204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51520" y="2786040"/>
              <a:ext cx="882000" cy="952920"/>
              <a:chOff x="551520" y="2786040"/>
              <a:chExt cx="882000" cy="952920"/>
            </a:xfrm>
          </p:grpSpPr>
          <p:cxnSp>
            <p:nvCxnSpPr>
              <p:cNvPr id="870" name="AutoShape 23"/>
              <p:cNvCxnSpPr/>
              <p:nvPr/>
            </p:nvCxnSpPr>
            <p:spPr>
              <a:xfrm>
                <a:off x="551520" y="2786040"/>
                <a:ext cx="882360" cy="95328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871" name=""/>
              <p:cNvSpPr txBox="1"/>
              <p:nvPr/>
            </p:nvSpPr>
            <p:spPr>
              <a:xfrm>
                <a:off x="551520" y="2786040"/>
                <a:ext cx="881640" cy="95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645120" y="2667600"/>
              <a:ext cx="884520" cy="950040"/>
              <a:chOff x="645120" y="2667600"/>
              <a:chExt cx="884520" cy="950040"/>
            </a:xfrm>
          </p:grpSpPr>
          <p:cxnSp>
            <p:nvCxnSpPr>
              <p:cNvPr id="873" name="AutoShape 22"/>
              <p:cNvCxnSpPr/>
              <p:nvPr/>
            </p:nvCxnSpPr>
            <p:spPr>
              <a:xfrm flipH="1" flipV="1">
                <a:off x="645120" y="2667600"/>
                <a:ext cx="884880" cy="95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74" name=""/>
              <p:cNvSpPr txBox="1"/>
              <p:nvPr/>
            </p:nvSpPr>
            <p:spPr>
              <a:xfrm rot="10800000">
                <a:off x="645480" y="2667960"/>
                <a:ext cx="884160" cy="94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3245040" y="1716480"/>
              <a:ext cx="884520" cy="951480"/>
              <a:chOff x="3245040" y="1716480"/>
              <a:chExt cx="884520" cy="951480"/>
            </a:xfrm>
          </p:grpSpPr>
          <p:cxnSp>
            <p:nvCxnSpPr>
              <p:cNvPr id="876" name="AutoShape 21"/>
              <p:cNvCxnSpPr/>
              <p:nvPr/>
            </p:nvCxnSpPr>
            <p:spPr>
              <a:xfrm flipH="1" flipV="1">
                <a:off x="3245040" y="1716480"/>
                <a:ext cx="884880" cy="951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77" name=""/>
              <p:cNvSpPr txBox="1"/>
              <p:nvPr/>
            </p:nvSpPr>
            <p:spPr>
              <a:xfrm rot="10800000">
                <a:off x="3245400" y="1716840"/>
                <a:ext cx="884160" cy="95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3152520" y="1821600"/>
              <a:ext cx="887040" cy="948960"/>
              <a:chOff x="3152520" y="1821600"/>
              <a:chExt cx="887040" cy="948960"/>
            </a:xfrm>
          </p:grpSpPr>
          <p:cxnSp>
            <p:nvCxnSpPr>
              <p:cNvPr id="879" name="AutoShape 20"/>
              <p:cNvCxnSpPr/>
              <p:nvPr/>
            </p:nvCxnSpPr>
            <p:spPr>
              <a:xfrm>
                <a:off x="3152520" y="1821600"/>
                <a:ext cx="887400" cy="94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880" name=""/>
              <p:cNvSpPr txBox="1"/>
              <p:nvPr/>
            </p:nvSpPr>
            <p:spPr>
              <a:xfrm>
                <a:off x="3152520" y="1821600"/>
                <a:ext cx="886680" cy="94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1661400" y="3674520"/>
              <a:ext cx="1397520" cy="1440"/>
              <a:chOff x="1661400" y="3674520"/>
              <a:chExt cx="1397520" cy="1440"/>
            </a:xfrm>
          </p:grpSpPr>
          <p:cxnSp>
            <p:nvCxnSpPr>
              <p:cNvPr id="882" name="AutoShape 19"/>
              <p:cNvCxnSpPr/>
              <p:nvPr/>
            </p:nvCxnSpPr>
            <p:spPr>
              <a:xfrm>
                <a:off x="1661400" y="3674520"/>
                <a:ext cx="13978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83" name=""/>
              <p:cNvSpPr txBox="1"/>
              <p:nvPr/>
            </p:nvSpPr>
            <p:spPr>
              <a:xfrm>
                <a:off x="1661400" y="3674520"/>
                <a:ext cx="1397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1637280" y="1788480"/>
              <a:ext cx="1420200" cy="1440"/>
              <a:chOff x="1637280" y="1788480"/>
              <a:chExt cx="1420200" cy="1440"/>
            </a:xfrm>
          </p:grpSpPr>
          <p:cxnSp>
            <p:nvCxnSpPr>
              <p:cNvPr id="885" name="AutoShape 18"/>
              <p:cNvCxnSpPr/>
              <p:nvPr/>
            </p:nvCxnSpPr>
            <p:spPr>
              <a:xfrm flipH="1">
                <a:off x="1637280" y="1788480"/>
                <a:ext cx="142056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86" name=""/>
              <p:cNvSpPr txBox="1"/>
              <p:nvPr/>
            </p:nvSpPr>
            <p:spPr>
              <a:xfrm>
                <a:off x="1637640" y="1788480"/>
                <a:ext cx="14198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37120" y="1702080"/>
              <a:ext cx="897480" cy="847800"/>
              <a:chOff x="537120" y="1702080"/>
              <a:chExt cx="897480" cy="847800"/>
            </a:xfrm>
          </p:grpSpPr>
          <p:cxnSp>
            <p:nvCxnSpPr>
              <p:cNvPr id="888" name="AutoShape 17"/>
              <p:cNvCxnSpPr/>
              <p:nvPr/>
            </p:nvCxnSpPr>
            <p:spPr>
              <a:xfrm flipV="1">
                <a:off x="537480" y="1702080"/>
                <a:ext cx="897480" cy="8481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889" name=""/>
              <p:cNvSpPr txBox="1"/>
              <p:nvPr/>
            </p:nvSpPr>
            <p:spPr>
              <a:xfrm rot="10800000">
                <a:off x="537120" y="1702440"/>
                <a:ext cx="896760" cy="84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1637640" y="1615320"/>
              <a:ext cx="1451880" cy="3600"/>
              <a:chOff x="1637640" y="1615320"/>
              <a:chExt cx="1451880" cy="3600"/>
            </a:xfrm>
          </p:grpSpPr>
          <p:cxnSp>
            <p:nvCxnSpPr>
              <p:cNvPr id="891" name="AutoShape 16"/>
              <p:cNvCxnSpPr/>
              <p:nvPr/>
            </p:nvCxnSpPr>
            <p:spPr>
              <a:xfrm>
                <a:off x="1637640" y="1615320"/>
                <a:ext cx="1452240" cy="39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892" name=""/>
              <p:cNvSpPr txBox="1"/>
              <p:nvPr/>
            </p:nvSpPr>
            <p:spPr>
              <a:xfrm>
                <a:off x="1637640" y="1615320"/>
                <a:ext cx="1451520" cy="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Oval 15"/>
            <p:cNvSpPr/>
            <p:nvPr/>
          </p:nvSpPr>
          <p:spPr>
            <a:xfrm>
              <a:off x="3059280" y="1612800"/>
              <a:ext cx="186120" cy="1987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647280" y="1788480"/>
              <a:ext cx="882000" cy="850320"/>
              <a:chOff x="647280" y="1788480"/>
              <a:chExt cx="882000" cy="850320"/>
            </a:xfrm>
          </p:grpSpPr>
          <p:cxnSp>
            <p:nvCxnSpPr>
              <p:cNvPr id="895" name="AutoShape 14"/>
              <p:cNvCxnSpPr/>
              <p:nvPr/>
            </p:nvCxnSpPr>
            <p:spPr>
              <a:xfrm flipH="1">
                <a:off x="647280" y="1788480"/>
                <a:ext cx="882360" cy="850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96" name=""/>
              <p:cNvSpPr txBox="1"/>
              <p:nvPr/>
            </p:nvSpPr>
            <p:spPr>
              <a:xfrm>
                <a:off x="647640" y="1788480"/>
                <a:ext cx="881640" cy="84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3152160" y="2795760"/>
              <a:ext cx="885960" cy="808200"/>
              <a:chOff x="3152160" y="2795760"/>
              <a:chExt cx="885960" cy="808200"/>
            </a:xfrm>
          </p:grpSpPr>
          <p:cxnSp>
            <p:nvCxnSpPr>
              <p:cNvPr id="898" name="AutoShape 13"/>
              <p:cNvCxnSpPr/>
              <p:nvPr/>
            </p:nvCxnSpPr>
            <p:spPr>
              <a:xfrm flipV="1">
                <a:off x="3152520" y="2795760"/>
                <a:ext cx="885960" cy="808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99" name=""/>
              <p:cNvSpPr txBox="1"/>
              <p:nvPr/>
            </p:nvSpPr>
            <p:spPr>
              <a:xfrm rot="10800000">
                <a:off x="3152160" y="2796120"/>
                <a:ext cx="885240" cy="80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3243600" y="2888280"/>
              <a:ext cx="889560" cy="846360"/>
              <a:chOff x="3243600" y="2888280"/>
              <a:chExt cx="889560" cy="846360"/>
            </a:xfrm>
          </p:grpSpPr>
          <p:cxnSp>
            <p:nvCxnSpPr>
              <p:cNvPr id="901" name="AutoShape 12"/>
              <p:cNvCxnSpPr/>
              <p:nvPr/>
            </p:nvCxnSpPr>
            <p:spPr>
              <a:xfrm flipH="1">
                <a:off x="3243600" y="2888280"/>
                <a:ext cx="889920" cy="846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2" name=""/>
              <p:cNvSpPr txBox="1"/>
              <p:nvPr/>
            </p:nvSpPr>
            <p:spPr>
              <a:xfrm>
                <a:off x="3243960" y="2888280"/>
                <a:ext cx="889200" cy="84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599120" y="3821760"/>
              <a:ext cx="1421280" cy="1440"/>
              <a:chOff x="1599120" y="3821760"/>
              <a:chExt cx="1421280" cy="1440"/>
            </a:xfrm>
          </p:grpSpPr>
          <p:cxnSp>
            <p:nvCxnSpPr>
              <p:cNvPr id="904" name="AutoShape 11"/>
              <p:cNvCxnSpPr/>
              <p:nvPr/>
            </p:nvCxnSpPr>
            <p:spPr>
              <a:xfrm flipH="1">
                <a:off x="1599120" y="3821760"/>
                <a:ext cx="14216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5" name=""/>
              <p:cNvSpPr txBox="1"/>
              <p:nvPr/>
            </p:nvSpPr>
            <p:spPr>
              <a:xfrm>
                <a:off x="1599480" y="3821760"/>
                <a:ext cx="1420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1514160" y="1788840"/>
              <a:ext cx="1543320" cy="1806840"/>
              <a:chOff x="1514160" y="1788840"/>
              <a:chExt cx="1543320" cy="1806840"/>
            </a:xfrm>
          </p:grpSpPr>
          <p:cxnSp>
            <p:nvCxnSpPr>
              <p:cNvPr id="907" name="AutoShape 10"/>
              <p:cNvCxnSpPr/>
              <p:nvPr/>
            </p:nvCxnSpPr>
            <p:spPr>
              <a:xfrm flipH="1">
                <a:off x="1514160" y="1788840"/>
                <a:ext cx="1543680" cy="1807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8" name=""/>
              <p:cNvSpPr txBox="1"/>
              <p:nvPr/>
            </p:nvSpPr>
            <p:spPr>
              <a:xfrm>
                <a:off x="1514520" y="1788840"/>
                <a:ext cx="1542960" cy="180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1636200" y="1821240"/>
              <a:ext cx="1569960" cy="1829520"/>
              <a:chOff x="1636200" y="1821240"/>
              <a:chExt cx="1569960" cy="1829520"/>
            </a:xfrm>
          </p:grpSpPr>
          <p:cxnSp>
            <p:nvCxnSpPr>
              <p:cNvPr id="910" name="AutoShape 9"/>
              <p:cNvCxnSpPr/>
              <p:nvPr/>
            </p:nvCxnSpPr>
            <p:spPr>
              <a:xfrm flipV="1">
                <a:off x="1636200" y="1821240"/>
                <a:ext cx="1570320" cy="182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1" name=""/>
              <p:cNvSpPr txBox="1"/>
              <p:nvPr/>
            </p:nvSpPr>
            <p:spPr>
              <a:xfrm rot="10800000">
                <a:off x="1636200" y="1821240"/>
                <a:ext cx="1569600" cy="182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607400" y="1788480"/>
              <a:ext cx="4320" cy="1815480"/>
              <a:chOff x="1607400" y="1788480"/>
              <a:chExt cx="4320" cy="1815480"/>
            </a:xfrm>
          </p:grpSpPr>
          <p:cxnSp>
            <p:nvCxnSpPr>
              <p:cNvPr id="913" name="AutoShape 8"/>
              <p:cNvCxnSpPr/>
              <p:nvPr/>
            </p:nvCxnSpPr>
            <p:spPr>
              <a:xfrm flipH="1" flipV="1">
                <a:off x="1607400" y="1788480"/>
                <a:ext cx="4680" cy="181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4" name=""/>
              <p:cNvSpPr txBox="1"/>
              <p:nvPr/>
            </p:nvSpPr>
            <p:spPr>
              <a:xfrm rot="10800000">
                <a:off x="1607400" y="1788840"/>
                <a:ext cx="3960" cy="181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243240" y="1821600"/>
              <a:ext cx="1440" cy="1811880"/>
              <a:chOff x="3243240" y="1821600"/>
              <a:chExt cx="1440" cy="1811880"/>
            </a:xfrm>
          </p:grpSpPr>
          <p:cxnSp>
            <p:nvCxnSpPr>
              <p:cNvPr id="916" name="AutoShape 7"/>
              <p:cNvCxnSpPr/>
              <p:nvPr/>
            </p:nvCxnSpPr>
            <p:spPr>
              <a:xfrm flipH="1" flipV="1">
                <a:off x="3243240" y="1821600"/>
                <a:ext cx="1800" cy="181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7" name=""/>
              <p:cNvSpPr txBox="1"/>
              <p:nvPr/>
            </p:nvSpPr>
            <p:spPr>
              <a:xfrm rot="10800000">
                <a:off x="3243240" y="1821960"/>
                <a:ext cx="1080" cy="18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1476360" y="1788480"/>
              <a:ext cx="1440" cy="1844640"/>
              <a:chOff x="1476360" y="1788480"/>
              <a:chExt cx="1440" cy="1844640"/>
            </a:xfrm>
          </p:grpSpPr>
          <p:cxnSp>
            <p:nvCxnSpPr>
              <p:cNvPr id="919" name="AutoShape 6"/>
              <p:cNvCxnSpPr/>
              <p:nvPr/>
            </p:nvCxnSpPr>
            <p:spPr>
              <a:xfrm>
                <a:off x="1476360" y="1788480"/>
                <a:ext cx="1800" cy="184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20" name=""/>
              <p:cNvSpPr txBox="1"/>
              <p:nvPr/>
            </p:nvSpPr>
            <p:spPr>
              <a:xfrm>
                <a:off x="1476360" y="1788480"/>
                <a:ext cx="1080" cy="184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3086640" y="1797840"/>
              <a:ext cx="1440" cy="1873800"/>
              <a:chOff x="3086640" y="1797840"/>
              <a:chExt cx="1440" cy="1873800"/>
            </a:xfrm>
          </p:grpSpPr>
          <p:cxnSp>
            <p:nvCxnSpPr>
              <p:cNvPr id="922" name="AutoShape 5"/>
              <p:cNvCxnSpPr/>
              <p:nvPr/>
            </p:nvCxnSpPr>
            <p:spPr>
              <a:xfrm>
                <a:off x="3086640" y="1797840"/>
                <a:ext cx="1800" cy="18741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923" name=""/>
              <p:cNvSpPr txBox="1"/>
              <p:nvPr/>
            </p:nvSpPr>
            <p:spPr>
              <a:xfrm>
                <a:off x="3086640" y="1797840"/>
                <a:ext cx="1080" cy="187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Text Box 4"/>
            <p:cNvSpPr/>
            <p:nvPr/>
          </p:nvSpPr>
          <p:spPr>
            <a:xfrm>
              <a:off x="936720" y="1162080"/>
              <a:ext cx="54072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"/>
            <p:cNvSpPr/>
            <p:nvPr/>
          </p:nvSpPr>
          <p:spPr>
            <a:xfrm>
              <a:off x="1281600" y="2447640"/>
              <a:ext cx="1519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"/>
            <p:cNvSpPr/>
            <p:nvPr/>
          </p:nvSpPr>
          <p:spPr>
            <a:xfrm>
              <a:off x="2868840" y="2447640"/>
              <a:ext cx="151920" cy="34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Rectangle 88"/>
          <p:cNvSpPr/>
          <p:nvPr/>
        </p:nvSpPr>
        <p:spPr>
          <a:xfrm>
            <a:off x="0" y="27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4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89"/>
          <p:cNvGrpSpPr/>
          <p:nvPr/>
        </p:nvGrpSpPr>
        <p:grpSpPr>
          <a:xfrm>
            <a:off x="4427640" y="2917800"/>
            <a:ext cx="4324320" cy="3387600"/>
            <a:chOff x="4427640" y="2917800"/>
            <a:chExt cx="4324320" cy="3387600"/>
          </a:xfrm>
        </p:grpSpPr>
        <p:sp>
          <p:nvSpPr>
            <p:cNvPr id="930" name="AutoShape 144"/>
            <p:cNvSpPr/>
            <p:nvPr/>
          </p:nvSpPr>
          <p:spPr>
            <a:xfrm>
              <a:off x="4427640" y="2917800"/>
              <a:ext cx="4324320" cy="33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143"/>
            <p:cNvSpPr/>
            <p:nvPr/>
          </p:nvSpPr>
          <p:spPr>
            <a:xfrm>
              <a:off x="8238240" y="4711680"/>
              <a:ext cx="440640" cy="5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142"/>
            <p:cNvSpPr/>
            <p:nvPr/>
          </p:nvSpPr>
          <p:spPr>
            <a:xfrm>
              <a:off x="4498560" y="4497840"/>
              <a:ext cx="37800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41"/>
            <p:cNvSpPr/>
            <p:nvPr/>
          </p:nvSpPr>
          <p:spPr>
            <a:xfrm>
              <a:off x="5012640" y="4879440"/>
              <a:ext cx="76320" cy="40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140"/>
            <p:cNvSpPr/>
            <p:nvPr/>
          </p:nvSpPr>
          <p:spPr>
            <a:xfrm>
              <a:off x="5285880" y="5620680"/>
              <a:ext cx="52596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139"/>
            <p:cNvSpPr/>
            <p:nvPr/>
          </p:nvSpPr>
          <p:spPr>
            <a:xfrm>
              <a:off x="5744520" y="5623200"/>
              <a:ext cx="378000" cy="42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138"/>
            <p:cNvSpPr/>
            <p:nvPr/>
          </p:nvSpPr>
          <p:spPr>
            <a:xfrm>
              <a:off x="7053840" y="3033360"/>
              <a:ext cx="378000" cy="41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137"/>
            <p:cNvSpPr/>
            <p:nvPr/>
          </p:nvSpPr>
          <p:spPr>
            <a:xfrm>
              <a:off x="5760360" y="3052080"/>
              <a:ext cx="37800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36"/>
            <p:cNvSpPr/>
            <p:nvPr/>
          </p:nvSpPr>
          <p:spPr>
            <a:xfrm>
              <a:off x="7063920" y="5619600"/>
              <a:ext cx="378000" cy="42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35"/>
            <p:cNvSpPr/>
            <p:nvPr/>
          </p:nvSpPr>
          <p:spPr>
            <a:xfrm>
              <a:off x="7390440" y="5620680"/>
              <a:ext cx="52704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34"/>
            <p:cNvSpPr/>
            <p:nvPr/>
          </p:nvSpPr>
          <p:spPr>
            <a:xfrm>
              <a:off x="7328520" y="3033360"/>
              <a:ext cx="52740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33"/>
            <p:cNvSpPr/>
            <p:nvPr/>
          </p:nvSpPr>
          <p:spPr>
            <a:xfrm>
              <a:off x="7589880" y="4082760"/>
              <a:ext cx="266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132"/>
            <p:cNvSpPr/>
            <p:nvPr/>
          </p:nvSpPr>
          <p:spPr>
            <a:xfrm>
              <a:off x="7856280" y="3745080"/>
              <a:ext cx="147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131"/>
            <p:cNvSpPr/>
            <p:nvPr/>
          </p:nvSpPr>
          <p:spPr>
            <a:xfrm>
              <a:off x="7856280" y="5034240"/>
              <a:ext cx="146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130"/>
            <p:cNvSpPr/>
            <p:nvPr/>
          </p:nvSpPr>
          <p:spPr>
            <a:xfrm>
              <a:off x="7441920" y="4469040"/>
              <a:ext cx="147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129"/>
            <p:cNvSpPr/>
            <p:nvPr/>
          </p:nvSpPr>
          <p:spPr>
            <a:xfrm>
              <a:off x="6574680" y="5535720"/>
              <a:ext cx="18576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128"/>
            <p:cNvSpPr/>
            <p:nvPr/>
          </p:nvSpPr>
          <p:spPr>
            <a:xfrm>
              <a:off x="6493680" y="5139000"/>
              <a:ext cx="147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127"/>
            <p:cNvSpPr/>
            <p:nvPr/>
          </p:nvSpPr>
          <p:spPr>
            <a:xfrm>
              <a:off x="6493680" y="4597200"/>
              <a:ext cx="26712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26"/>
            <p:cNvSpPr/>
            <p:nvPr/>
          </p:nvSpPr>
          <p:spPr>
            <a:xfrm>
              <a:off x="6345360" y="4160160"/>
              <a:ext cx="245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25"/>
            <p:cNvSpPr/>
            <p:nvPr/>
          </p:nvSpPr>
          <p:spPr>
            <a:xfrm>
              <a:off x="6345360" y="3558960"/>
              <a:ext cx="147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24"/>
            <p:cNvSpPr/>
            <p:nvPr/>
          </p:nvSpPr>
          <p:spPr>
            <a:xfrm>
              <a:off x="6426720" y="3140640"/>
              <a:ext cx="147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123"/>
            <p:cNvSpPr/>
            <p:nvPr/>
          </p:nvSpPr>
          <p:spPr>
            <a:xfrm>
              <a:off x="7709400" y="4696920"/>
              <a:ext cx="146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122"/>
            <p:cNvSpPr/>
            <p:nvPr/>
          </p:nvSpPr>
          <p:spPr>
            <a:xfrm>
              <a:off x="5879880" y="4283280"/>
              <a:ext cx="146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121"/>
            <p:cNvSpPr/>
            <p:nvPr/>
          </p:nvSpPr>
          <p:spPr>
            <a:xfrm>
              <a:off x="5316840" y="3972960"/>
              <a:ext cx="1465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120"/>
            <p:cNvSpPr/>
            <p:nvPr/>
          </p:nvSpPr>
          <p:spPr>
            <a:xfrm>
              <a:off x="5088960" y="3745080"/>
              <a:ext cx="146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119"/>
            <p:cNvSpPr/>
            <p:nvPr/>
          </p:nvSpPr>
          <p:spPr>
            <a:xfrm>
              <a:off x="5285880" y="4696920"/>
              <a:ext cx="14652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118"/>
            <p:cNvSpPr/>
            <p:nvPr/>
          </p:nvSpPr>
          <p:spPr>
            <a:xfrm>
              <a:off x="4427640" y="3957120"/>
              <a:ext cx="527040" cy="42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117"/>
            <p:cNvSpPr/>
            <p:nvPr/>
          </p:nvSpPr>
          <p:spPr>
            <a:xfrm>
              <a:off x="8040960" y="3971880"/>
              <a:ext cx="52596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116"/>
            <p:cNvSpPr/>
            <p:nvPr/>
          </p:nvSpPr>
          <p:spPr>
            <a:xfrm>
              <a:off x="4767480" y="4397760"/>
              <a:ext cx="184320" cy="1994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15"/>
            <p:cNvSpPr/>
            <p:nvPr/>
          </p:nvSpPr>
          <p:spPr>
            <a:xfrm>
              <a:off x="5733360" y="3459240"/>
              <a:ext cx="182160" cy="19800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14"/>
            <p:cNvSpPr/>
            <p:nvPr/>
          </p:nvSpPr>
          <p:spPr>
            <a:xfrm>
              <a:off x="5733360" y="5421240"/>
              <a:ext cx="183240" cy="1990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113"/>
            <p:cNvSpPr/>
            <p:nvPr/>
          </p:nvSpPr>
          <p:spPr>
            <a:xfrm>
              <a:off x="8253000" y="4497840"/>
              <a:ext cx="180720" cy="19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112"/>
            <p:cNvSpPr/>
            <p:nvPr/>
          </p:nvSpPr>
          <p:spPr>
            <a:xfrm>
              <a:off x="7299360" y="5421240"/>
              <a:ext cx="180720" cy="1990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860720" y="4612320"/>
              <a:ext cx="857520" cy="926280"/>
              <a:chOff x="4860720" y="4612320"/>
              <a:chExt cx="857520" cy="926280"/>
            </a:xfrm>
          </p:grpSpPr>
          <p:cxnSp>
            <p:nvCxnSpPr>
              <p:cNvPr id="964" name="AutoShape 111"/>
              <p:cNvCxnSpPr/>
              <p:nvPr/>
            </p:nvCxnSpPr>
            <p:spPr>
              <a:xfrm>
                <a:off x="4860720" y="4612320"/>
                <a:ext cx="857880" cy="9266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965" name=""/>
              <p:cNvSpPr txBox="1"/>
              <p:nvPr/>
            </p:nvSpPr>
            <p:spPr>
              <a:xfrm>
                <a:off x="4860720" y="4612320"/>
                <a:ext cx="857160" cy="92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951800" y="4497120"/>
              <a:ext cx="860040" cy="924120"/>
              <a:chOff x="4951800" y="4497120"/>
              <a:chExt cx="860040" cy="924120"/>
            </a:xfrm>
          </p:grpSpPr>
          <p:cxnSp>
            <p:nvCxnSpPr>
              <p:cNvPr id="967" name="AutoShape 110"/>
              <p:cNvCxnSpPr/>
              <p:nvPr/>
            </p:nvCxnSpPr>
            <p:spPr>
              <a:xfrm flipH="1" flipV="1">
                <a:off x="4951800" y="4497120"/>
                <a:ext cx="860400" cy="924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68" name=""/>
              <p:cNvSpPr txBox="1"/>
              <p:nvPr/>
            </p:nvSpPr>
            <p:spPr>
              <a:xfrm rot="10800000">
                <a:off x="4952160" y="4497840"/>
                <a:ext cx="859680" cy="923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7480080" y="3571920"/>
              <a:ext cx="860040" cy="925560"/>
              <a:chOff x="7480080" y="3571920"/>
              <a:chExt cx="860040" cy="925560"/>
            </a:xfrm>
          </p:grpSpPr>
          <p:cxnSp>
            <p:nvCxnSpPr>
              <p:cNvPr id="970" name="AutoShape 109"/>
              <p:cNvCxnSpPr/>
              <p:nvPr/>
            </p:nvCxnSpPr>
            <p:spPr>
              <a:xfrm flipH="1" flipV="1">
                <a:off x="7480080" y="3571920"/>
                <a:ext cx="860400" cy="9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71" name=""/>
              <p:cNvSpPr txBox="1"/>
              <p:nvPr/>
            </p:nvSpPr>
            <p:spPr>
              <a:xfrm rot="10800000">
                <a:off x="7480440" y="3572640"/>
                <a:ext cx="859680" cy="92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7390080" y="3674880"/>
              <a:ext cx="862560" cy="922680"/>
              <a:chOff x="7390080" y="3674880"/>
              <a:chExt cx="862560" cy="922680"/>
            </a:xfrm>
          </p:grpSpPr>
          <p:cxnSp>
            <p:nvCxnSpPr>
              <p:cNvPr id="973" name="AutoShape 108"/>
              <p:cNvCxnSpPr/>
              <p:nvPr/>
            </p:nvCxnSpPr>
            <p:spPr>
              <a:xfrm>
                <a:off x="7390080" y="3674880"/>
                <a:ext cx="862920" cy="923040"/>
              </a:xfrm>
              <a:prstGeom prst="straightConnector1">
                <a:avLst/>
              </a:prstGeom>
              <a:ln w="9360">
                <a:solidFill>
                  <a:srgbClr val="0d0d0d"/>
                </a:solidFill>
                <a:miter/>
                <a:tailEnd len="med" type="triangle" w="med"/>
              </a:ln>
            </p:spPr>
          </p:cxnSp>
          <p:sp>
            <p:nvSpPr>
              <p:cNvPr id="974" name=""/>
              <p:cNvSpPr txBox="1"/>
              <p:nvPr/>
            </p:nvSpPr>
            <p:spPr>
              <a:xfrm>
                <a:off x="7390080" y="3674880"/>
                <a:ext cx="862200" cy="92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5940360" y="5475960"/>
              <a:ext cx="1359000" cy="1440"/>
              <a:chOff x="5940360" y="5475960"/>
              <a:chExt cx="1359000" cy="1440"/>
            </a:xfrm>
          </p:grpSpPr>
          <p:cxnSp>
            <p:nvCxnSpPr>
              <p:cNvPr id="976" name="AutoShape 107"/>
              <p:cNvCxnSpPr/>
              <p:nvPr/>
            </p:nvCxnSpPr>
            <p:spPr>
              <a:xfrm>
                <a:off x="5940360" y="5475960"/>
                <a:ext cx="135936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77" name=""/>
              <p:cNvSpPr txBox="1"/>
              <p:nvPr/>
            </p:nvSpPr>
            <p:spPr>
              <a:xfrm>
                <a:off x="5940360" y="5475960"/>
                <a:ext cx="13586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5916600" y="3642480"/>
              <a:ext cx="1381320" cy="1440"/>
              <a:chOff x="5916600" y="3642480"/>
              <a:chExt cx="1381320" cy="1440"/>
            </a:xfrm>
          </p:grpSpPr>
          <p:cxnSp>
            <p:nvCxnSpPr>
              <p:cNvPr id="979" name="AutoShape 106"/>
              <p:cNvCxnSpPr/>
              <p:nvPr/>
            </p:nvCxnSpPr>
            <p:spPr>
              <a:xfrm flipH="1">
                <a:off x="5916600" y="3642480"/>
                <a:ext cx="13816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0" name=""/>
              <p:cNvSpPr txBox="1"/>
              <p:nvPr/>
            </p:nvSpPr>
            <p:spPr>
              <a:xfrm>
                <a:off x="5916960" y="3642480"/>
                <a:ext cx="13809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4847400" y="3558240"/>
              <a:ext cx="872280" cy="824400"/>
              <a:chOff x="4847400" y="3558240"/>
              <a:chExt cx="872280" cy="824400"/>
            </a:xfrm>
          </p:grpSpPr>
          <p:cxnSp>
            <p:nvCxnSpPr>
              <p:cNvPr id="982" name="AutoShape 105"/>
              <p:cNvCxnSpPr/>
              <p:nvPr/>
            </p:nvCxnSpPr>
            <p:spPr>
              <a:xfrm flipV="1">
                <a:off x="4847400" y="3558240"/>
                <a:ext cx="872640" cy="8247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983" name=""/>
              <p:cNvSpPr txBox="1"/>
              <p:nvPr/>
            </p:nvSpPr>
            <p:spPr>
              <a:xfrm rot="10800000">
                <a:off x="4847400" y="3558240"/>
                <a:ext cx="871920" cy="82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16600" y="3474360"/>
              <a:ext cx="1411920" cy="3600"/>
              <a:chOff x="5916600" y="3474360"/>
              <a:chExt cx="1411920" cy="3600"/>
            </a:xfrm>
          </p:grpSpPr>
          <p:cxnSp>
            <p:nvCxnSpPr>
              <p:cNvPr id="985" name="AutoShape 104"/>
              <p:cNvCxnSpPr/>
              <p:nvPr/>
            </p:nvCxnSpPr>
            <p:spPr>
              <a:xfrm>
                <a:off x="5916600" y="3474360"/>
                <a:ext cx="1412280" cy="39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986" name=""/>
              <p:cNvSpPr txBox="1"/>
              <p:nvPr/>
            </p:nvSpPr>
            <p:spPr>
              <a:xfrm>
                <a:off x="5916600" y="3474360"/>
                <a:ext cx="1411560" cy="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Oval 103"/>
            <p:cNvSpPr/>
            <p:nvPr/>
          </p:nvSpPr>
          <p:spPr>
            <a:xfrm>
              <a:off x="7299360" y="3471840"/>
              <a:ext cx="180720" cy="1933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4953960" y="3642480"/>
              <a:ext cx="857520" cy="826560"/>
              <a:chOff x="4953960" y="3642480"/>
              <a:chExt cx="857520" cy="826560"/>
            </a:xfrm>
          </p:grpSpPr>
          <p:cxnSp>
            <p:nvCxnSpPr>
              <p:cNvPr id="989" name="AutoShape 102"/>
              <p:cNvCxnSpPr/>
              <p:nvPr/>
            </p:nvCxnSpPr>
            <p:spPr>
              <a:xfrm flipH="1">
                <a:off x="4953960" y="3642480"/>
                <a:ext cx="857880" cy="826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90" name=""/>
              <p:cNvSpPr txBox="1"/>
              <p:nvPr/>
            </p:nvSpPr>
            <p:spPr>
              <a:xfrm>
                <a:off x="4954320" y="3642480"/>
                <a:ext cx="857160" cy="82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7389720" y="4621680"/>
              <a:ext cx="861480" cy="785880"/>
              <a:chOff x="7389720" y="4621680"/>
              <a:chExt cx="861480" cy="785880"/>
            </a:xfrm>
          </p:grpSpPr>
          <p:cxnSp>
            <p:nvCxnSpPr>
              <p:cNvPr id="992" name="AutoShape 101"/>
              <p:cNvCxnSpPr/>
              <p:nvPr/>
            </p:nvCxnSpPr>
            <p:spPr>
              <a:xfrm flipV="1">
                <a:off x="7390080" y="4621680"/>
                <a:ext cx="861480" cy="786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93" name=""/>
              <p:cNvSpPr txBox="1"/>
              <p:nvPr/>
            </p:nvSpPr>
            <p:spPr>
              <a:xfrm rot="10800000">
                <a:off x="7389720" y="4622040"/>
                <a:ext cx="86076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7478640" y="4711320"/>
              <a:ext cx="865080" cy="822960"/>
              <a:chOff x="7478640" y="4711320"/>
              <a:chExt cx="865080" cy="822960"/>
            </a:xfrm>
          </p:grpSpPr>
          <p:cxnSp>
            <p:nvCxnSpPr>
              <p:cNvPr id="995" name="AutoShape 100"/>
              <p:cNvCxnSpPr/>
              <p:nvPr/>
            </p:nvCxnSpPr>
            <p:spPr>
              <a:xfrm flipH="1">
                <a:off x="7478640" y="4711320"/>
                <a:ext cx="865440" cy="82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96" name=""/>
              <p:cNvSpPr txBox="1"/>
              <p:nvPr/>
            </p:nvSpPr>
            <p:spPr>
              <a:xfrm>
                <a:off x="7479000" y="4711320"/>
                <a:ext cx="864720" cy="82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5879160" y="5619240"/>
              <a:ext cx="1382400" cy="1440"/>
              <a:chOff x="5879160" y="5619240"/>
              <a:chExt cx="1382400" cy="1440"/>
            </a:xfrm>
          </p:grpSpPr>
          <p:cxnSp>
            <p:nvCxnSpPr>
              <p:cNvPr id="998" name="AutoShape 99"/>
              <p:cNvCxnSpPr/>
              <p:nvPr/>
            </p:nvCxnSpPr>
            <p:spPr>
              <a:xfrm flipH="1">
                <a:off x="5879160" y="5619240"/>
                <a:ext cx="138276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99" name=""/>
              <p:cNvSpPr txBox="1"/>
              <p:nvPr/>
            </p:nvSpPr>
            <p:spPr>
              <a:xfrm>
                <a:off x="5879520" y="5619240"/>
                <a:ext cx="138204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797080" y="3642840"/>
              <a:ext cx="1500840" cy="1756440"/>
              <a:chOff x="5797080" y="3642840"/>
              <a:chExt cx="1500840" cy="1756440"/>
            </a:xfrm>
          </p:grpSpPr>
          <p:cxnSp>
            <p:nvCxnSpPr>
              <p:cNvPr id="1001" name="AutoShape 98"/>
              <p:cNvCxnSpPr/>
              <p:nvPr/>
            </p:nvCxnSpPr>
            <p:spPr>
              <a:xfrm flipH="1">
                <a:off x="5797080" y="3642840"/>
                <a:ext cx="1501200" cy="1756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02" name=""/>
              <p:cNvSpPr txBox="1"/>
              <p:nvPr/>
            </p:nvSpPr>
            <p:spPr>
              <a:xfrm>
                <a:off x="5797440" y="3642840"/>
                <a:ext cx="1500480" cy="175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5915520" y="3674160"/>
              <a:ext cx="1526760" cy="1778400"/>
              <a:chOff x="5915520" y="3674160"/>
              <a:chExt cx="1526760" cy="1778400"/>
            </a:xfrm>
          </p:grpSpPr>
          <p:cxnSp>
            <p:nvCxnSpPr>
              <p:cNvPr id="1004" name="AutoShape 97"/>
              <p:cNvCxnSpPr/>
              <p:nvPr/>
            </p:nvCxnSpPr>
            <p:spPr>
              <a:xfrm flipV="1">
                <a:off x="5915520" y="3674160"/>
                <a:ext cx="1527120" cy="177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05" name=""/>
              <p:cNvSpPr txBox="1"/>
              <p:nvPr/>
            </p:nvSpPr>
            <p:spPr>
              <a:xfrm rot="10800000">
                <a:off x="5915520" y="3674160"/>
                <a:ext cx="1526400" cy="177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888520" y="3642120"/>
              <a:ext cx="3600" cy="1764720"/>
              <a:chOff x="5888520" y="3642120"/>
              <a:chExt cx="3600" cy="1764720"/>
            </a:xfrm>
          </p:grpSpPr>
          <p:cxnSp>
            <p:nvCxnSpPr>
              <p:cNvPr id="1007" name="AutoShape 96"/>
              <p:cNvCxnSpPr/>
              <p:nvPr/>
            </p:nvCxnSpPr>
            <p:spPr>
              <a:xfrm flipH="1" flipV="1">
                <a:off x="5888520" y="3642120"/>
                <a:ext cx="3960" cy="1765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08" name=""/>
              <p:cNvSpPr txBox="1"/>
              <p:nvPr/>
            </p:nvSpPr>
            <p:spPr>
              <a:xfrm rot="10800000">
                <a:off x="5888520" y="3642120"/>
                <a:ext cx="3600" cy="176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7478280" y="3674160"/>
              <a:ext cx="1440" cy="1761120"/>
              <a:chOff x="7478280" y="3674160"/>
              <a:chExt cx="1440" cy="1761120"/>
            </a:xfrm>
          </p:grpSpPr>
          <p:cxnSp>
            <p:nvCxnSpPr>
              <p:cNvPr id="1010" name="AutoShape 95"/>
              <p:cNvCxnSpPr/>
              <p:nvPr/>
            </p:nvCxnSpPr>
            <p:spPr>
              <a:xfrm flipH="1" flipV="1">
                <a:off x="7478280" y="3674160"/>
                <a:ext cx="1800" cy="1761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11" name=""/>
              <p:cNvSpPr txBox="1"/>
              <p:nvPr/>
            </p:nvSpPr>
            <p:spPr>
              <a:xfrm rot="10800000">
                <a:off x="7478280" y="3674160"/>
                <a:ext cx="1080" cy="176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760000" y="3642840"/>
              <a:ext cx="1440" cy="1793160"/>
              <a:chOff x="5760000" y="3642840"/>
              <a:chExt cx="1440" cy="1793160"/>
            </a:xfrm>
          </p:grpSpPr>
          <p:cxnSp>
            <p:nvCxnSpPr>
              <p:cNvPr id="1013" name="AutoShape 94"/>
              <p:cNvCxnSpPr/>
              <p:nvPr/>
            </p:nvCxnSpPr>
            <p:spPr>
              <a:xfrm>
                <a:off x="5760000" y="3642840"/>
                <a:ext cx="1800" cy="179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14" name=""/>
              <p:cNvSpPr txBox="1"/>
              <p:nvPr/>
            </p:nvSpPr>
            <p:spPr>
              <a:xfrm>
                <a:off x="5760000" y="3642840"/>
                <a:ext cx="1080" cy="179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7326000" y="3651120"/>
              <a:ext cx="1440" cy="1821600"/>
              <a:chOff x="7326000" y="3651120"/>
              <a:chExt cx="1440" cy="1821600"/>
            </a:xfrm>
          </p:grpSpPr>
          <p:cxnSp>
            <p:nvCxnSpPr>
              <p:cNvPr id="1016" name="AutoShape 93"/>
              <p:cNvCxnSpPr/>
              <p:nvPr/>
            </p:nvCxnSpPr>
            <p:spPr>
              <a:xfrm>
                <a:off x="7326000" y="3651120"/>
                <a:ext cx="1800" cy="18219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017" name=""/>
              <p:cNvSpPr txBox="1"/>
              <p:nvPr/>
            </p:nvSpPr>
            <p:spPr>
              <a:xfrm>
                <a:off x="7326000" y="3651120"/>
                <a:ext cx="1080" cy="182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Text Box 92"/>
            <p:cNvSpPr/>
            <p:nvPr/>
          </p:nvSpPr>
          <p:spPr>
            <a:xfrm>
              <a:off x="5235480" y="3033360"/>
              <a:ext cx="525960" cy="42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91"/>
            <p:cNvSpPr/>
            <p:nvPr/>
          </p:nvSpPr>
          <p:spPr>
            <a:xfrm>
              <a:off x="5570640" y="4283280"/>
              <a:ext cx="147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90"/>
            <p:cNvSpPr/>
            <p:nvPr/>
          </p:nvSpPr>
          <p:spPr>
            <a:xfrm>
              <a:off x="7114320" y="4283280"/>
              <a:ext cx="147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60280" y="151920"/>
            <a:ext cx="8832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имер. Итерация 5. Шаги 1,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6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47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1"/>
          <p:cNvGrpSpPr/>
          <p:nvPr/>
        </p:nvGrpSpPr>
        <p:grpSpPr>
          <a:xfrm>
            <a:off x="4403880" y="2971800"/>
            <a:ext cx="4520880" cy="3747960"/>
            <a:chOff x="4403880" y="2971800"/>
            <a:chExt cx="4520880" cy="3747960"/>
          </a:xfrm>
        </p:grpSpPr>
        <p:sp>
          <p:nvSpPr>
            <p:cNvPr id="1026" name="AutoShape 56"/>
            <p:cNvSpPr/>
            <p:nvPr/>
          </p:nvSpPr>
          <p:spPr>
            <a:xfrm>
              <a:off x="4403880" y="2971800"/>
              <a:ext cx="4520880" cy="37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55"/>
            <p:cNvSpPr/>
            <p:nvPr/>
          </p:nvSpPr>
          <p:spPr>
            <a:xfrm>
              <a:off x="8321760" y="4940280"/>
              <a:ext cx="50616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54"/>
            <p:cNvSpPr/>
            <p:nvPr/>
          </p:nvSpPr>
          <p:spPr>
            <a:xfrm>
              <a:off x="4478040" y="4719600"/>
              <a:ext cx="39528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53"/>
            <p:cNvSpPr/>
            <p:nvPr/>
          </p:nvSpPr>
          <p:spPr>
            <a:xfrm>
              <a:off x="5015160" y="5142240"/>
              <a:ext cx="79920" cy="44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52"/>
            <p:cNvSpPr/>
            <p:nvPr/>
          </p:nvSpPr>
          <p:spPr>
            <a:xfrm>
              <a:off x="5301360" y="5961960"/>
              <a:ext cx="54972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51"/>
            <p:cNvSpPr/>
            <p:nvPr/>
          </p:nvSpPr>
          <p:spPr>
            <a:xfrm>
              <a:off x="5780520" y="5964840"/>
              <a:ext cx="394920" cy="47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50"/>
            <p:cNvSpPr/>
            <p:nvPr/>
          </p:nvSpPr>
          <p:spPr>
            <a:xfrm>
              <a:off x="7149600" y="3099960"/>
              <a:ext cx="39528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9"/>
            <p:cNvSpPr/>
            <p:nvPr/>
          </p:nvSpPr>
          <p:spPr>
            <a:xfrm>
              <a:off x="5797080" y="3120120"/>
              <a:ext cx="395280" cy="47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48"/>
            <p:cNvSpPr/>
            <p:nvPr/>
          </p:nvSpPr>
          <p:spPr>
            <a:xfrm>
              <a:off x="7159680" y="5960880"/>
              <a:ext cx="3952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47"/>
            <p:cNvSpPr/>
            <p:nvPr/>
          </p:nvSpPr>
          <p:spPr>
            <a:xfrm>
              <a:off x="7501320" y="5961960"/>
              <a:ext cx="55116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46"/>
            <p:cNvSpPr/>
            <p:nvPr/>
          </p:nvSpPr>
          <p:spPr>
            <a:xfrm>
              <a:off x="7436880" y="3099960"/>
              <a:ext cx="551160" cy="47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45"/>
            <p:cNvSpPr/>
            <p:nvPr/>
          </p:nvSpPr>
          <p:spPr>
            <a:xfrm>
              <a:off x="7709760" y="4260600"/>
              <a:ext cx="27828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44"/>
            <p:cNvSpPr/>
            <p:nvPr/>
          </p:nvSpPr>
          <p:spPr>
            <a:xfrm>
              <a:off x="7988040" y="3886920"/>
              <a:ext cx="15444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43"/>
            <p:cNvSpPr/>
            <p:nvPr/>
          </p:nvSpPr>
          <p:spPr>
            <a:xfrm>
              <a:off x="7988040" y="5313600"/>
              <a:ext cx="1530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42"/>
            <p:cNvSpPr/>
            <p:nvPr/>
          </p:nvSpPr>
          <p:spPr>
            <a:xfrm>
              <a:off x="7555320" y="4688280"/>
              <a:ext cx="15444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41"/>
            <p:cNvSpPr/>
            <p:nvPr/>
          </p:nvSpPr>
          <p:spPr>
            <a:xfrm>
              <a:off x="6648840" y="5868000"/>
              <a:ext cx="19440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40"/>
            <p:cNvSpPr/>
            <p:nvPr/>
          </p:nvSpPr>
          <p:spPr>
            <a:xfrm>
              <a:off x="6563520" y="5429520"/>
              <a:ext cx="15444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39"/>
            <p:cNvSpPr/>
            <p:nvPr/>
          </p:nvSpPr>
          <p:spPr>
            <a:xfrm>
              <a:off x="6563520" y="4830120"/>
              <a:ext cx="279360" cy="48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8"/>
            <p:cNvSpPr/>
            <p:nvPr/>
          </p:nvSpPr>
          <p:spPr>
            <a:xfrm>
              <a:off x="6408720" y="4346280"/>
              <a:ext cx="2563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7"/>
            <p:cNvSpPr/>
            <p:nvPr/>
          </p:nvSpPr>
          <p:spPr>
            <a:xfrm>
              <a:off x="6408720" y="3681360"/>
              <a:ext cx="1548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36"/>
            <p:cNvSpPr/>
            <p:nvPr/>
          </p:nvSpPr>
          <p:spPr>
            <a:xfrm>
              <a:off x="6494040" y="3218040"/>
              <a:ext cx="15480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35"/>
            <p:cNvSpPr/>
            <p:nvPr/>
          </p:nvSpPr>
          <p:spPr>
            <a:xfrm>
              <a:off x="7835040" y="4940280"/>
              <a:ext cx="15300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4"/>
            <p:cNvSpPr/>
            <p:nvPr/>
          </p:nvSpPr>
          <p:spPr>
            <a:xfrm>
              <a:off x="5922360" y="4482360"/>
              <a:ext cx="1530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33"/>
            <p:cNvSpPr/>
            <p:nvPr/>
          </p:nvSpPr>
          <p:spPr>
            <a:xfrm>
              <a:off x="5333400" y="4139280"/>
              <a:ext cx="15300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32"/>
            <p:cNvSpPr/>
            <p:nvPr/>
          </p:nvSpPr>
          <p:spPr>
            <a:xfrm>
              <a:off x="5095440" y="3886920"/>
              <a:ext cx="15300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31"/>
            <p:cNvSpPr/>
            <p:nvPr/>
          </p:nvSpPr>
          <p:spPr>
            <a:xfrm>
              <a:off x="5301360" y="4940280"/>
              <a:ext cx="153000" cy="37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30"/>
            <p:cNvSpPr/>
            <p:nvPr/>
          </p:nvSpPr>
          <p:spPr>
            <a:xfrm>
              <a:off x="4403880" y="4121640"/>
              <a:ext cx="551160" cy="47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29"/>
            <p:cNvSpPr/>
            <p:nvPr/>
          </p:nvSpPr>
          <p:spPr>
            <a:xfrm>
              <a:off x="8181360" y="4137840"/>
              <a:ext cx="549720" cy="47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8"/>
            <p:cNvSpPr/>
            <p:nvPr/>
          </p:nvSpPr>
          <p:spPr>
            <a:xfrm>
              <a:off x="4759200" y="4609080"/>
              <a:ext cx="192960" cy="2206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7"/>
            <p:cNvSpPr/>
            <p:nvPr/>
          </p:nvSpPr>
          <p:spPr>
            <a:xfrm>
              <a:off x="5769000" y="3570840"/>
              <a:ext cx="190440" cy="2192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5769000" y="5741280"/>
              <a:ext cx="191880" cy="2203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5"/>
            <p:cNvSpPr/>
            <p:nvPr/>
          </p:nvSpPr>
          <p:spPr>
            <a:xfrm>
              <a:off x="8403120" y="4719600"/>
              <a:ext cx="189000" cy="2203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4"/>
            <p:cNvSpPr/>
            <p:nvPr/>
          </p:nvSpPr>
          <p:spPr>
            <a:xfrm>
              <a:off x="7405920" y="5741280"/>
              <a:ext cx="189000" cy="2203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857120" y="4845960"/>
              <a:ext cx="896760" cy="1024560"/>
              <a:chOff x="4857120" y="4845960"/>
              <a:chExt cx="896760" cy="1024560"/>
            </a:xfrm>
          </p:grpSpPr>
          <p:cxnSp>
            <p:nvCxnSpPr>
              <p:cNvPr id="1060" name="AutoShape 23"/>
              <p:cNvCxnSpPr/>
              <p:nvPr/>
            </p:nvCxnSpPr>
            <p:spPr>
              <a:xfrm>
                <a:off x="4857120" y="4845960"/>
                <a:ext cx="897120" cy="10249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061" name=""/>
              <p:cNvSpPr txBox="1"/>
              <p:nvPr/>
            </p:nvSpPr>
            <p:spPr>
              <a:xfrm>
                <a:off x="4857120" y="4845960"/>
                <a:ext cx="896400" cy="102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4951440" y="4719240"/>
              <a:ext cx="899640" cy="1022040"/>
              <a:chOff x="4951440" y="4719240"/>
              <a:chExt cx="899640" cy="1022040"/>
            </a:xfrm>
          </p:grpSpPr>
          <p:cxnSp>
            <p:nvCxnSpPr>
              <p:cNvPr id="1063" name="AutoShape 22"/>
              <p:cNvCxnSpPr/>
              <p:nvPr/>
            </p:nvCxnSpPr>
            <p:spPr>
              <a:xfrm flipH="1" flipV="1">
                <a:off x="4951440" y="4719240"/>
                <a:ext cx="899640" cy="102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64" name=""/>
              <p:cNvSpPr txBox="1"/>
              <p:nvPr/>
            </p:nvSpPr>
            <p:spPr>
              <a:xfrm rot="10800000">
                <a:off x="4952160" y="4719600"/>
                <a:ext cx="898920" cy="102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7594560" y="3696480"/>
              <a:ext cx="899640" cy="1023120"/>
              <a:chOff x="7594560" y="3696480"/>
              <a:chExt cx="899640" cy="1023120"/>
            </a:xfrm>
          </p:grpSpPr>
          <p:cxnSp>
            <p:nvCxnSpPr>
              <p:cNvPr id="1066" name="AutoShape 21"/>
              <p:cNvCxnSpPr/>
              <p:nvPr/>
            </p:nvCxnSpPr>
            <p:spPr>
              <a:xfrm flipH="1" flipV="1">
                <a:off x="7594560" y="3696480"/>
                <a:ext cx="899640" cy="102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67" name=""/>
              <p:cNvSpPr txBox="1"/>
              <p:nvPr/>
            </p:nvSpPr>
            <p:spPr>
              <a:xfrm rot="10800000">
                <a:off x="7595280" y="3696480"/>
                <a:ext cx="898920" cy="102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7501320" y="3809520"/>
              <a:ext cx="901800" cy="1020600"/>
              <a:chOff x="7501320" y="3809520"/>
              <a:chExt cx="901800" cy="1020600"/>
            </a:xfrm>
          </p:grpSpPr>
          <p:cxnSp>
            <p:nvCxnSpPr>
              <p:cNvPr id="1069" name="AutoShape 20"/>
              <p:cNvCxnSpPr/>
              <p:nvPr/>
            </p:nvCxnSpPr>
            <p:spPr>
              <a:xfrm>
                <a:off x="7501320" y="3809520"/>
                <a:ext cx="902160" cy="1020960"/>
              </a:xfrm>
              <a:prstGeom prst="straightConnector1">
                <a:avLst/>
              </a:prstGeom>
              <a:ln w="9360">
                <a:solidFill>
                  <a:srgbClr val="0d0d0d"/>
                </a:solidFill>
                <a:miter/>
                <a:tailEnd len="med" type="triangle" w="med"/>
              </a:ln>
            </p:spPr>
          </p:cxnSp>
          <p:sp>
            <p:nvSpPr>
              <p:cNvPr id="1070" name=""/>
              <p:cNvSpPr txBox="1"/>
              <p:nvPr/>
            </p:nvSpPr>
            <p:spPr>
              <a:xfrm>
                <a:off x="7501320" y="3809520"/>
                <a:ext cx="901440" cy="102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985360" y="5802480"/>
              <a:ext cx="1420920" cy="1800"/>
              <a:chOff x="5985360" y="5802480"/>
              <a:chExt cx="1420920" cy="1800"/>
            </a:xfrm>
          </p:grpSpPr>
          <p:cxnSp>
            <p:nvCxnSpPr>
              <p:cNvPr id="1072" name="AutoShape 19"/>
              <p:cNvCxnSpPr/>
              <p:nvPr/>
            </p:nvCxnSpPr>
            <p:spPr>
              <a:xfrm>
                <a:off x="5985360" y="5802480"/>
                <a:ext cx="14212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3" name=""/>
              <p:cNvSpPr txBox="1"/>
              <p:nvPr/>
            </p:nvSpPr>
            <p:spPr>
              <a:xfrm>
                <a:off x="5985360" y="5802480"/>
                <a:ext cx="142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5960520" y="3773880"/>
              <a:ext cx="1443960" cy="1800"/>
              <a:chOff x="5960520" y="3773880"/>
              <a:chExt cx="1443960" cy="1800"/>
            </a:xfrm>
          </p:grpSpPr>
          <p:cxnSp>
            <p:nvCxnSpPr>
              <p:cNvPr id="1075" name="AutoShape 18"/>
              <p:cNvCxnSpPr/>
              <p:nvPr/>
            </p:nvCxnSpPr>
            <p:spPr>
              <a:xfrm flipH="1">
                <a:off x="5960520" y="3773880"/>
                <a:ext cx="14443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76" name=""/>
              <p:cNvSpPr txBox="1"/>
              <p:nvPr/>
            </p:nvSpPr>
            <p:spPr>
              <a:xfrm>
                <a:off x="5960880" y="3773880"/>
                <a:ext cx="1443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4842000" y="3681000"/>
              <a:ext cx="912600" cy="911880"/>
              <a:chOff x="4842000" y="3681000"/>
              <a:chExt cx="912600" cy="911880"/>
            </a:xfrm>
          </p:grpSpPr>
          <p:cxnSp>
            <p:nvCxnSpPr>
              <p:cNvPr id="1078" name="AutoShape 17"/>
              <p:cNvCxnSpPr/>
              <p:nvPr/>
            </p:nvCxnSpPr>
            <p:spPr>
              <a:xfrm flipV="1">
                <a:off x="4842360" y="3681000"/>
                <a:ext cx="912600" cy="9122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079" name=""/>
              <p:cNvSpPr txBox="1"/>
              <p:nvPr/>
            </p:nvSpPr>
            <p:spPr>
              <a:xfrm rot="10800000">
                <a:off x="4842000" y="3681360"/>
                <a:ext cx="911880" cy="9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5960520" y="3587040"/>
              <a:ext cx="1476000" cy="4320"/>
              <a:chOff x="5960520" y="3587040"/>
              <a:chExt cx="1476000" cy="4320"/>
            </a:xfrm>
          </p:grpSpPr>
          <p:cxnSp>
            <p:nvCxnSpPr>
              <p:cNvPr id="1081" name="AutoShape 16"/>
              <p:cNvCxnSpPr/>
              <p:nvPr/>
            </p:nvCxnSpPr>
            <p:spPr>
              <a:xfrm>
                <a:off x="5960520" y="3587040"/>
                <a:ext cx="1476360" cy="468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082" name=""/>
              <p:cNvSpPr txBox="1"/>
              <p:nvPr/>
            </p:nvSpPr>
            <p:spPr>
              <a:xfrm>
                <a:off x="5960520" y="3587040"/>
                <a:ext cx="1475640" cy="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Oval 15"/>
            <p:cNvSpPr/>
            <p:nvPr/>
          </p:nvSpPr>
          <p:spPr>
            <a:xfrm>
              <a:off x="7405920" y="3584520"/>
              <a:ext cx="189000" cy="2138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4954680" y="3773520"/>
              <a:ext cx="896760" cy="914400"/>
              <a:chOff x="4954680" y="3773520"/>
              <a:chExt cx="896760" cy="914400"/>
            </a:xfrm>
          </p:grpSpPr>
          <p:cxnSp>
            <p:nvCxnSpPr>
              <p:cNvPr id="1085" name="AutoShape 14"/>
              <p:cNvCxnSpPr/>
              <p:nvPr/>
            </p:nvCxnSpPr>
            <p:spPr>
              <a:xfrm flipH="1">
                <a:off x="4954680" y="3773520"/>
                <a:ext cx="897120" cy="914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86" name=""/>
              <p:cNvSpPr txBox="1"/>
              <p:nvPr/>
            </p:nvSpPr>
            <p:spPr>
              <a:xfrm>
                <a:off x="4955040" y="3773520"/>
                <a:ext cx="896400" cy="9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7501320" y="4856760"/>
              <a:ext cx="900360" cy="869400"/>
              <a:chOff x="7501320" y="4856760"/>
              <a:chExt cx="900360" cy="869400"/>
            </a:xfrm>
          </p:grpSpPr>
          <p:cxnSp>
            <p:nvCxnSpPr>
              <p:cNvPr id="1088" name="AutoShape 13"/>
              <p:cNvCxnSpPr/>
              <p:nvPr/>
            </p:nvCxnSpPr>
            <p:spPr>
              <a:xfrm flipV="1">
                <a:off x="7501320" y="4856760"/>
                <a:ext cx="900720" cy="8697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089" name=""/>
              <p:cNvSpPr txBox="1"/>
              <p:nvPr/>
            </p:nvSpPr>
            <p:spPr>
              <a:xfrm rot="10800000">
                <a:off x="7501320" y="4857120"/>
                <a:ext cx="900000" cy="86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7593120" y="4956840"/>
              <a:ext cx="904320" cy="910440"/>
              <a:chOff x="7593120" y="4956840"/>
              <a:chExt cx="904320" cy="910440"/>
            </a:xfrm>
          </p:grpSpPr>
          <p:cxnSp>
            <p:nvCxnSpPr>
              <p:cNvPr id="1091" name="AutoShape 12"/>
              <p:cNvCxnSpPr/>
              <p:nvPr/>
            </p:nvCxnSpPr>
            <p:spPr>
              <a:xfrm flipH="1">
                <a:off x="7593120" y="4956840"/>
                <a:ext cx="904680" cy="91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92" name=""/>
              <p:cNvSpPr txBox="1"/>
              <p:nvPr/>
            </p:nvSpPr>
            <p:spPr>
              <a:xfrm>
                <a:off x="7593480" y="4956840"/>
                <a:ext cx="903960" cy="9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5922000" y="5960520"/>
              <a:ext cx="1444680" cy="1440"/>
              <a:chOff x="5922000" y="5960520"/>
              <a:chExt cx="1444680" cy="1440"/>
            </a:xfrm>
          </p:grpSpPr>
          <p:cxnSp>
            <p:nvCxnSpPr>
              <p:cNvPr id="1094" name="AutoShape 11"/>
              <p:cNvCxnSpPr/>
              <p:nvPr/>
            </p:nvCxnSpPr>
            <p:spPr>
              <a:xfrm flipH="1">
                <a:off x="5922000" y="5960520"/>
                <a:ext cx="144504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95" name=""/>
              <p:cNvSpPr txBox="1"/>
              <p:nvPr/>
            </p:nvSpPr>
            <p:spPr>
              <a:xfrm>
                <a:off x="5922000" y="5960520"/>
                <a:ext cx="14446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5835240" y="3773520"/>
              <a:ext cx="1568880" cy="1943280"/>
              <a:chOff x="5835240" y="3773520"/>
              <a:chExt cx="1568880" cy="1943280"/>
            </a:xfrm>
          </p:grpSpPr>
          <p:cxnSp>
            <p:nvCxnSpPr>
              <p:cNvPr id="1097" name="AutoShape 10"/>
              <p:cNvCxnSpPr/>
              <p:nvPr/>
            </p:nvCxnSpPr>
            <p:spPr>
              <a:xfrm flipH="1">
                <a:off x="5835240" y="3773520"/>
                <a:ext cx="1569240" cy="1943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98" name=""/>
              <p:cNvSpPr txBox="1"/>
              <p:nvPr/>
            </p:nvSpPr>
            <p:spPr>
              <a:xfrm>
                <a:off x="5835600" y="3773520"/>
                <a:ext cx="1568520" cy="19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958720" y="3808800"/>
              <a:ext cx="1596600" cy="1967760"/>
              <a:chOff x="5958720" y="3808800"/>
              <a:chExt cx="1596600" cy="1967760"/>
            </a:xfrm>
          </p:grpSpPr>
          <p:cxnSp>
            <p:nvCxnSpPr>
              <p:cNvPr id="1100" name="AutoShape 9"/>
              <p:cNvCxnSpPr/>
              <p:nvPr/>
            </p:nvCxnSpPr>
            <p:spPr>
              <a:xfrm flipV="1">
                <a:off x="5959080" y="3809160"/>
                <a:ext cx="1596600" cy="196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01" name=""/>
              <p:cNvSpPr txBox="1"/>
              <p:nvPr/>
            </p:nvSpPr>
            <p:spPr>
              <a:xfrm rot="10800000">
                <a:off x="5958720" y="3808800"/>
                <a:ext cx="1595880" cy="196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5930280" y="3773160"/>
              <a:ext cx="4320" cy="1952640"/>
              <a:chOff x="5930280" y="3773160"/>
              <a:chExt cx="4320" cy="1952640"/>
            </a:xfrm>
          </p:grpSpPr>
          <p:cxnSp>
            <p:nvCxnSpPr>
              <p:cNvPr id="1103" name="AutoShape 8"/>
              <p:cNvCxnSpPr/>
              <p:nvPr/>
            </p:nvCxnSpPr>
            <p:spPr>
              <a:xfrm flipH="1" flipV="1">
                <a:off x="5930280" y="3773160"/>
                <a:ext cx="4680" cy="19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04" name=""/>
              <p:cNvSpPr txBox="1"/>
              <p:nvPr/>
            </p:nvSpPr>
            <p:spPr>
              <a:xfrm rot="10800000">
                <a:off x="5930280" y="3773160"/>
                <a:ext cx="3960" cy="19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593480" y="3808800"/>
              <a:ext cx="1800" cy="1948320"/>
              <a:chOff x="7593480" y="3808800"/>
              <a:chExt cx="1800" cy="1948320"/>
            </a:xfrm>
          </p:grpSpPr>
          <p:cxnSp>
            <p:nvCxnSpPr>
              <p:cNvPr id="1106" name="AutoShape 7"/>
              <p:cNvCxnSpPr/>
              <p:nvPr/>
            </p:nvCxnSpPr>
            <p:spPr>
              <a:xfrm flipH="1" flipV="1">
                <a:off x="7593480" y="3809160"/>
                <a:ext cx="2160" cy="1948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07" name=""/>
              <p:cNvSpPr txBox="1"/>
              <p:nvPr/>
            </p:nvSpPr>
            <p:spPr>
              <a:xfrm rot="10800000">
                <a:off x="7593840" y="3808800"/>
                <a:ext cx="1440" cy="194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5796720" y="3773880"/>
              <a:ext cx="1440" cy="1983960"/>
              <a:chOff x="5796720" y="3773880"/>
              <a:chExt cx="1440" cy="1983960"/>
            </a:xfrm>
          </p:grpSpPr>
          <p:cxnSp>
            <p:nvCxnSpPr>
              <p:cNvPr id="1109" name="AutoShape 6"/>
              <p:cNvCxnSpPr/>
              <p:nvPr/>
            </p:nvCxnSpPr>
            <p:spPr>
              <a:xfrm>
                <a:off x="5796720" y="3773880"/>
                <a:ext cx="1800" cy="198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10" name=""/>
              <p:cNvSpPr txBox="1"/>
              <p:nvPr/>
            </p:nvSpPr>
            <p:spPr>
              <a:xfrm>
                <a:off x="5796720" y="3773880"/>
                <a:ext cx="1080" cy="198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7434000" y="3783240"/>
              <a:ext cx="1440" cy="2015280"/>
              <a:chOff x="7434000" y="3783240"/>
              <a:chExt cx="1440" cy="2015280"/>
            </a:xfrm>
          </p:grpSpPr>
          <p:cxnSp>
            <p:nvCxnSpPr>
              <p:cNvPr id="1112" name="AutoShape 5"/>
              <p:cNvCxnSpPr/>
              <p:nvPr/>
            </p:nvCxnSpPr>
            <p:spPr>
              <a:xfrm>
                <a:off x="7434000" y="3783240"/>
                <a:ext cx="1800" cy="201564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113" name=""/>
              <p:cNvSpPr txBox="1"/>
              <p:nvPr/>
            </p:nvSpPr>
            <p:spPr>
              <a:xfrm>
                <a:off x="7434000" y="3783240"/>
                <a:ext cx="1080" cy="201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Text Box 4"/>
            <p:cNvSpPr/>
            <p:nvPr/>
          </p:nvSpPr>
          <p:spPr>
            <a:xfrm>
              <a:off x="5248440" y="3099960"/>
              <a:ext cx="549720" cy="47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3"/>
            <p:cNvSpPr/>
            <p:nvPr/>
          </p:nvSpPr>
          <p:spPr>
            <a:xfrm>
              <a:off x="5599080" y="4482360"/>
              <a:ext cx="15444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2"/>
            <p:cNvSpPr/>
            <p:nvPr/>
          </p:nvSpPr>
          <p:spPr>
            <a:xfrm>
              <a:off x="7212600" y="4482360"/>
              <a:ext cx="15444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Rectangle 88"/>
          <p:cNvSpPr/>
          <p:nvPr/>
        </p:nvSpPr>
        <p:spPr>
          <a:xfrm>
            <a:off x="0" y="272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45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89"/>
          <p:cNvGrpSpPr/>
          <p:nvPr/>
        </p:nvGrpSpPr>
        <p:grpSpPr>
          <a:xfrm>
            <a:off x="270000" y="990720"/>
            <a:ext cx="4619520" cy="3619440"/>
            <a:chOff x="270000" y="990720"/>
            <a:chExt cx="4619520" cy="3619440"/>
          </a:xfrm>
        </p:grpSpPr>
        <p:sp>
          <p:nvSpPr>
            <p:cNvPr id="1120" name="AutoShape 144"/>
            <p:cNvSpPr/>
            <p:nvPr/>
          </p:nvSpPr>
          <p:spPr>
            <a:xfrm>
              <a:off x="270000" y="990720"/>
              <a:ext cx="461952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43"/>
            <p:cNvSpPr/>
            <p:nvPr/>
          </p:nvSpPr>
          <p:spPr>
            <a:xfrm>
              <a:off x="4340520" y="2907720"/>
              <a:ext cx="470880" cy="54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142"/>
            <p:cNvSpPr/>
            <p:nvPr/>
          </p:nvSpPr>
          <p:spPr>
            <a:xfrm>
              <a:off x="345960" y="2678760"/>
              <a:ext cx="4039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41"/>
            <p:cNvSpPr/>
            <p:nvPr/>
          </p:nvSpPr>
          <p:spPr>
            <a:xfrm>
              <a:off x="894960" y="3086640"/>
              <a:ext cx="817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40"/>
            <p:cNvSpPr/>
            <p:nvPr/>
          </p:nvSpPr>
          <p:spPr>
            <a:xfrm>
              <a:off x="1186920" y="3878280"/>
              <a:ext cx="56196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39"/>
            <p:cNvSpPr/>
            <p:nvPr/>
          </p:nvSpPr>
          <p:spPr>
            <a:xfrm>
              <a:off x="1676880" y="3881160"/>
              <a:ext cx="40356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138"/>
            <p:cNvSpPr/>
            <p:nvPr/>
          </p:nvSpPr>
          <p:spPr>
            <a:xfrm>
              <a:off x="3075480" y="1114200"/>
              <a:ext cx="403920" cy="44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37"/>
            <p:cNvSpPr/>
            <p:nvPr/>
          </p:nvSpPr>
          <p:spPr>
            <a:xfrm>
              <a:off x="1693800" y="1134000"/>
              <a:ext cx="403920" cy="45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Text Box 136"/>
            <p:cNvSpPr/>
            <p:nvPr/>
          </p:nvSpPr>
          <p:spPr>
            <a:xfrm>
              <a:off x="3085920" y="3877200"/>
              <a:ext cx="40392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0000"/>
                  </a:solidFill>
                  <a:uFillTx/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Text Box 135"/>
            <p:cNvSpPr/>
            <p:nvPr/>
          </p:nvSpPr>
          <p:spPr>
            <a:xfrm>
              <a:off x="3435120" y="3878280"/>
              <a:ext cx="5630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34"/>
            <p:cNvSpPr/>
            <p:nvPr/>
          </p:nvSpPr>
          <p:spPr>
            <a:xfrm>
              <a:off x="3368880" y="1114200"/>
              <a:ext cx="56340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33"/>
            <p:cNvSpPr/>
            <p:nvPr/>
          </p:nvSpPr>
          <p:spPr>
            <a:xfrm>
              <a:off x="3648240" y="2235240"/>
              <a:ext cx="2844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32"/>
            <p:cNvSpPr/>
            <p:nvPr/>
          </p:nvSpPr>
          <p:spPr>
            <a:xfrm>
              <a:off x="3932640" y="1874520"/>
              <a:ext cx="15768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31"/>
            <p:cNvSpPr/>
            <p:nvPr/>
          </p:nvSpPr>
          <p:spPr>
            <a:xfrm>
              <a:off x="3932640" y="3252240"/>
              <a:ext cx="15660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30"/>
            <p:cNvSpPr/>
            <p:nvPr/>
          </p:nvSpPr>
          <p:spPr>
            <a:xfrm>
              <a:off x="3490200" y="2648160"/>
              <a:ext cx="15768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29"/>
            <p:cNvSpPr/>
            <p:nvPr/>
          </p:nvSpPr>
          <p:spPr>
            <a:xfrm>
              <a:off x="2563920" y="3787560"/>
              <a:ext cx="19872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28"/>
            <p:cNvSpPr/>
            <p:nvPr/>
          </p:nvSpPr>
          <p:spPr>
            <a:xfrm>
              <a:off x="2476800" y="3364200"/>
              <a:ext cx="1576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27"/>
            <p:cNvSpPr/>
            <p:nvPr/>
          </p:nvSpPr>
          <p:spPr>
            <a:xfrm>
              <a:off x="2476800" y="2785320"/>
              <a:ext cx="285480" cy="46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26"/>
            <p:cNvSpPr/>
            <p:nvPr/>
          </p:nvSpPr>
          <p:spPr>
            <a:xfrm>
              <a:off x="2318760" y="2318040"/>
              <a:ext cx="26172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25"/>
            <p:cNvSpPr/>
            <p:nvPr/>
          </p:nvSpPr>
          <p:spPr>
            <a:xfrm>
              <a:off x="2318760" y="1675800"/>
              <a:ext cx="15804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24"/>
            <p:cNvSpPr/>
            <p:nvPr/>
          </p:nvSpPr>
          <p:spPr>
            <a:xfrm>
              <a:off x="2405520" y="1228680"/>
              <a:ext cx="1580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23"/>
            <p:cNvSpPr/>
            <p:nvPr/>
          </p:nvSpPr>
          <p:spPr>
            <a:xfrm>
              <a:off x="3775680" y="2891880"/>
              <a:ext cx="156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122"/>
            <p:cNvSpPr/>
            <p:nvPr/>
          </p:nvSpPr>
          <p:spPr>
            <a:xfrm>
              <a:off x="1821600" y="2449440"/>
              <a:ext cx="15624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121"/>
            <p:cNvSpPr/>
            <p:nvPr/>
          </p:nvSpPr>
          <p:spPr>
            <a:xfrm>
              <a:off x="1219680" y="2118240"/>
              <a:ext cx="156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120"/>
            <p:cNvSpPr/>
            <p:nvPr/>
          </p:nvSpPr>
          <p:spPr>
            <a:xfrm>
              <a:off x="976680" y="1874520"/>
              <a:ext cx="15624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119"/>
            <p:cNvSpPr/>
            <p:nvPr/>
          </p:nvSpPr>
          <p:spPr>
            <a:xfrm>
              <a:off x="1186920" y="2891880"/>
              <a:ext cx="1566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118"/>
            <p:cNvSpPr/>
            <p:nvPr/>
          </p:nvSpPr>
          <p:spPr>
            <a:xfrm>
              <a:off x="270000" y="2100960"/>
              <a:ext cx="5630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117"/>
            <p:cNvSpPr/>
            <p:nvPr/>
          </p:nvSpPr>
          <p:spPr>
            <a:xfrm>
              <a:off x="4129920" y="2116800"/>
              <a:ext cx="5619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116"/>
            <p:cNvSpPr/>
            <p:nvPr/>
          </p:nvSpPr>
          <p:spPr>
            <a:xfrm>
              <a:off x="632880" y="2571840"/>
              <a:ext cx="197280" cy="21312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115"/>
            <p:cNvSpPr/>
            <p:nvPr/>
          </p:nvSpPr>
          <p:spPr>
            <a:xfrm>
              <a:off x="1665000" y="1569240"/>
              <a:ext cx="194400" cy="21168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14"/>
            <p:cNvSpPr/>
            <p:nvPr/>
          </p:nvSpPr>
          <p:spPr>
            <a:xfrm>
              <a:off x="1665000" y="3665520"/>
              <a:ext cx="195840" cy="2127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13"/>
            <p:cNvSpPr/>
            <p:nvPr/>
          </p:nvSpPr>
          <p:spPr>
            <a:xfrm>
              <a:off x="4356360" y="2678760"/>
              <a:ext cx="193320" cy="212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112"/>
            <p:cNvSpPr/>
            <p:nvPr/>
          </p:nvSpPr>
          <p:spPr>
            <a:xfrm>
              <a:off x="3337560" y="3665520"/>
              <a:ext cx="193320" cy="21276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732960" y="2801160"/>
              <a:ext cx="916200" cy="989640"/>
              <a:chOff x="732960" y="2801160"/>
              <a:chExt cx="916200" cy="989640"/>
            </a:xfrm>
          </p:grpSpPr>
          <p:cxnSp>
            <p:nvCxnSpPr>
              <p:cNvPr id="1154" name="AutoShape 111"/>
              <p:cNvCxnSpPr/>
              <p:nvPr/>
            </p:nvCxnSpPr>
            <p:spPr>
              <a:xfrm>
                <a:off x="732960" y="2801160"/>
                <a:ext cx="916560" cy="99000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155" name=""/>
              <p:cNvSpPr txBox="1"/>
              <p:nvPr/>
            </p:nvSpPr>
            <p:spPr>
              <a:xfrm>
                <a:off x="732960" y="2801160"/>
                <a:ext cx="915840" cy="98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829440" y="2678400"/>
              <a:ext cx="919080" cy="986760"/>
              <a:chOff x="829440" y="2678400"/>
              <a:chExt cx="919080" cy="986760"/>
            </a:xfrm>
          </p:grpSpPr>
          <p:cxnSp>
            <p:nvCxnSpPr>
              <p:cNvPr id="1157" name="AutoShape 110"/>
              <p:cNvCxnSpPr/>
              <p:nvPr/>
            </p:nvCxnSpPr>
            <p:spPr>
              <a:xfrm flipH="1" flipV="1">
                <a:off x="829440" y="2678400"/>
                <a:ext cx="919080" cy="98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58" name=""/>
              <p:cNvSpPr txBox="1"/>
              <p:nvPr/>
            </p:nvSpPr>
            <p:spPr>
              <a:xfrm rot="10800000">
                <a:off x="830160" y="2678760"/>
                <a:ext cx="918360" cy="98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3530520" y="1690200"/>
              <a:ext cx="919080" cy="988200"/>
              <a:chOff x="3530520" y="1690200"/>
              <a:chExt cx="919080" cy="988200"/>
            </a:xfrm>
          </p:grpSpPr>
          <p:cxnSp>
            <p:nvCxnSpPr>
              <p:cNvPr id="1160" name="AutoShape 109"/>
              <p:cNvCxnSpPr/>
              <p:nvPr/>
            </p:nvCxnSpPr>
            <p:spPr>
              <a:xfrm flipH="1" flipV="1">
                <a:off x="3530520" y="1690200"/>
                <a:ext cx="919080" cy="988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61" name=""/>
              <p:cNvSpPr txBox="1"/>
              <p:nvPr/>
            </p:nvSpPr>
            <p:spPr>
              <a:xfrm rot="10800000">
                <a:off x="3531240" y="1690560"/>
                <a:ext cx="918360" cy="98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3434760" y="1799280"/>
              <a:ext cx="921600" cy="985680"/>
              <a:chOff x="3434760" y="1799280"/>
              <a:chExt cx="921600" cy="985680"/>
            </a:xfrm>
          </p:grpSpPr>
          <p:cxnSp>
            <p:nvCxnSpPr>
              <p:cNvPr id="1163" name="AutoShape 108"/>
              <p:cNvCxnSpPr/>
              <p:nvPr/>
            </p:nvCxnSpPr>
            <p:spPr>
              <a:xfrm>
                <a:off x="3434760" y="1799280"/>
                <a:ext cx="921960" cy="986040"/>
              </a:xfrm>
              <a:prstGeom prst="straightConnector1">
                <a:avLst/>
              </a:prstGeom>
              <a:ln w="9360">
                <a:solidFill>
                  <a:srgbClr val="0d0d0d"/>
                </a:solidFill>
                <a:miter/>
                <a:tailEnd len="med" type="triangle" w="med"/>
              </a:ln>
            </p:spPr>
          </p:cxnSp>
          <p:sp>
            <p:nvSpPr>
              <p:cNvPr id="1164" name=""/>
              <p:cNvSpPr txBox="1"/>
              <p:nvPr/>
            </p:nvSpPr>
            <p:spPr>
              <a:xfrm>
                <a:off x="3434760" y="1799280"/>
                <a:ext cx="921240" cy="98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1886040" y="3724560"/>
              <a:ext cx="1451880" cy="1800"/>
              <a:chOff x="1886040" y="3724560"/>
              <a:chExt cx="1451880" cy="1800"/>
            </a:xfrm>
          </p:grpSpPr>
          <p:cxnSp>
            <p:nvCxnSpPr>
              <p:cNvPr id="1166" name="AutoShape 107"/>
              <p:cNvCxnSpPr/>
              <p:nvPr/>
            </p:nvCxnSpPr>
            <p:spPr>
              <a:xfrm>
                <a:off x="1886040" y="3724560"/>
                <a:ext cx="145224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67" name=""/>
              <p:cNvSpPr txBox="1"/>
              <p:nvPr/>
            </p:nvSpPr>
            <p:spPr>
              <a:xfrm>
                <a:off x="1886040" y="3724560"/>
                <a:ext cx="1451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1860480" y="1765440"/>
              <a:ext cx="1475640" cy="1800"/>
              <a:chOff x="1860480" y="1765440"/>
              <a:chExt cx="1475640" cy="1800"/>
            </a:xfrm>
          </p:grpSpPr>
          <p:cxnSp>
            <p:nvCxnSpPr>
              <p:cNvPr id="1169" name="AutoShape 106"/>
              <p:cNvCxnSpPr/>
              <p:nvPr/>
            </p:nvCxnSpPr>
            <p:spPr>
              <a:xfrm flipH="1">
                <a:off x="1860480" y="1765440"/>
                <a:ext cx="14760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70" name=""/>
              <p:cNvSpPr txBox="1"/>
              <p:nvPr/>
            </p:nvSpPr>
            <p:spPr>
              <a:xfrm>
                <a:off x="1860840" y="1765440"/>
                <a:ext cx="1475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718560" y="1675080"/>
              <a:ext cx="932040" cy="880560"/>
              <a:chOff x="718560" y="1675080"/>
              <a:chExt cx="932040" cy="880560"/>
            </a:xfrm>
          </p:grpSpPr>
          <p:cxnSp>
            <p:nvCxnSpPr>
              <p:cNvPr id="1172" name="AutoShape 105"/>
              <p:cNvCxnSpPr/>
              <p:nvPr/>
            </p:nvCxnSpPr>
            <p:spPr>
              <a:xfrm flipV="1">
                <a:off x="718560" y="1675080"/>
                <a:ext cx="932400" cy="8809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173" name=""/>
              <p:cNvSpPr txBox="1"/>
              <p:nvPr/>
            </p:nvSpPr>
            <p:spPr>
              <a:xfrm rot="10800000">
                <a:off x="718560" y="1675080"/>
                <a:ext cx="931680" cy="88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1860480" y="1585080"/>
              <a:ext cx="1508400" cy="3600"/>
              <a:chOff x="1860480" y="1585080"/>
              <a:chExt cx="1508400" cy="3600"/>
            </a:xfrm>
          </p:grpSpPr>
          <p:cxnSp>
            <p:nvCxnSpPr>
              <p:cNvPr id="1175" name="AutoShape 104"/>
              <p:cNvCxnSpPr/>
              <p:nvPr/>
            </p:nvCxnSpPr>
            <p:spPr>
              <a:xfrm>
                <a:off x="1860480" y="1585080"/>
                <a:ext cx="1508760" cy="396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176" name=""/>
              <p:cNvSpPr txBox="1"/>
              <p:nvPr/>
            </p:nvSpPr>
            <p:spPr>
              <a:xfrm>
                <a:off x="1860480" y="1585080"/>
                <a:ext cx="1508040" cy="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Oval 103"/>
            <p:cNvSpPr/>
            <p:nvPr/>
          </p:nvSpPr>
          <p:spPr>
            <a:xfrm>
              <a:off x="3337560" y="1582560"/>
              <a:ext cx="193320" cy="206640"/>
            </a:xfrm>
            <a:prstGeom prst="ellipse">
              <a:avLst/>
            </a:prstGeom>
            <a:solidFill>
              <a:srgbClr val="1f49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832680" y="1765440"/>
              <a:ext cx="916200" cy="883080"/>
              <a:chOff x="832680" y="1765440"/>
              <a:chExt cx="916200" cy="883080"/>
            </a:xfrm>
          </p:grpSpPr>
          <p:cxnSp>
            <p:nvCxnSpPr>
              <p:cNvPr id="1179" name="AutoShape 102"/>
              <p:cNvCxnSpPr/>
              <p:nvPr/>
            </p:nvCxnSpPr>
            <p:spPr>
              <a:xfrm flipH="1">
                <a:off x="832680" y="1765440"/>
                <a:ext cx="916560" cy="88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80" name=""/>
              <p:cNvSpPr txBox="1"/>
              <p:nvPr/>
            </p:nvSpPr>
            <p:spPr>
              <a:xfrm>
                <a:off x="833040" y="1765440"/>
                <a:ext cx="915840" cy="88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3434400" y="2810880"/>
              <a:ext cx="920520" cy="839520"/>
              <a:chOff x="3434400" y="2810880"/>
              <a:chExt cx="920520" cy="839520"/>
            </a:xfrm>
          </p:grpSpPr>
          <p:cxnSp>
            <p:nvCxnSpPr>
              <p:cNvPr id="1182" name="AutoShape 101"/>
              <p:cNvCxnSpPr/>
              <p:nvPr/>
            </p:nvCxnSpPr>
            <p:spPr>
              <a:xfrm flipV="1">
                <a:off x="3434760" y="2810880"/>
                <a:ext cx="920520" cy="839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183" name=""/>
              <p:cNvSpPr txBox="1"/>
              <p:nvPr/>
            </p:nvSpPr>
            <p:spPr>
              <a:xfrm rot="10800000">
                <a:off x="3434400" y="2810880"/>
                <a:ext cx="919800" cy="83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3529080" y="2907360"/>
              <a:ext cx="924120" cy="879120"/>
              <a:chOff x="3529080" y="2907360"/>
              <a:chExt cx="924120" cy="879120"/>
            </a:xfrm>
          </p:grpSpPr>
          <p:cxnSp>
            <p:nvCxnSpPr>
              <p:cNvPr id="1185" name="AutoShape 100"/>
              <p:cNvCxnSpPr/>
              <p:nvPr/>
            </p:nvCxnSpPr>
            <p:spPr>
              <a:xfrm flipH="1">
                <a:off x="3529080" y="2907360"/>
                <a:ext cx="924480" cy="879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86" name=""/>
              <p:cNvSpPr txBox="1"/>
              <p:nvPr/>
            </p:nvSpPr>
            <p:spPr>
              <a:xfrm>
                <a:off x="3529440" y="2907360"/>
                <a:ext cx="923760" cy="87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1820880" y="3876840"/>
              <a:ext cx="1476720" cy="1440"/>
              <a:chOff x="1820880" y="3876840"/>
              <a:chExt cx="1476720" cy="1440"/>
            </a:xfrm>
          </p:grpSpPr>
          <p:cxnSp>
            <p:nvCxnSpPr>
              <p:cNvPr id="1188" name="AutoShape 99"/>
              <p:cNvCxnSpPr/>
              <p:nvPr/>
            </p:nvCxnSpPr>
            <p:spPr>
              <a:xfrm flipH="1">
                <a:off x="1820880" y="3876840"/>
                <a:ext cx="147708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89" name=""/>
              <p:cNvSpPr txBox="1"/>
              <p:nvPr/>
            </p:nvSpPr>
            <p:spPr>
              <a:xfrm>
                <a:off x="1821240" y="3876840"/>
                <a:ext cx="14763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732680" y="1765440"/>
              <a:ext cx="1603080" cy="1876680"/>
              <a:chOff x="1732680" y="1765440"/>
              <a:chExt cx="1603080" cy="1876680"/>
            </a:xfrm>
          </p:grpSpPr>
          <p:cxnSp>
            <p:nvCxnSpPr>
              <p:cNvPr id="1191" name="AutoShape 98"/>
              <p:cNvCxnSpPr/>
              <p:nvPr/>
            </p:nvCxnSpPr>
            <p:spPr>
              <a:xfrm flipH="1">
                <a:off x="1732680" y="1765440"/>
                <a:ext cx="1603440" cy="1877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2" name=""/>
              <p:cNvSpPr txBox="1"/>
              <p:nvPr/>
            </p:nvSpPr>
            <p:spPr>
              <a:xfrm>
                <a:off x="1733040" y="1765440"/>
                <a:ext cx="1602720" cy="18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1858680" y="1798920"/>
              <a:ext cx="1631160" cy="1900080"/>
              <a:chOff x="1858680" y="1798920"/>
              <a:chExt cx="1631160" cy="1900080"/>
            </a:xfrm>
          </p:grpSpPr>
          <p:cxnSp>
            <p:nvCxnSpPr>
              <p:cNvPr id="1194" name="AutoShape 97"/>
              <p:cNvCxnSpPr/>
              <p:nvPr/>
            </p:nvCxnSpPr>
            <p:spPr>
              <a:xfrm flipV="1">
                <a:off x="1859040" y="1798920"/>
                <a:ext cx="1631160" cy="190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5" name=""/>
              <p:cNvSpPr txBox="1"/>
              <p:nvPr/>
            </p:nvSpPr>
            <p:spPr>
              <a:xfrm rot="10800000">
                <a:off x="1858680" y="1798920"/>
                <a:ext cx="1630440" cy="189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829880" y="1764720"/>
              <a:ext cx="4320" cy="1885680"/>
              <a:chOff x="1829880" y="1764720"/>
              <a:chExt cx="4320" cy="1885680"/>
            </a:xfrm>
          </p:grpSpPr>
          <p:cxnSp>
            <p:nvCxnSpPr>
              <p:cNvPr id="1197" name="AutoShape 96"/>
              <p:cNvCxnSpPr/>
              <p:nvPr/>
            </p:nvCxnSpPr>
            <p:spPr>
              <a:xfrm flipH="1" flipV="1">
                <a:off x="1829880" y="1764720"/>
                <a:ext cx="4680" cy="1886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8" name=""/>
              <p:cNvSpPr txBox="1"/>
              <p:nvPr/>
            </p:nvSpPr>
            <p:spPr>
              <a:xfrm rot="10800000">
                <a:off x="1829880" y="1764720"/>
                <a:ext cx="3960" cy="188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3529080" y="1799280"/>
              <a:ext cx="1800" cy="1881720"/>
              <a:chOff x="3529080" y="1799280"/>
              <a:chExt cx="1800" cy="1881720"/>
            </a:xfrm>
          </p:grpSpPr>
          <p:cxnSp>
            <p:nvCxnSpPr>
              <p:cNvPr id="1200" name="AutoShape 95"/>
              <p:cNvCxnSpPr/>
              <p:nvPr/>
            </p:nvCxnSpPr>
            <p:spPr>
              <a:xfrm flipH="1" flipV="1">
                <a:off x="3529080" y="1799280"/>
                <a:ext cx="2160" cy="18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01" name=""/>
              <p:cNvSpPr txBox="1"/>
              <p:nvPr/>
            </p:nvSpPr>
            <p:spPr>
              <a:xfrm rot="10800000">
                <a:off x="3529440" y="1799640"/>
                <a:ext cx="1440" cy="188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1693440" y="1765080"/>
              <a:ext cx="1440" cy="1915920"/>
              <a:chOff x="1693440" y="1765080"/>
              <a:chExt cx="1440" cy="1915920"/>
            </a:xfrm>
          </p:grpSpPr>
          <p:cxnSp>
            <p:nvCxnSpPr>
              <p:cNvPr id="1203" name="AutoShape 94"/>
              <p:cNvCxnSpPr/>
              <p:nvPr/>
            </p:nvCxnSpPr>
            <p:spPr>
              <a:xfrm>
                <a:off x="1693440" y="1765080"/>
                <a:ext cx="1800" cy="1916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204" name=""/>
              <p:cNvSpPr txBox="1"/>
              <p:nvPr/>
            </p:nvSpPr>
            <p:spPr>
              <a:xfrm>
                <a:off x="1693440" y="1765080"/>
                <a:ext cx="1080" cy="191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3366360" y="1774440"/>
              <a:ext cx="1440" cy="1946160"/>
              <a:chOff x="3366360" y="1774440"/>
              <a:chExt cx="1440" cy="1946160"/>
            </a:xfrm>
          </p:grpSpPr>
          <p:cxnSp>
            <p:nvCxnSpPr>
              <p:cNvPr id="1206" name="AutoShape 93"/>
              <p:cNvCxnSpPr/>
              <p:nvPr/>
            </p:nvCxnSpPr>
            <p:spPr>
              <a:xfrm>
                <a:off x="3366360" y="1774440"/>
                <a:ext cx="1800" cy="1946520"/>
              </a:xfrm>
              <a:prstGeom prst="straightConnector1">
                <a:avLst/>
              </a:prstGeom>
              <a:ln w="38160">
                <a:solidFill>
                  <a:srgbClr val="002060"/>
                </a:solidFill>
                <a:miter/>
                <a:tailEnd len="med" type="triangle" w="med"/>
              </a:ln>
            </p:spPr>
          </p:cxnSp>
          <p:sp>
            <p:nvSpPr>
              <p:cNvPr id="1207" name=""/>
              <p:cNvSpPr txBox="1"/>
              <p:nvPr/>
            </p:nvSpPr>
            <p:spPr>
              <a:xfrm>
                <a:off x="3366360" y="1774440"/>
                <a:ext cx="1080" cy="194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Text Box 92"/>
            <p:cNvSpPr/>
            <p:nvPr/>
          </p:nvSpPr>
          <p:spPr>
            <a:xfrm>
              <a:off x="1132920" y="1114200"/>
              <a:ext cx="5619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</a:t>
              </a:r>
              <a:r>
                <a:rPr b="1" lang="en-US" sz="16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91"/>
            <p:cNvSpPr/>
            <p:nvPr/>
          </p:nvSpPr>
          <p:spPr>
            <a:xfrm>
              <a:off x="1491120" y="2449440"/>
              <a:ext cx="15768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90"/>
            <p:cNvSpPr/>
            <p:nvPr/>
          </p:nvSpPr>
          <p:spPr>
            <a:xfrm>
              <a:off x="3140280" y="2449440"/>
              <a:ext cx="157680" cy="36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, решаемые с помощью топологических моделей  ССТ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5440" y="1225440"/>
            <a:ext cx="911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ценки эффективности конструктивно-технических решений по размещению компонентов инфраструктуры ССТК и оптимизации сетевого трафика с помощью топологических моделей  можно решать следующие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и выбор рациональных вариантов построения топологии  сети и размещения базовых телекоммуникационных уз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производительности сетевой инфраструктуры в целом и отдельных критических участков ССТ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и выбор кратчайших путей в транспортной се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структуры потоков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алгоритмов оптимальной маршрут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15840" y="94932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, в котором принципиально важным является задание направлений соединений от одной вершины к другой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иентированным граф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раф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Ребра в орграфе называ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г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Граф, в котором направления соединений между вершинами не выделены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риентированны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отнесё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ша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зывается граф, имеющий как неориентированные связи между вершинами, т.е. ребра, так и ориентированные (дуг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ара вершин графа соединяется двумя или большим количеством ребер (дуг), то такие ребра (дуги) называ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ьн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ри этом две дуги, одинаково направленные по отношению к связываемым ими вершинам орграфа, называ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ого параллельн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различно направленные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трого параллельн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араллельные ребра называются такж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тн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инам и/или ребрам (дугам) графа могут быть приписаны некоторые количественные значения их характерных свойств, называемы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с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ес вершины или ребра (дуги) может отражать любую количественную или качественную характеристику соответствующего объекта. Например, в графе, описывающем структуру телекоммуникационных сетей передачи данных, это могут быть протяжённости (длины) соответствующих линий связи, их пропускные способности и т.д. Граф в таком случае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вешен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320" y="9036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0" y="838080"/>
            <a:ext cx="914400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может быть задан свое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трицей смеж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усть граф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меет множество вершин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}, состоящее из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. Две вершины графа называ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ежн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сли они связаны между собой хотя бы одним ребром (дугой). Тогда можно определить матрицу смежност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квадратную матриц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элемен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ой равен единице, если существует одно или несколько ребер (в орграфе – дуг), связывающих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звешенном графе значение элемент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о весу ребра (в орграфе – дуги), связывающей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Если непосредственные связи между вершин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сутствуют, элемен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 нулю. Отсюда следует, что для неориентированного графа матрица смежности всегда будет симметричной относительно главной диаго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одним возможным вариантом задания графа является его описание с помощью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трицы инциденц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Ребро, соединяющее две смежные вершины графа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цидентны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м вершинам. Тогда в неориентированном графе с множеством вершин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}, состоящим из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, и множеством ребер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}, состоящим из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ов, матрица инциденци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ся как прямоугольная матриц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элемен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ой равен единице, если верши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цидентна ребр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и равен нулю в противном случ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рица инциденций для орграфа определяется как прямоугольная матриц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элемен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торой равен плюс единице, если дуг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сходит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минус единице, если дуг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заходит в вершин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 равен нулю в остальных случа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ребро или дуга имеют в качестве начальной и конечной вершины одну и ту же вершину графа, то такое ребро (дуга)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т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ребер, инцидентных некоторой вершин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етля учитывается дважды)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пенью данной верши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 без петель и кратных ребер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Граф без петель, но с кратными ребрами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ульти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рграф считается простым, если он не имеет строго параллельных дуг и петель. Простой граф, в котором любые две вершины соединены ребрами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полном графе степени всех его вершин равны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более общим случаем представления объекта в виде графа может считаться тот, когда в нем допускаются петли и кратные ребра. Такой граф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, степени всех вершин которого одинаковы и равны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род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гуляр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п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Граф, в котором отсутствуют связи между вершинами, т.е. нет ребер и дуг, а, значит, все вершины явля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олированн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ст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ль-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стью граф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если 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, т.е. исходный граф содержит все вершины и ребра любой своей части. Иначе говоря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сть граф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одержит некоторое подмножество его вершин наряду с некоторым подмножеством его ребер (дуг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часть графа, образованная некоторым выбранным подмножеством его вершин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С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е со всеми ребрами (дугами), инцидентными только вершинам данного подмно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граф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называется такая часть графа, которая содержит все вершины исходного граф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также некоторое выделенное подмножество его ребер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граф по отношению к его подграфу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а по отношению к его суграфу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ерхграф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ршрут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линой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неориентированном графе называется последовательност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бер графа таких, что граничные вершины двух соседних ребер совпадают. При этом на некоторых маршрутах от начальной вершины и до конечной не все ребра обязательно разли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ориентированном графе называется произвольная последовательность его дуг такая, что конец одной дуги является началом другой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ой пу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такой путь, в котором ни одна дуга не встречается дважды. Путь, в котором ни одна вершина графа не встречается дважды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ментар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тур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путь, в котором конечная вершина совпадает с начальной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иной пу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ту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число дуг, присутствующих в данном пути, или сумма длин всех таких дуг, если указанные длины зад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пь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подмножество ребер неориентированного графа, которые можно расположить таким образом, что конец одного ребра является началом другого. Иными словами, цепь – это последовательность обхода смежных вершин 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кнутая цепь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пределе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ментар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пей формулируются по аналогии с простым и элементарным путем. Любой элементарный цикл является простым, обратное утверждение в общем случае нев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любые две вершины графа можно соединить цепью, то граф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яз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сли граф не является связным, то его можно разбить на связные подграфы, называем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онент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язностью граф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зывается минимальное число ребер, после удаления которых граф становится несвязным. Если существует такая вершина, удаление которой превращает связный граф (или компоненту несвязного графа) в несвязный, то она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очкой сочле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Ребро с аналогичными свойствами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ст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раф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льно связ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если любые две вершины графа можно соединить путем. В сильно связном графе для любой пары верши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лжен по определению существовать не только путь из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, но и путь из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рев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ется связный ациклический граф без петель, имеющий не менее двух вершин. Дерево на множестве вершин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егда содержит ровн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ребер. В дереве любые две вершины связаны только одной цеп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термины и определения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21:06:54Z</dcterms:created>
  <dc:creator>Адель</dc:creator>
  <dc:description/>
  <dc:language>en-US</dc:language>
  <cp:lastModifiedBy>Павел</cp:lastModifiedBy>
  <dcterms:modified xsi:type="dcterms:W3CDTF">2014-03-17T09:24:4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