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8E9-1F06-4395-AB5D-6807FC437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9C08-FBD9-484C-81CA-7C3B3F783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4BA-B9FC-4FDB-9104-BC1889EC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A9F-E4A6-4603-AEB3-6838B50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AFF-6FF1-41D7-BBCB-45408616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6DA-6BED-4F4E-BC7E-BE4C374A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9ED-E6F4-47EC-9FA9-590009E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D84-DA3C-4AA3-BD9D-25C836C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7CC-9A97-4212-8E99-BA34125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878-736F-4CB5-886C-01EC98A6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6DD-0CB2-475D-B2FC-979EEEC3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139-DAB7-41DF-A827-92152FD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65C-4691-45A7-81CC-92C74B7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525-38FC-4D11-9534-349F4C8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5E75-C833-424F-ACB4-D6A36B925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Моделирование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сетей и систем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телекоммуникаций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(ССТК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Общая классификация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108000" y="1844640"/>
            <a:ext cx="9036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дели сложных технических систем (СТС) могут быть классифицированы следующим образом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Физические или натурные мо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Знаковые (абстрактные) мо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Модели гибридные (квазинатуральны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изически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1640" y="1052280"/>
            <a:ext cx="8964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изические модели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материальные воплощения исследуемых реальных объектов, т.е. их натурные физические макеты. Такие модели-прототипы могут подразделяться на натуральные, масштабные и аналоговые. Поведение аналоговых прототипов, имеющих, как правило, другую физическую природу, чем реальные объекты, тем не менее может являться полноценным подобием их поведения и описываться абсолютно одинаковыми алгебраическими или дифференциальными уравнениями. Так, известным аналогом, имитирующим динамику поведения механических систем, являются электротехн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L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цепи. Дифференциальные уравнения, описывающие динамические процессы в механических системах и электрических цепях, во многих случаях полностью иденти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наков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080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Знаковые модели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быть представлены, например, в виде графических изображений (рисунки, чертежи, анимация), в виде вербальных (иначе говоря, словесных) описаний реальных объектов (примером является техническая документация, прилагаемая к изделиям), а также в виде математических модельных абстракций (формул, графиков, алгоритмов и т.д.), которые описывают структуру и поведение моделируемых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тематические  модели СТ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1225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атематическая модель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М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упорядоченная совокупность (система) математических абстракций (логических схем, отдельных формул, систем уравнений, алгоритмов и т.д.), описывающих состав, структуру и поведение моделируемого объекта (СТС) во времени и в пространстве с заданной точностью и необходимой степенью детализации. В рамках данной дисциплины в дальнейшем будем ориентироваться на изучение и применение именно математических моделей ССТ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е модели в свою очередь делятся на аналитические и имитационные. Разновидности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аналитических модел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быть представлены в виде формульных, алгоритмических, графоаналитических, табличных и други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митационные мод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правило, моделируют (имитируют) внешние проявления процесса функционирования реального объекта и редко когда отражают его действительную внутреннюю структуру, истинное состояние и поведение его элементов (т.е. в рамках таких моделей действует принцип «чёрного ящик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математических мод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08000" y="1782720"/>
            <a:ext cx="903600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физической природы процессов, характеризующих сущность изучаемого объекта, различают также следующие виды математических моделей СТ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непрерывно-детерминиров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дискретно-детерминиров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стохастические (вероятностны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случае ММ сложного объекта исследований может содержать как детерминированные, так и стохастические составляющие. Естественно, будут соответствующим образом различаться и методы исследования таких гибридных моде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лючевые проблемы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11160" y="1341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ейшей и важнейшей проблемой моделирования СТС является собственно синтез моделей, адекватно отражающих интересующие исследователей аспекты архитектуры и поведения изучаемого объе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ой важной проблемой является разработка эффективных методов анализа разработанных моделей, например, специальных численных методов интегрирования дифференциальных уравнений заданного класса, которые описывают динамику поведения моделируемой СТ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 правильной интерпретации результатов моделирования и оценки адекватности моделей также может быть отнесена к одной из основных проблем моде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ее представление математической модели  СТ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2"/>
          <p:cNvGrpSpPr/>
          <p:nvPr/>
        </p:nvGrpSpPr>
        <p:grpSpPr>
          <a:xfrm>
            <a:off x="2243160" y="1479600"/>
            <a:ext cx="4591080" cy="2409840"/>
            <a:chOff x="2243160" y="1479600"/>
            <a:chExt cx="4591080" cy="2409840"/>
          </a:xfrm>
        </p:grpSpPr>
        <p:sp>
          <p:nvSpPr>
            <p:cNvPr id="76" name="Прямоугольник 4"/>
            <p:cNvSpPr/>
            <p:nvPr/>
          </p:nvSpPr>
          <p:spPr>
            <a:xfrm>
              <a:off x="3068640" y="2309760"/>
              <a:ext cx="2693880" cy="1579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"/>
            <p:cNvSpPr/>
            <p:nvPr/>
          </p:nvSpPr>
          <p:spPr>
            <a:xfrm>
              <a:off x="3647880" y="271620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, V, 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Стрелка вправо 6"/>
            <p:cNvSpPr/>
            <p:nvPr/>
          </p:nvSpPr>
          <p:spPr>
            <a:xfrm>
              <a:off x="2471760" y="2813040"/>
              <a:ext cx="520560" cy="57132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Стрелка вправо 7"/>
            <p:cNvSpPr/>
            <p:nvPr/>
          </p:nvSpPr>
          <p:spPr>
            <a:xfrm>
              <a:off x="5859720" y="2792520"/>
              <a:ext cx="561960" cy="57132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Стрелка вправо 8"/>
            <p:cNvSpPr/>
            <p:nvPr/>
          </p:nvSpPr>
          <p:spPr>
            <a:xfrm rot="5400000">
              <a:off x="4239360" y="1744920"/>
              <a:ext cx="455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9"/>
            <p:cNvSpPr/>
            <p:nvPr/>
          </p:nvSpPr>
          <p:spPr>
            <a:xfrm>
              <a:off x="2243160" y="2180520"/>
              <a:ext cx="8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0"/>
            <p:cNvSpPr/>
            <p:nvPr/>
          </p:nvSpPr>
          <p:spPr>
            <a:xfrm>
              <a:off x="3647880" y="1479600"/>
              <a:ext cx="8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6009480" y="2136240"/>
              <a:ext cx="8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1"/>
          <p:cNvSpPr/>
          <p:nvPr/>
        </p:nvSpPr>
        <p:spPr>
          <a:xfrm>
            <a:off x="179280" y="4305240"/>
            <a:ext cx="8964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управляемых входных воздействий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выходных характеристик систем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воздействий внешней сред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собственных состояний систем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внутренних (фазовых) переменны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ктор собственных параметров систем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1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иды моделей ССТ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152280" y="1341360"/>
            <a:ext cx="8964720" cy="4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одели архитектуры ССТ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опологические модели сетей передачи данных (телекоммуникац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одели для анализа функционирования Центров обработки данных, входящих в состав ССТ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одели для анализа механизмов передачи данных (сетевого трафика, методов адресации и маршрутизаци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одельные представления для анализа очередей, методов и технологий приоритетного обслуживания в сетевых узлах ССТ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45692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разработки и применения моделей в ходе экспериментальных исследований – это важнейший, сложнейший и многотрудный этап проектирования любой СТ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связан с кропотливым и тщательным предварительным изучением создаваемого объекта, собственно разработкой его модельных представлений и макетов-прототипов, их верификацией (т.е. проверкой адекватности), а также их непосредственным использованием в процессе изучения свойств и характеристик исследуемого объекта (системы) путём модел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Модель Взаимодействия Открытых Систем (ВОС -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OSI</a:t>
            </a: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)</a:t>
            </a:r>
            <a:br>
              <a:rPr sz="5400"/>
            </a:b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(Лекция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5877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 -  Open Systems Inter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Введение. Термины и определения. Цель и задачи моделирования.</a:t>
            </a:r>
            <a:br>
              <a:rPr sz="5400"/>
            </a:b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(Лекции 1-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цепция Открытых Систем  -  это подход, позволяющий реализовать крупномасштабные  ИТ-системы  ( в том числе на региональном уровне), это набор принципов, правил и методов создания развивающихся систем, представленный в виде комплекса стандартов описания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заимодействия Открыт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пределение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E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«Открытые Системы – это системы, построенные на основе исчерпывающего и согласованного набора открытых общедоступных международных спецификаций, стандартов и функциональных профилей стандартов в области информационных технологий, которые определяют интерфейсы, службы и поддерживающие их форматы таким образом, чтобы обеспечить интероперабельность и мобильность приложений, данных и персона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13154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"Открытая система - это система, реализующая открытые спецификации на интерфейсы, службы и форматы данных, достаточные для того, чтобы обеспечи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 возможность переноса (мобильность) прикладных систем, разработанных должным образом, с минимальными изменениями на широкий диапазон сист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 совместную работу (интероперабельность) с другими прикладными системами на локальных и удаленных платформ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 взаимодействие с пользователями в стиле, облегчающем последним переход от системы к системе (мобильность пользователей)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пределение Комитета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OSIX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100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ли Концепции В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ть нормативно-методический  базис, стандартизирующий принципы, методы и технологии создания крупномасштабных ИТ-систем, обладающих  свойством открытости по отношению к инновационным техническим решениям, а значит, способным к развитию и постоянному усовершенствованию на всех этапах жизненного цик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ышение эффективности процессов проектирования, разработки и практического внедрения   ИТ в различных предметных областях и прикладных отрас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ные проблемы подхода ВО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задач стандартизации в области 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резвычайная степень неоднородности и разноплановости объектов стандартиз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хнические средства, программное обеспечение, каналы и средства связи, структуры данных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взаимодействующих  участников (объектов, субъектов информати-зации), сложность взаимосвязей и проце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е развитие ИТ, опережающее процессы стандарт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ности формализации моделей В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ная терминология В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лонная модель ВОС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 – Reference Model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структурированное множество понятий и их взаимосвязей для некоторой предметной области, осуществляющее концептуальную структуризацию данной области и имеющее достаточно обобщенное опис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а Открытых Систе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E – Open System Environment)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ый набор интерфейсов, услуг, форматов, а также пользовательских аспектов, обеспечивающих интероперабельность и/или переносимость приложений и данных в рамках соответствующих спецификаций  базовых стандартов и профилей 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сономия – классификационная схема, применяемая для однозначной идентификации профилей или наборов профи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(International Standardized Profile)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ый профиль стандартов – согласованны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-ном уровне документ, описывающий один или несколько профилей (функциональных стандар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ль – набор, состоящий из одного или нескольких базовых стандартов и/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содержащий указание области применимости, список выбранных классов сервиса, тестовых наборов, опций и параметров базовых стандартов, необходимых для выполнения конкретных прикладных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офил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Program Interface)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филь, определяющий конкретную комбинацию базовых спецификаций прикладного пользовательского интерфейса в соответствии с модель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озможно дополненных базовыми стандартами и/или профилями для представления формата обмена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-87480" y="0"/>
            <a:ext cx="939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сновная терминология ВОС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офиль –  это профиль, который специфицирует все поведение ИТ-системы или часть ее поведения на одном или большем числе интерфейс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офиль – это конкретный профиль, составленный из базовых спецификаций, соответствующих моде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озможно дополненных базовыми стандартами и/или профилями для представления данных обмена и их форматов так называемы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рофи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 (Publicly Available Specification)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доступные спецификации, является  понятием, охватывающим опубликованные стандарты «де факто», и во многом соответствующее понятию Открытых спецификаций , определенных в эталонной моде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-87480" y="0"/>
            <a:ext cx="9396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сновная терминология ВОС (окон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семиуровневая модель ВОС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-19080" y="1268280"/>
            <a:ext cx="914400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талонная модель Взаимодействия Открытых Систем или модель ВОС (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SI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Open Systems Interconnections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), утверждённая Комитетом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O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1984г., в своём изначальном виде есть совокупность представлений о взаимодействии всех основных элементов сетевой инфраструктуры в процессе установления соединений и передачи данных в телекоммуникационных сетях различного масштаба и на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основе Эталонной модели ВОС лежит принцип разбиения архитектуры Открытой Системы на отдельные, функционально независимые, но логически взаимосвязанные уровни, которые располагаются послойно снизу-вверх и «опираются» друг на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этом верхние уровни не могут работать и выполнять свои собственные функциональные задачи без использования тех возможностей, которые предоставляют им нижние уровни модели В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едование концепции ВОС при создании инфокоммуникационных систем обеспечивает следующие преимуществ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звитие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Масштабируе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Интеропераб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ереносимость (мобиль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рмин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одель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(от лат. </a:t>
            </a:r>
            <a:r>
              <a:rPr b="0" i="1" lang="en-US" sz="3600" spc="-1" strike="noStrike">
                <a:solidFill>
                  <a:srgbClr val="002060"/>
                </a:solidFill>
                <a:latin typeface="Arial"/>
              </a:rPr>
              <a:t>modulus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– «мера», «аналог», «образец») имеет множество смысловых значений, однако обычно под моделью понимается некий материальный или представленный в форме абстракций объект (например, система математических уравнений), который в процессе познания замещает объект-оригинал в рамках определённых допущений (условий, предположений, выдвигаемых гипотез, упрощений, и т.д.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арактеристики модели В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звит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системы  к модернизации и постоянному усовершенствованию на всех стадиях и этапах ее жизненного ци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Масштабируем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войство системы, позволяющее ей эффективно работать в широком диапазоне параметров, определяющих ее собственные технические и ресурсные характеристики и/или характеристики поддерживающей ее ИТ-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Интероперабе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озможность совместного «прозрачного» использования информации и ИТ-ресурсов компонентами распределен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ереносим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войство ИТ-системы, позволяющее с возможно меньшими накладными расходами  осуществлять перенос ее ПО, информации и пользователей с одной прикладной платформы на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рганизации, разрабатывающие стандарты и профили стандартов технологи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O/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540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E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-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/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E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http://matses.ru/klient_server/ris/image00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84280"/>
            <a:ext cx="7201080" cy="5113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миуровневая  Эталонная модель ВОС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ровни Эталонной модели ВОС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(в порядке «сверху-вниз»)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801720" y="1989000"/>
            <a:ext cx="72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клад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я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ансовый (или сессионны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порт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т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ь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ая характеристика уровней модели ВОС (снизу-ввер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-25560" y="907920"/>
            <a:ext cx="927756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Физический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6666"/>
                </a:solidFill>
                <a:latin typeface="Arial"/>
              </a:rPr>
              <a:t>(самый нижний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ет передачу неструктурированного потока данных по физическому носителю (линиям связи). Данный уровень имеет дело с механическими, электрическими, функциональными и другими характеристиками доступа к физическому носителю (витой паре, медному кабелю, оптоволокну и т.д.). Физический уровень поддерживает согласование параметров и технических характеристик аппаратуры передачи данных на обоих концах сетевого соединения (уровни напряжения, устойчивость сигнала, помехозащищённость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Канальный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обеспечивает надёжную передачу информации по физическим линиям связи. Посылает блоки данных (пакеты, кадры) с необходимой для устойчивой работы сети синхронизацией, контролем и исправлением ошибок, а также осуществляет управление информационными поток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Сетевой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отвечает за установление соединений, адресацию и маршрутизацию при пересылке сформированных блоков данных, обеспечивает управление сетевыми соединениями. На сетевом уровне также осуществляется контроль загруженности лини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ранспортный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одели ВОС предназначен для обеспечения «прозрачного» переноса данных между конечными точками сетевых соединений. Одна из основных задач данного уровня – поддержка целостности данных. Для этих целей на транспортном уровне реализуется сквозное восстановление после ошибок, осуществляется общее управление информационными потоками и решается вопрос о типе устанавливаемых соедин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щая характеристика уровней модели ВОС (окон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6360" y="1341360"/>
            <a:ext cx="921564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Сеансовый (сессионный)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едоставляет возможности и структуру управления для взаимодействия приложений, устанавливает и разрывает сетевые соединения (сеансы связи) между приложениями и процессами, управляет реализацией этих соединений. На данном уровне также контролируются параметры устанавливаемых сетевых соединений и осуществляется синхронизация сетево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Уровень представления данных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ет независимость форматов представления используемых данных для различных пользователей, процессов и приложений. На данном уровне осуществляется синтаксический и семантический контроль данных, производится преобразование форматов данных из исходного формата отправителя в сетевой формат и наоборот, т.е. из сетевого – в целевой формат, используемый получателем пакета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икладной уровень</a:t>
            </a:r>
            <a:r>
              <a:rPr b="1" lang="ru-RU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ет доступ пользователей, процессов и приложений к сетевым сервисам в рамках модели ВОС, а также реализует механизмы предоставления всех видов услуг со стороны соответствующих сетевых служб. Поскольку на данном уровне обеспечивается необходимый интерфейс взаимодействия пользователей и приложений с сетевыми протоколами, его ещё называют 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протокольны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в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6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хема взаимодействия участников межсетевого об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http://900igr.net/datas/informatika/Protokoly-Interneta/0010-010-Etalonnaja-model-OS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одель взаимодействия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ткрыт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353440" cy="5211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284720" y="1268280"/>
            <a:ext cx="4464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643280" y="1341360"/>
            <a:ext cx="792360" cy="216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79280" y="1184400"/>
            <a:ext cx="8713800" cy="5673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79280" y="6597720"/>
            <a:ext cx="2016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дель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SE/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145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50920" y="6237360"/>
            <a:ext cx="2305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17640" y="7351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оделировани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– это научно-практический метод познания действительности, основанный на использовании в качестве основного объекта исследований  не  реального изучаемого предмета (системы), а подобного ему некоторого модельного прототипа (физического макета, математической модели или какого-либо другого аналога). Таким образом, в основе моделирования всегда лежит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одоби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исследуемого объекта и его модели, замещающей реальный объект при проведении модельных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дель, как правило, строится таким образом, чтобы наиболее полно отражать те или иные свойства изучаемого объекта в соответствии с поставленными целями исследования. Именно поэтому модель должна быть проще и доступней самого изучаемого сложного объекта, а также удобней и экономически выгодней для проведения исследований и экспериментов. Для одного и того же объекта могут быть созданы различные модели или даже классы моделей различной физической природы, отражающие его свойства с необходимой степенью адекват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40" y="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о такое моделиро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18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0" y="6381720"/>
            <a:ext cx="2771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Профили  стандартов Открытых Систем</a:t>
            </a:r>
            <a:br>
              <a:rPr sz="54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для самостоятельного изуче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250920" y="98100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Профиль – набор, состоящий из одного или нескольких базовых стандартов и/или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SP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, содержащий указание области применимости, список выбранных классов сервиса, тестовых наборов, опций и параметров базовых стандартов, необходимых для выполнения конкретных прикладных функций в рамках модели Открыты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иды  профилей Открыт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PI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-профиль (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pplication Program Interface) –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профиль, определяющий конкретную комбинацию базовых спецификаций прикладного пользовательского интерфейса в соответствии с моделью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POSIX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, возможно дополненных базовыми стандартами и/или профилями для представления формата обмена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E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-профиль –  это профиль, который специфицирует все поведение ИТ-системы или часть ее поведения на одном или большем числе интерфейсов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E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-профиль – это конкретный профиль, составленный из базовых спецификаций, соответствующих модели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, возможно дополненных базовыми стандартами и/или профилями для представления данных обмена и их форматов так называемыми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-профи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ри основных функции профилей 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лужат основой для разработки спецификаций при приобретении ИТ-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пределяют ориентиры для построения прикладных  ИТ-систем в рамках идеологии Открыт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Формируют эталонные представления при тестировании систем и приложений на соответствие стандартам Открытых Сис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ртикальная классификация профилей  Открытых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еждународный уров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Федеральный (национальный) уров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Региональный урове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ндустриальный межотраслевой уровень (ИТ-сфе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ровень министерств и ведомств (отраслев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ровень предприятий и организ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ровень структурных подразде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тратегические профили (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GOSEP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пр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фили прикладн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олные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SE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-профили (профили ИТ-платформ, систе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граниченные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SE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-профи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Локальные профили (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API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, OSI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-профил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фили функционального уровня (базовые спецификаци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рхитектурные спецификации (например, эталонные модел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аксономия  профилей  О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имер организации профиля  ОС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560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611280" y="5805360"/>
            <a:ext cx="5256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сновные функциональные проф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28920"/>
            <a:ext cx="9144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филь прикладного программного обеспеч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филь информационно-вычислительной сре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филь защиты информации в И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рофиль инструментальных средств, встроенных в 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оль и место функциональных проф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95280" y="6165720"/>
            <a:ext cx="7777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240" y="23184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чины использования мод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0" y="955800"/>
            <a:ext cx="925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следуемый объект на текущий момент может просто не существовать в объективной реальности, т.е. он может только находиться на ранних стадиях своего проектирования (примером являются любые вновь разрабатываемые сложные технические системы -СТ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альный объект недоступен для прямого изучения в силу удаленности (звёзды, галактики) или высокой степени опасности для исследователей (ядерные взрывы, процессы в ядерных реакторах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ъект доступен, но не может быть наблюдаем и изучен в реальном масштабе времени в силу слишком быстрого или слишком медленного протекания процессов (развитие солнечной системы и отдельных её планет, столкновения и распад частиц высоких энергий в ускорителях, социально-экономические процессы, эволюционные биологические, а также геофизические процессы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5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здание реально действующего прототипа объекта на данном этапе пока невозможно или нецелесообразно по тем или иным причинам, например, экономическим или эколог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Основные функции И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Используемые стандартизированные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API-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интерфей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Интерфейсы системы со средой функцион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Интерфейсы приложений со средствами защиты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филь прикладного ПО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реде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филь информационно-вычислительной сре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Графического пользовательского интерфей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идам используемых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Операционных систем с учетом выполняемых ими сетевых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лекоммуникационной среды по предоставлению сервисов различных уровней ВОС, а также стандарты сопряжения ИС с сетями передачи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хнических средств, определяющих параметры вычислительных платформ, возможности масштабирования и переносимости, надежности и производительности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68360" y="141300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0" y="1484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пределяет ее архитектуру в соответствии с выбранной моделью распределенной обработки данных. Позволяет детализировать данный профиль по следующим функциональным областям (профилям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филь защиты информации включ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информационной безопасности, реализуемые на систем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защиты от несанкционированного доступа, реализуемые на уровне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iddleware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управления данными, реализуемые СУБ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защиты программных средств, включая средства защиты от вирусов, «червей», «троянских коней»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защиты информации при обмене данными, включая криптографические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Функции администрирования средств и технологий информационной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филь инструментальных сред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68360" y="141300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50920" y="1413000"/>
            <a:ext cx="87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олжен отражать решения по выбору методологии и технологии создания, сопровождения и развития конкретной ИС. Область данного профиля охватывает функции, связанные с управлением доступом пользователей к ресурсам системы, конфигурацией ИТ-ресурсов, настройкой пользовательских интерфейсов, ведением баз данных, а также восстановлением работоспособности системы после аварий и сбо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фил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SE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гут быть использов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Для инвентаризации принятых подходов к решению задач информатизации и выбора конкретных 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омощи  при решении вопросов выбора новых ИТ-продуктов и их приобре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правления процессами комплексной информатизации предприятия или организации  в целом (задание требований на построение прикладных программ и систем в соответствии с используемым профилем, а также их тестирование на предмет соответствия данному профил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фил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SE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огут быть детализированы с целью отражения следующих вопро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28560"/>
            <a:ext cx="914400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строения моделей основной деятельности предприятия (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s-is, as-to-be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пособов практической реализации стратегии основной деятельности предприятия (объект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ратегии информатизац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ратегии управления предприят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оздания новых стандартов по информатиза-ц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тратегии замены одних ИТ другим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ледовательность действий при создании нового профил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труктурирование, формализация и разработка спецификаций прикладной области, для реализации которой создается данный профиль информационно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ыбор модели архитектуры среды, наиболее подходящей для реализации данной приклад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онкретизация требований, предъявляемых приложениями к компонентам программно-аппаратной среды, разработка спецификаций </a:t>
            </a:r>
            <a:r>
              <a:rPr b="1" lang="de-DE" sz="2000" spc="-1" strike="noStrike">
                <a:solidFill>
                  <a:srgbClr val="800080"/>
                </a:solidFill>
                <a:latin typeface="Arial"/>
              </a:rPr>
              <a:t>API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интерфейсов между ИВС-средой и приложениями, определение набора сервисов, поставляемых ИВС для прило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Наполнение профиля наборами базовых стандар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армонизация профиля для обеспечения его непротиворечив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формление документации по разработанному профи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Разработка тестов для проверки соответствия компонентов системы стандартам данного профи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работанные профили и функциональные стандарт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огут быть использов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и формировании технических и эргономических требований к разрабатываемой сис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оектировании системы с учетом всестороннего использования Концепции В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азработке тестов и сертификации разрабатываемых или приобретаемых компонентов ИТ-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При сопровождении, модернизации и развитии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pic_1_9"/>
          <p:cNvPicPr/>
          <p:nvPr/>
        </p:nvPicPr>
        <p:blipFill>
          <a:blip r:embed="rId1"/>
          <a:stretch/>
        </p:blipFill>
        <p:spPr>
          <a:xfrm>
            <a:off x="250920" y="189000"/>
            <a:ext cx="8496360" cy="6669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08000" y="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O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95280" y="6742080"/>
            <a:ext cx="4753080" cy="115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правления работ по стандартизации в рамках концепции развития ОС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24000" y="1555920"/>
            <a:ext cx="88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нифицированные пользовательские интерфейсы, в том числе графическ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языки и системы программ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нструментальные средства, встроенные в системы и предназначенные для их модификации и развития силами пользов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нтерфейсы прикладных программ и программных комплек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истемы управления базами данных и зна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нтерфейсы мобильной операционной системы для ИКТсред (стандарты POSI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пособы представления элементов дан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едставление информации в интегрированных (мультимедиа) средах, сочетающих обработку текстов, речи, видеоизобра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компьютерная графи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боры символов и кодирование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истемные интерфейсы аппарату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редства электронного обмена данными (электронная почта и т.д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и средства защиты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редства телекоммуникаций, в том числе по эталонной модели В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360" y="189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ль моде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0" y="1125360"/>
            <a:ext cx="9144000" cy="55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Цель  моделирования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получение, а также всестороннее расширение и углубление имеющихся знаний об исследуемом объекте (процессе, изделии, сложной системе), необходимых для решения поставленных перед исследователями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зработка модельных представлений и проведение модельных экспериментов – неотъемлемая составная часть процесса создания любой современной СТ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оделирование не только существенно ускоряет процесс проектирования сложных технических систем, но и облегчает поиск новых, зачастую абсолютно нестандартных и неожиданных технически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12704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нализ и рекомендации по выбору инструментальных средств проектирования приложений, переносимых между различными аппаратными платформами и операционными сред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экспериментальные образцы программных средств для поддержки всего жизненного цикла открытых систем, в том числе - экспертных систем принятия проектных решений, интеллектуального инструментария для проектирования программного обеспе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и средства моделирования (имитации) процессов взаимодействия в открытых систем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сследования языков следующих поколений в переносимых реализациях, функционирующих в среде открытых сист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бъектно-ориентированные средства проектирования и программирования открытых сист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и средства конструирования предметно-ориентированных языков, трансляторов с этих языков, синтаксически управляемых редакторов и интерпретирующих сред в открытых систем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сследование и разработка распределенных операционных систем и параллельных языков программирования, функционирующих в гетерогенной среде открытых сис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правления работ по инструментальным средствам поддержки проектирования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личительные черты интероперабельных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7812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личие методов и средств однородного, эквивалентного описания ресурсов сре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личие методов и средств метаописания информационных ресурсов среды как структурированного опыта создания информационных систем и средств решения задач в различных предметных областя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личие методологии и средств проектирования информационных ресурсов, достижения, в конечном счете, возможности динамического формирования требуемых композиций ресурсов, обеспечивающих решение задачи по ее спец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личие абстрактной модели вычислений в интероперабельной среде, поддержанной соответствующими сред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агаемые исследования и разработка интероперабельных средств информационных ресурсов включ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управления неоднородными мультибазами дан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управления неоднородными процедурными баз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управления мультитранзакц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управления многосредными (мультимедиа) данны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ы и средства управления базами знаний как информационными ресурс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редства поддержки интероперабельных сред неоднородных ИТ-ресур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бщие задачи моде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096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интез модельных представлений, адекватно отражающих те или иные аспекты поведения изучаемого объекта (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рификация моделей и определение областей их адеква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ведение модельных экспериментов с целью получения необходимого объема информации о свойствах, характеристиках и особенностях поведения изучаемого объекта (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овершенствование моделей по результатам модельных экспериментов с целью дальнейшего их использования для получения новых знаний об изучаемом объек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нализ и систематизация результатов модельных экспериментов, принятие научно-обоснованных заключений или проектных решений по изучаемому (либо вновь создаваемому) объекту на основании данных, полученных в процессе модел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0" y="119700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обходимая степень адекватности реальному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чность и надежность в заданных преде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стота и экономич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Эффективность в смысле гарантированного получения ожидаемых результатов, т.е. достижения заданной цели модел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нозначность интерпретации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ктическая полезность (возможность использования на практике полученных в результате моделирования новых знаний и представлен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новные требования к мод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Классификация моделей</a:t>
            </a:r>
            <a:br>
              <a:rPr sz="5400"/>
            </a:b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(Лекция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54:16Z</dcterms:created>
  <dc:creator>User</dc:creator>
  <dc:description/>
  <dc:language>en-US</dc:language>
  <cp:lastModifiedBy>Павел</cp:lastModifiedBy>
  <dcterms:modified xsi:type="dcterms:W3CDTF">2015-12-18T12:59:42Z</dcterms:modified>
  <cp:revision>42</cp:revision>
  <dc:subject/>
  <dc:title>Слайд 1</dc:title>
</cp:coreProperties>
</file>