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CEC-7D3C-4274-93B9-07EDB67F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45C-B628-4C0C-99E9-F30CD159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926-A473-492E-9F0D-DF14B84B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DCD-5086-4BAF-AF8A-0291E8A8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48B-353F-45B6-86B6-9AF9A393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A92-521B-44A0-9B99-329B028C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F27-6AE5-46F7-8C74-88E8F27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619-3EF0-4D03-B5F6-4EF9B57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711-DE19-4AE4-B97F-8EAEE03F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5C4-915A-4448-9CE6-8A870AB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063-329D-4171-B21B-B78D1A0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06-7A48-46E7-B574-ABCB2B9E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BD4-DDE3-4003-8736-5241E99A19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ahoma"/>
              </a:rPr>
              <a:t>Управление ИИП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627280" y="4724280"/>
            <a:ext cx="446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403280" y="4076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(продолжение кур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Общая архитектура сетевых ОС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2589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"/>
          <p:cNvSpPr/>
          <p:nvPr/>
        </p:nvSpPr>
        <p:spPr>
          <a:xfrm>
            <a:off x="755640" y="5950080"/>
            <a:ext cx="7704000" cy="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780000" y="2060640"/>
            <a:ext cx="180000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3007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47636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99564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51672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2124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471636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7236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403280" y="3500280"/>
            <a:ext cx="151308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258920" y="6093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рпоративная се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332000" y="2421000"/>
            <a:ext cx="6696000" cy="647640"/>
          </a:xfrm>
          <a:prstGeom prst="rect">
            <a:avLst/>
          </a:prstGeom>
          <a:solidFill>
            <a:srgbClr val="00ccff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Распределенные прило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5892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370836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622764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3924360" y="3500280"/>
            <a:ext cx="151272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6443640" y="3500280"/>
            <a:ext cx="151308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но- и методо-ориентированные  ППП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93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кеты для проведения аналитических расчетов и математического моделир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кеты статистической обработки да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кеты численных методов решения д.у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кеты имитационного моделирования сложных сист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методов оптимиз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нечетких методов и моделей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-computing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машинной граф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е проблемно-ориентированные ПП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едметно-ориентированные  ППП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моделирования объектов в различных предметных областях (машиностроение, связь, авиастроение, приборостроение, электроника, энергомашиностроение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моделирования и оптимизации процессов в различных областях (ядерная физика, экология, астрофизика, физика взрывов, медицина и др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обработки мультимедийного контен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расчетно-аналитического характера для конкретных прикладных областей (МКЭ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ологические и управленческие ПП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ПП военного и специального назна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ства автоматизации проектиров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АПР конструкторского назна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АПР технологического назна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АПР оснас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истемы 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PDM</a:t>
            </a: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Product Data Management)</a:t>
            </a: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Автоматизированные системы технологиче-ской подготовки производства  (АСТПП</a:t>
            </a:r>
            <a:r>
              <a:rPr b="1" lang="en-US" sz="2800" spc="-1" strike="noStrike">
                <a:solidFill>
                  <a:srgbClr val="e5ff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редства автоматизации сложных инженерных расч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редства визуализации сложных объемных конструкций (рендеринг изображений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Arial"/>
              </a:rPr>
              <a:t>САПР документир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СУ ТП  реального времен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У ТП промышленного назначения (металлургия, машиностроение, авиа- и приборостроение, энергомашиностроение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У ТП сложными объектами гидро-, тепло- и атомной энергетики (АЭС, гидро-, теплоэлектростанции и ЛЭП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У ТП топливно-энергетического комплекса (управление нефте- и газодобывающими комплексами, а также нефте- и газопроводам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У ТП транспортного назначения (железнодорожные и автоперевозки, управление воздушным движением, морскими и речными перевозкам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У ТП военного и специального назна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СУ ТП в телекоммуникационных отрасля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чие АСУ Т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истемы искусственного интеллек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тные сист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матизированные обучающие сист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ы распознавания изображ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хронные переводчики (анализ и распознавание речи, трансляция на другие язык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ы логического выв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ы поддержки баз зн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фисные ППП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айзе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Графические редакто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редства электронной поч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нтивирусные сред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ПП-переводчики, словари и т.д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Многофункциональные 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web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-браузе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ПП сканирования текстов и изображ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очие ППП офисного назна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"/>
              </a:rPr>
              <a:t>Архитектура распределенных ОС с промежуточным слоем  (</a:t>
            </a:r>
            <a:r>
              <a:rPr b="1" lang="en-US" sz="3200" spc="-1" strike="noStrike">
                <a:solidFill>
                  <a:srgbClr val="e5ffff"/>
                </a:solidFill>
                <a:latin typeface="Arial"/>
              </a:rPr>
              <a:t>middleware</a:t>
            </a:r>
            <a:r>
              <a:rPr b="1" lang="ru-RU" sz="3200" spc="-1" strike="noStrike">
                <a:solidFill>
                  <a:srgbClr val="e5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755640" y="5950080"/>
            <a:ext cx="7704000" cy="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780000" y="2060640"/>
            <a:ext cx="180000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3007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47636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99564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51672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2124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471636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7236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403280" y="3789360"/>
            <a:ext cx="1513080" cy="8650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258920" y="6093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рпоративная се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1476360" y="2205000"/>
            <a:ext cx="6481800" cy="647640"/>
          </a:xfrm>
          <a:prstGeom prst="rect">
            <a:avLst/>
          </a:prstGeom>
          <a:solidFill>
            <a:srgbClr val="00ccff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Распределенные прило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25892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70836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22764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3924360" y="3789360"/>
            <a:ext cx="1512720" cy="8650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443640" y="3789360"/>
            <a:ext cx="1513080" cy="8650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1476360" y="3068640"/>
            <a:ext cx="640872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программного обеспечения промежуточного сло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ребования к сетевым ОС корпоративного уровн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ность функционирования в гетерогенной распределенной  мультикомпьютерной сред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ность управления многообъектной се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ффективная интегрируемость с другими 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держка централизованной масштабируемой справочной службы корпоративной се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эффективность файловой сист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держка одновременной эффективной работы множества удаленных пользователей ИК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встроенных сервисов отказоустойчивости и безопасности данных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ребования к сетевым ОС корпоративного уровня (окончание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держка разнообразных СУБД, служб обмена сообщениями, архивирования данных, различных вспомогательных серви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держка сетевого оборудования различных стандартов и технологий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ernet, Token Ring, FDDI, Fast Ethernet, ATM, CWDM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держка различных стеков сетевых протокол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аимодействие с различными ОС конечных пользова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держка основных стандарто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MP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др.) и высокая эффективность управления се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спективность развития (модернизаци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меры сетевых ОС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X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её клоны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IX, BSD, Sun Solaris, HP-UX, SCO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др.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inux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её клоны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Red Hat-Fedora,  SuSE, Debian, Gentoo, Mandriva, SlackWare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 др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nyan VINES 6.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crosoft Windows N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vell NetW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Корпоративные СУБД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щие требования к корпоративным СУБ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поддерживать корпоративные базы данных, содержащие большие и сверхбольшие объемы хранимой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сть обработки транзакций - способность к быстрому распространению обновлений информации по всему корпоративному информационному простран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 механизмов целостности и непротиворечивости данных в рамках единого корпоративного информацион-ного простран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эффективных средств поддержки репликации и синхронизации копий БД на территориально удаленных  узлах ИИП и различных серверных платформах хра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ка мощных встроенных средств защиты данных и разграничения доступа к информационным ресурсам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400" y="2204640"/>
            <a:ext cx="91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мощных встроенных инструментальных средств автоматизации разработки приложений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технологических средств тестирования и контроля хранимой и вновь поступающей информ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 с ранее внедренными (унаследованными) традиционными системами поддержки данных в ИК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щие требования к корпоративным СУБД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окончани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УБД корпоративного уровн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acle (Oracle Corporation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B2 (IBM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base (Sun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raData (NCR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S SQL Server (Microsoft)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сновные функции корпоративных СУБД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1571400"/>
            <a:ext cx="8656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ы управления базами данных (СУБД) обеспечивают управление доступом к структурированным данным. СУБД позволяют обращаться к комбинациям данных, расположенным в различных схемах. Базы данных доступны через интерфейсы, входящие в стандарты языков программирования или интерактивные интерфейсы языков четвертого поко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БД также обычно реализуют особые функции создания, тиражирования  (иначе, репликации), перемещения, резервного копирования и восстановления,  а также архивации баз данных, хотя некоторые из этих функций предоставляются также и файловыми системами, относящимся к функциональной области компьютерных и сетевых операционных систе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ahoma"/>
              </a:rPr>
              <a:t>Общесистемное ПО и инструментальные среды в составе ИИП 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ехнологические особенности корпоративных БД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ранение на разделяемом дисковом пространстве исполняемых модулей ПО, применяемых в вычислительных процессах, связанных с использованием корпоративных БД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ранение на разделяемом дисковом пространстве всех пользовательских БД и файлов регистра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ранение серверного контента в файлах регистрации сетевой О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ранение информации обо всех  именованных каналах, определяющих точки соединения с БД, а такж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адресах, соответствующих этим канал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личие параметров конфигурации групп и отдельных пользователей, информации о тиражировании и др., согласованных между основным и резервными узлами ИК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гласование информации о регистрации между основным и резервными узлами ИКС за счет тиражирования файла регистраци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ребования к распределённым БД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альная автономия – управление данными на каждом из узлов КИС выполняется локально, а сама БД-реплика функционирует как полноценная локальная Б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сть от ЦУ (центрального узла) – БД на каждом из узлов самодостаточная, обладает собственными словарями данных и защитой от несанкционированного доступ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сть операций – доступ данным должен обеспечиваться непрерывно  в  режиме 24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ahoma"/>
              </a:rPr>
              <a:t>*7*365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ahoma"/>
              </a:rPr>
              <a:t>Прозрачность расположения – при обращении к данным пользователь ничего не знает о физическом расположении данных (БД-реплик) в конкретных узлах КИ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ahoma"/>
              </a:rPr>
              <a:t>Прозрачность тиражирования – перенос изменений в объектах исходной БД в другие БД-реплики, расположенные  в узлах КИС, производится системным ПО специальными средствами, скрытыми от конечных пользоват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ahoma"/>
              </a:rPr>
              <a:t>Обработка распределенных запросов – операции выборки из распределенной БД осуществляется с помощью тех же языковых средств, что и при работе с локальной Б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ребования к распределенным БД (окончание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ботка распределенных транзакций  -  операции обновления локальных БД выполняются с учетом целостности и непротиворечивости всех реплик распределенной Б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зависимость от используемого оборудования и операционных систем, функционирующих в конкретных узлах ИКС (интероперабельность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зрачность сети (любые протоколы, сетевое оборудование от различных производителей и т.д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зависимость от систем управления базами данных различных фирм, используемых в конкретных узлах ИКС, от  структур и форматов данных (переносимость данных, интероперабельность СУБД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еханизмы поддержки целостности и непротиворечивости дан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матическая синхронизация обновлений оригинала и удаленных копий баз данных (БД-реплик) в гетерогенной распределенной среде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граничения при репликации, обеспечивающие тождественность и глобальную непротиворечивость состояний (согласованные откаты транзакций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матическая блокировка доступа к данным в процессе проведения обновлений до их полного заверш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пользование программируемых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QL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серверов, обеспечивающих определенную стратегию обработки да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быточность данных и резервирование БД-серв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иповая схема репликации объект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2589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508720" y="2060640"/>
            <a:ext cx="180000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2124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644364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258920" y="4508640"/>
            <a:ext cx="1800360" cy="8650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203640" y="6093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рпоративная се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25892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508720" y="1484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5508720" y="4508640"/>
            <a:ext cx="1800000" cy="8650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лужб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сетевой О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1403280" y="3645000"/>
            <a:ext cx="151128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Line 22"/>
          <p:cNvSpPr/>
          <p:nvPr/>
        </p:nvSpPr>
        <p:spPr>
          <a:xfrm>
            <a:off x="755640" y="5950080"/>
            <a:ext cx="7704000" cy="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5651640" y="3645000"/>
            <a:ext cx="1511280" cy="503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2916360" y="3645000"/>
            <a:ext cx="2735280" cy="431640"/>
          </a:xfrm>
          <a:prstGeom prst="leftRightArrow">
            <a:avLst>
              <a:gd name="adj1" fmla="val 50000"/>
              <a:gd name="adj2" fmla="val 12615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3132000" y="2997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ротокол реплик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Group 32"/>
          <p:cNvGrpSpPr/>
          <p:nvPr/>
        </p:nvGrpSpPr>
        <p:grpSpPr>
          <a:xfrm>
            <a:off x="1619280" y="2349360"/>
            <a:ext cx="1081080" cy="608040"/>
            <a:chOff x="1619280" y="2349360"/>
            <a:chExt cx="1081080" cy="608040"/>
          </a:xfrm>
        </p:grpSpPr>
        <p:sp>
          <p:nvSpPr>
            <p:cNvPr id="164" name="Oval 26"/>
            <p:cNvSpPr/>
            <p:nvPr/>
          </p:nvSpPr>
          <p:spPr>
            <a:xfrm>
              <a:off x="1619280" y="2349360"/>
              <a:ext cx="1079640" cy="28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>
              <a:off x="1619280" y="2492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2700360" y="2492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1619280" y="2852640"/>
              <a:ext cx="1081080" cy="10476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71" h="234">
                  <a:moveTo>
                    <a:pt x="0" y="45"/>
                  </a:moveTo>
                  <a:cubicBezTo>
                    <a:pt x="140" y="139"/>
                    <a:pt x="280" y="234"/>
                    <a:pt x="408" y="227"/>
                  </a:cubicBezTo>
                  <a:cubicBezTo>
                    <a:pt x="536" y="220"/>
                    <a:pt x="711" y="38"/>
                    <a:pt x="77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Group 33"/>
          <p:cNvGrpSpPr/>
          <p:nvPr/>
        </p:nvGrpSpPr>
        <p:grpSpPr>
          <a:xfrm>
            <a:off x="5867280" y="2349360"/>
            <a:ext cx="1081080" cy="608040"/>
            <a:chOff x="5867280" y="2349360"/>
            <a:chExt cx="1081080" cy="608040"/>
          </a:xfrm>
        </p:grpSpPr>
        <p:sp>
          <p:nvSpPr>
            <p:cNvPr id="169" name="Oval 34"/>
            <p:cNvSpPr/>
            <p:nvPr/>
          </p:nvSpPr>
          <p:spPr>
            <a:xfrm>
              <a:off x="5867280" y="2349360"/>
              <a:ext cx="1079640" cy="28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35"/>
            <p:cNvSpPr/>
            <p:nvPr/>
          </p:nvSpPr>
          <p:spPr>
            <a:xfrm>
              <a:off x="5867280" y="2492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36"/>
            <p:cNvSpPr/>
            <p:nvPr/>
          </p:nvSpPr>
          <p:spPr>
            <a:xfrm>
              <a:off x="6948360" y="2492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37"/>
            <p:cNvSpPr/>
            <p:nvPr/>
          </p:nvSpPr>
          <p:spPr>
            <a:xfrm>
              <a:off x="5867280" y="2852640"/>
              <a:ext cx="1081080" cy="10476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71" h="234">
                  <a:moveTo>
                    <a:pt x="0" y="45"/>
                  </a:moveTo>
                  <a:cubicBezTo>
                    <a:pt x="140" y="139"/>
                    <a:pt x="280" y="234"/>
                    <a:pt x="408" y="227"/>
                  </a:cubicBezTo>
                  <a:cubicBezTo>
                    <a:pt x="536" y="220"/>
                    <a:pt x="711" y="38"/>
                    <a:pt x="77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3" name="Line 38"/>
          <p:cNvSpPr/>
          <p:nvPr/>
        </p:nvSpPr>
        <p:spPr>
          <a:xfrm flipV="1">
            <a:off x="2700360" y="2133720"/>
            <a:ext cx="1150920" cy="50328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39"/>
          <p:cNvSpPr/>
          <p:nvPr/>
        </p:nvSpPr>
        <p:spPr>
          <a:xfrm flipH="1" flipV="1">
            <a:off x="4716360" y="2133720"/>
            <a:ext cx="1152720" cy="50328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3203640" y="1700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ahoma"/>
              </a:rPr>
              <a:t>Реплицируемый объек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рхитектура с распределенными БД-репликам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9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900000" y="981000"/>
          <a:ext cx="755964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81000"/>
                    <a:ext cx="755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араллельная архитектура хранения данных в СУБД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eraDat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1" name="Picture 3" descr="Рис. 1. Параллельная архитектура платформы Teradata включает процессоры и дисковые накопители, объединяемые высокоскоростным сетевым соединением"/>
          <p:cNvPicPr/>
          <p:nvPr/>
        </p:nvPicPr>
        <p:blipFill>
          <a:blip r:embed="rId1"/>
          <a:stretch/>
        </p:blipFill>
        <p:spPr>
          <a:xfrm>
            <a:off x="826920" y="1268280"/>
            <a:ext cx="741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 реализации корпоративной БД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Инструментальные средства мониторинга и управления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ИИП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етрики управления ИТ-активами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казатели многомерной полезности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18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CO (Total Cost of Ownership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OI (Return of Investment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ROI (Enhanced ROI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I (Total Economic Impact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VO (Total Value of Opportunity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SC (Balanced ScoreCard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SC (IT ScoreCard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PV (Net Present Valu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0360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остав  общесистемного  ПО ИИП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тевые операционные системы (ОС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истемы управления базами данных (СУБ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едства системного мониторинга и управления ИКТ-инфраструктурой ИКС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струментальные технологические  среды программирования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SE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реды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струментальные средства управления проектами ИК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РИ КЛЮЧЕВЫЕ ЗАДАЧИ СИСТЕМНОГО УПРАВЛЕНИЯ ИКТ-ИНФРАСТРУКТУРОЙ  ПРЕДПРИЯТИЯ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правление развертыванием технического и программного видов обеспечений  ИИ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Системное администрирование пользователей и всех видов ИТ-ресур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оддержка доступности ИТ-ресурсов в течение жизненного цикла ИИП (ИК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рхитектура системного управл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1619280" y="1557360"/>
            <a:ext cx="6121440" cy="863640"/>
          </a:xfrm>
          <a:prstGeom prst="roundRect">
            <a:avLst>
              <a:gd name="adj" fmla="val 16667"/>
            </a:avLst>
          </a:prstGeom>
          <a:solidFill>
            <a:srgbClr val="e5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Главный системный Администра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50920" y="3213000"/>
            <a:ext cx="2736720" cy="792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Локальный менедж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203640" y="3213000"/>
            <a:ext cx="2736720" cy="792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Локальный менедж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156360" y="3213000"/>
            <a:ext cx="2736720" cy="792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Локальный менедж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39640" y="4724280"/>
            <a:ext cx="1943280" cy="1152720"/>
            <a:chOff x="539640" y="4724280"/>
            <a:chExt cx="1943280" cy="1152720"/>
          </a:xfrm>
        </p:grpSpPr>
        <p:sp>
          <p:nvSpPr>
            <p:cNvPr id="194" name="AutoShape 14"/>
            <p:cNvSpPr/>
            <p:nvPr/>
          </p:nvSpPr>
          <p:spPr>
            <a:xfrm>
              <a:off x="1116000" y="472428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971640" y="4869000"/>
              <a:ext cx="1366920" cy="71892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755640" y="501336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AutoShape 12"/>
            <p:cNvSpPr/>
            <p:nvPr/>
          </p:nvSpPr>
          <p:spPr>
            <a:xfrm>
              <a:off x="539640" y="515772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Tahoma"/>
                </a:rPr>
                <a:t>Агент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8" name="Group 16"/>
          <p:cNvGrpSpPr/>
          <p:nvPr/>
        </p:nvGrpSpPr>
        <p:grpSpPr>
          <a:xfrm>
            <a:off x="3419640" y="4724280"/>
            <a:ext cx="1942560" cy="1152720"/>
            <a:chOff x="3419640" y="4724280"/>
            <a:chExt cx="1942560" cy="1152720"/>
          </a:xfrm>
        </p:grpSpPr>
        <p:sp>
          <p:nvSpPr>
            <p:cNvPr id="199" name="AutoShape 17"/>
            <p:cNvSpPr/>
            <p:nvPr/>
          </p:nvSpPr>
          <p:spPr>
            <a:xfrm>
              <a:off x="3995640" y="4724280"/>
              <a:ext cx="136656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>
              <a:off x="3851280" y="4869000"/>
              <a:ext cx="1366560" cy="71892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AutoShape 19"/>
            <p:cNvSpPr/>
            <p:nvPr/>
          </p:nvSpPr>
          <p:spPr>
            <a:xfrm>
              <a:off x="3635280" y="5013360"/>
              <a:ext cx="136656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>
              <a:off x="3419640" y="5157720"/>
              <a:ext cx="136656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Tahoma"/>
                </a:rPr>
                <a:t>Агент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Group 21"/>
          <p:cNvGrpSpPr/>
          <p:nvPr/>
        </p:nvGrpSpPr>
        <p:grpSpPr>
          <a:xfrm>
            <a:off x="6516720" y="4724280"/>
            <a:ext cx="1942560" cy="1152720"/>
            <a:chOff x="6516720" y="4724280"/>
            <a:chExt cx="1942560" cy="1152720"/>
          </a:xfrm>
        </p:grpSpPr>
        <p:sp>
          <p:nvSpPr>
            <p:cNvPr id="204" name="AutoShape 22"/>
            <p:cNvSpPr/>
            <p:nvPr/>
          </p:nvSpPr>
          <p:spPr>
            <a:xfrm>
              <a:off x="7092720" y="4724280"/>
              <a:ext cx="136656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23"/>
            <p:cNvSpPr/>
            <p:nvPr/>
          </p:nvSpPr>
          <p:spPr>
            <a:xfrm>
              <a:off x="6948360" y="4869000"/>
              <a:ext cx="1366560" cy="71892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24"/>
            <p:cNvSpPr/>
            <p:nvPr/>
          </p:nvSpPr>
          <p:spPr>
            <a:xfrm>
              <a:off x="6732360" y="5013360"/>
              <a:ext cx="136656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AutoShape 25"/>
            <p:cNvSpPr/>
            <p:nvPr/>
          </p:nvSpPr>
          <p:spPr>
            <a:xfrm>
              <a:off x="6516720" y="5157720"/>
              <a:ext cx="1366560" cy="719280"/>
            </a:xfrm>
            <a:prstGeom prst="roundRect">
              <a:avLst>
                <a:gd name="adj" fmla="val 16667"/>
              </a:avLst>
            </a:prstGeom>
            <a:solidFill>
              <a:srgbClr val="e5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Tahoma"/>
                </a:rPr>
                <a:t>Агент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AutoShape 26"/>
          <p:cNvSpPr/>
          <p:nvPr/>
        </p:nvSpPr>
        <p:spPr>
          <a:xfrm>
            <a:off x="2050920" y="2492280"/>
            <a:ext cx="576360" cy="649440"/>
          </a:xfrm>
          <a:prstGeom prst="upDownArrow">
            <a:avLst>
              <a:gd name="adj1" fmla="val 50000"/>
              <a:gd name="adj2" fmla="val 22431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27"/>
          <p:cNvSpPr/>
          <p:nvPr/>
        </p:nvSpPr>
        <p:spPr>
          <a:xfrm>
            <a:off x="4284720" y="2492280"/>
            <a:ext cx="576360" cy="649440"/>
          </a:xfrm>
          <a:prstGeom prst="upDownArrow">
            <a:avLst>
              <a:gd name="adj1" fmla="val 50000"/>
              <a:gd name="adj2" fmla="val 22431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28"/>
          <p:cNvSpPr/>
          <p:nvPr/>
        </p:nvSpPr>
        <p:spPr>
          <a:xfrm>
            <a:off x="6659640" y="2492280"/>
            <a:ext cx="576360" cy="649440"/>
          </a:xfrm>
          <a:prstGeom prst="upDownArrow">
            <a:avLst>
              <a:gd name="adj1" fmla="val 50000"/>
              <a:gd name="adj2" fmla="val 22431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29"/>
          <p:cNvSpPr/>
          <p:nvPr/>
        </p:nvSpPr>
        <p:spPr>
          <a:xfrm>
            <a:off x="1547640" y="4076640"/>
            <a:ext cx="358920" cy="576360"/>
          </a:xfrm>
          <a:prstGeom prst="upDownArrow">
            <a:avLst>
              <a:gd name="adj1" fmla="val 50000"/>
              <a:gd name="adj2" fmla="val 31967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4427640" y="4076640"/>
            <a:ext cx="358560" cy="576360"/>
          </a:xfrm>
          <a:prstGeom prst="upDownArrow">
            <a:avLst>
              <a:gd name="adj1" fmla="val 50000"/>
              <a:gd name="adj2" fmla="val 32000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31"/>
          <p:cNvSpPr/>
          <p:nvPr/>
        </p:nvSpPr>
        <p:spPr>
          <a:xfrm>
            <a:off x="7451640" y="4076640"/>
            <a:ext cx="358920" cy="576360"/>
          </a:xfrm>
          <a:prstGeom prst="upDownArrow">
            <a:avLst>
              <a:gd name="adj1" fmla="val 50000"/>
              <a:gd name="adj2" fmla="val 31967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Функции системного управления распределенной ИКТ-инфраструктуро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Автоматическое управление сведениями о составе и полномочиях пользователей и администраторов обслуживания системы (статусы, пароли и т.д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выполнением критически важных распределенных бизнес-прилож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Конфигурирование и мониторинг всех имеющихся в составе инфраструктуры  ИКТ-ресур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птимизация нагрузки Центров обработки да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бслуживание и поддержка систем хранения данны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потоками данных, оптимизация трафика и производительности сетевой инфраструктур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корпоративными Интернет-сервисами, выполнением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web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прилож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беспечение информационной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ребования к интегрированной системе управления ИКТ-инфраструктурой КИ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беспечивать представление ИКТ-инфраструктуры ИКС как с позиций системного и сетевого управления, так и с точки зрения реализации бизнес-целей и бизнес-функ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бладать интуитивно понятным и хорошо согласованным пользовательским интерфейс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меть возможность работы со всеми имеющимися в ИКС гетерогенными платформами, информационно-вычислительными средами и дисциплинами упр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оддерживать как физически (территориально), так и логически распределенную сетевую ИКТ-инфраструктур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беспечивать иерархическую организацию управления сетевой инфраструктур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нструментальные средства системного управления  ИКТ-инфраструктурой ИК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CA-Unicenter TNG (Computer Associate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HP Open View (Hewlett-Packard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Tivoli Enterprise Net View (IBM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BMC SoftWare (BMC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Systems Management Serve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(Microsoft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Net Spectrum (Cabletr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новные задачи интегрированной системы управления ИКТ-инфраструктурой ИК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Традиционные задачи сетевого упр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распределенными приложениями в гетерогенных информационно-вычислительных сетях и операционных средах ИК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Мониторинг текущего состояния всех имеющихся в составе ИКС ИКТ-ресурсов и видов обеспеч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оддержка процессов принятия решений по модернизации (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up-grade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) технических и программных средств ИК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процессами модернизации, включая оптимизацию и настройку инфраструктуры ИК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Моделирование и анализ работы (трафика) сетевой инфраструктуры ИКС, выявление «узких» ме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325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радиционные задачи сетевого администрирования (управления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КОНФИГУРАЦИ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ПРОИЗВОДИТЕЛЬНОСТЬЮ (эффективностью использования ИКТ-ресурсов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ПРОБЛЕМАМИ (отказами, сбоями, ошибками, прочими неисправностям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БЕЗОПАСНОСТЬ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 СЕТЕВЫМИ РЕСУРС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79280" y="1469880"/>
            <a:ext cx="8785440" cy="5388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ласти управления ИТ-инфраструктурой, охватываемые продуктами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A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250920" y="127764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Unicenter Asset Management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— инструмент для автоматизации управления ИТ-активами предприятия, с помощью которого осуществляется комплексный учет и контроль ИТ-ресурсов. Функциональность системы Unicenter Asset Management способствует повышению качества управленческих решений, связанных с ИТ-активами предприятия, и уменьшению сопутствующих рис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Unicenter Asset Management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беспечивает мониторинг использования приложений на серверах, персональных компьютерах и других клиентских устройствах. Кроме того, этот продукт позволяет автоматизировать процессы управления ИТ-активами, включая учет и инвентаризацию программных и аппаратных средств, работающих в сети предприятия, обслуживание различных составляющих ИТ-инфраструктуры, администрирование лицензий и формирование отчетов в гетерогенных среда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 и функции семейств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одукто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A-Unicenter TNG (Computer Associates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179280" y="755280"/>
            <a:ext cx="8964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Unicenter Software Delivery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обеспечивает автоматизацию процессов развертывания и обновления программного обеспечения на настольных, мобильных и др. компьютерах, а также на серверах в гетерогенных сетевых средах, включая доставку приложений, распространение исправлений и обновлений, управление системными конфигурациями и откат инсталляций на различных программных и аппаратных платформах. создает условия для повышения оперативности работы ИТ-служб и снижения расходов на ИТ-поддержку бизнеса за счет автоматизации ИТ-процессов. Одним из ключевых преимуществ является высокая степень автоматизации процессов установки и обслуживания ПО и гибкое управление разрешениями на доставку приложени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Unicenter  Remote Contro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это надежная и защищенная корпоративная система удаленного управления Windows-компьютерами. Перечень задач удаленного управления включает обслуживание удаленных сервисов, таких как сетевые сервисные приложения, администрирование серверов и удаленное управление компьютерами конечных пользователей (при оказании технической поддержк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став и функции семейств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дуктов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-Unicenter TNG (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кончание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щесистемное ПО в составе  ИИП обеспечивает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и функционирование операционной информационно-вычислительной среды для прикладных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дежную и эффективную работу в составе ИКС всех информационно-вычислительных и телекоммуникационных ресур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ведение диагностики и профилактики всех аппаратных и программных средств ИК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полнение основных и вспомогательных технологических процессов, связанных с обслуживанием текущего функционирования всех ИКТ-ресурсов ИКС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57499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ласти управления ИТ-инфраструктурой, охватываемые продуктами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HP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ункции семейств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дукто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P Open View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10605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средствам управления серверами и приложениями относятся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Operations for Window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Operations for Un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Эти продукты предназначены для мониторинга и управления производительностью приложений, а также для осуществления контроля событий в сети и приложениях. HP OpenView Operations for Windows интегрируется со средствами управления сетевой инфраструктурой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Network Node Manag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позволяет производить автоматический поиск новых серверов, добавленных в сеть, а затем выполнять автоматическое развертывание требующихся компонентов и политик на основе результатов поиска серви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37519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управления производительностью приложений в состав семейства входят средства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 OpenView Performance Manag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 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Performance Agen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зволяющие с помощью единого интерфейса осуществлять централизованный мониторинг, анализ и прогнозирование использования ресурсов в распределенных и неоднородных средах, а также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Performance Insight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огающий осуществлять мониторинг событий в сети и приложениях, анализировать их. Решения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 OpenVew Report Pac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  и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Report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назначены для создания отчетов о работе распределенной IT-инфраструктуры предприятия на основе данных, полученных от приложений HP OpenView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250920" y="1773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управления идентификацией и доступом к ИТ-ресурсам в состав семейства HP OpenView входят продукты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Select Identity, HP OpenView Select Access и HP OpenView Select Federa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а для управления резервным копированием и восстановлением данных серверных СУБД —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Storage Data Protecto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79280" y="3358440"/>
            <a:ext cx="896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существления взаимодействия с конечными пользователями с целью улучшения качества их обслуживания, —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Service Desk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а также средства мониторинга бизнес-процессов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Business Process Insigh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средства управления архитектурой, ориентированной на сервисы, —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 OpenView Service Oriented Architecture Manag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управления Интернет-сервисами в данном семействе продуктов предусмотрено решение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HP OpenView Internet Service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озволяющее осуществлять внешнее зондирование прикладных служб, Интернет-сервисов и протоколов посредством моделирования запросов пользователей к  каталогам, почтовым службам, веб-службам,  сервисам удаленного доступа (в том числе коммутируемого и беспроводного доступ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ункции семейств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дукто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P Open View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(окончани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661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ласти управления ИТ-инфраструктурой, охватываемые продуктами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BM Tivoli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сновные возможности продуктов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емейства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BM Tivol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24000" y="1822320"/>
            <a:ext cx="88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ство продуктов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BM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Tivol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ключает следующие решения для управления конфигурацией и операционной поддержки: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IBM Tivoli Configuration Manag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позволяет управлять установкой и обновлением ПО, в том числе и на «карманные» компьютер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IBM Tivoli License Manager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назначено для инвентаризации программного обеспеч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IBM Tivoli Remote Contro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позволяет устанавливать политики для управления IT-ресурсами предприятия и удаленно администрировать настольные систем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IBM Tivoli Workload Scheduler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дает возможность автоматизировать рабочие нагрузки. 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81080" y="189000"/>
            <a:ext cx="9506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озможности продуктов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BM Tivol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(продолжение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898560"/>
            <a:ext cx="914400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BM Tivol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ключает решения для управления производительностью и доступностью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Monitoring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осуществления распределенного мониторинга различных систем, автоматического обнаружения и устранения проблем и анализа тенденц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Monitoring for Databas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поддерживаются СУБД производства IBM, Oracle и Microsoft) и 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Tivoli Manager for Sybas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централизованного управления серверами и базами данных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Sybas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Monitoring for Web Infrastructur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для управления web-серверами и серверами прилож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Monitoring for Application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управления бизнес-приложениями SA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Analyzer для Lotus Domino 6.0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IBM Tivoli Monitoring for Transaction Performanc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обнаружения проблем производительности систем, основанных на серверных продуктах самой IBM;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Web Site Analyzer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анализа трафика посетителей, статистики посещаемости страниц, целостности информационного наполнения web-сай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Service Level Advisor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обеспечения упреждающего управления и прогнозирования отказов посредством количественного анализа производительности;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NetView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управления сеть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Switch Analyzer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обнаружения и заполнения всех коммутаторов сетевого уровн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IBM Tivoli Enterprise Console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для многоуровневого поиска причин неисправностей и анализа событи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оме того, имеется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яд решений для автоматизированного управления распределением ИТ-ресурсов и пиковыми нагруз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324000" y="16286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состав семейства Tivoli входят также продукты для обеспечения безопаснос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IBM Directory Server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— для синхронизации данных о безопасности в масштабе всех используемых приложени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IBM Directory Integrator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— для интеграции идентификационных параметров, содержащихся в каталогах, базах данных, системах коллективной работы и бизнес-приложениях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IBM Tivoli Identity Manager и IBM Tivoli Access Manager for Operating Systems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— для управления доступом к приложениям и операционным системам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IBM Tivoli Risk Manager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— для централизованного управления защитой се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мимо этого семейство Tivoli включает широкий спектр продуктов для управления резервным копированием и системами хранения дан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озможности продуктов семейства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BM Tivoli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окончани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бласти управления ИТ-инфраструктурой, охватываемые продуктами BMC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5832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став и функции семейства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дукто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MC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79280" y="515520"/>
            <a:ext cx="8964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BMC Application Manageme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редство предназначено для управления производительностью и доступностью бизнес-приложений (включая приложения компаний Oracle и SAP) и серверных продуктов (Microsoft Exchange, J2EE-серверы BEA WebLogic, IBM WebSphere и др.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BMC Database Manageme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редство для администрирования, управления производительностью и восстановлением баз данных, управляемых СУБД — Oracle, IBM, Microsoft, Sybas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BMC Infrastructure Manageme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редство для управления операционными системами серверов и мэйнфреймов, хранилищами данных, сетями, аппаратным обеспечением, ПО промежуточного звена, а также оптимизации производительности указанных категорий ПО;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BMC Operations Manageme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редство для выполнения рутинных операций по расписанию и для составления отчетов о событиях в се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BMC Remedy Service Manageme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редство для поиска, обнаружения, моделирования и устранения сбоев в приложениях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BMC Security Management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редство для управления правами доступа пользователей к приложениям и корпоративным ресурс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Управление информационными системами с помощью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S Systems Manager Serve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844280"/>
            <a:ext cx="858996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Сетевые операционные систем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79280" y="1327320"/>
            <a:ext cx="8713800" cy="5362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Мониторинг состояния сети с помощью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icrosoft Operations Manager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99972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Microsoft Systems Management Serv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едназначен для обеспечения автоматического распространения и учета программного обеспечения в крупных распределенных системах на основе операционных систем самой Microsoft, включая планирование с определением оборудования и ПО в локальной сети, проверку, анализ, внедрение бизнес-приложений для различных целевых групп пользователей, установку приложений на вновь появившиеся рабочие места в соответствии с правами пользователя. Данный продукт позволяет осуществить целевую установку различного ПО для разных групп пользователей, а также  решать проблемы, связанные с инвентаризацией ПО и с контролем над использованием ПО и аппаратных ресурсов за счет сбора информации об установленных в сети программных продуктах и оборудовании и об их использов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Microsoft Operations Manage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едназначен для выявления и устранения неполадок в работе сети, оборудования и приложений за счет прямого мониторинга происходящих событий, а также состояния и производительности сетевых ресурсов и выдаче предупреждений о потенциальных проблемах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став и функции семейства продукто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250920" y="186984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управления производительностью и для анализа событий для компонентов ИТ-инфраструктуры существуют отдельные решения, основанной на серверных продуктах Microsoft, такие как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Active Directory Management Pac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для отслеживания состояния службы каталогов Active Directory,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Exchange Management Pac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для управления сервисами обмена сообщениями и хранилищами данных Exchange, а также ряд других продук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обеспечения взаимодействия со средствами управления ИТ-инфраструктурой производства других компаний используется продукт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MOM Connector Framewor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зволяющий осуществлять двунаправленную трансляцию предупреждений и синхронизацию данных с помощью web-служ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 и функции семейства продукто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icrosoft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(окончани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ункции кросс-платформенного управления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сред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S Operations Manager 2007 Cross Platform Extension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активный мониторинг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X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u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латфор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альная диагностика и анализ сбоев для выявления причин инцидентов и простоев ИТ-инфраструкту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спечение заданного уровня качества обслуживания приложений с помощью консолидированных кросс-платформенных средств анализа производительности и отчет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ентификация потенциальных проблем с нехваткой ИТ-ресурсов до оказания ими влияния на производительность и доступность ИТ-инфраструк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Модели лицензирования ПО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64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акетная (коробоч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рверная (на определенное число инсталлируемых копи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бная (предпродаж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жизненная (бессроч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тевая (цент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 подписке (вр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ременная (на учитываемый период использования продукт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Инструментальные среды разработки ИКС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-средства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7928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*CASE  -  Computer-Aided Software/System Engine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оекты создания ИКС характеризуют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Большим количеством объектов, функций, атрибутов и сложных взаимосвязей между ними, требующих тщательного анализа и моделирования данных и бизнес-процес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Совокупностью тесно взаимосвязанных подсистем, образующих сложную архитектуру и имеющих свои локальные цели и задачи функцион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Отсутствием аналогов и прототипов, что ограничивает использование типовых проектных реш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Использованием как традиционных </a:t>
            </a:r>
            <a:r>
              <a:rPr b="1" lang="en-US" sz="2400" spc="-1" strike="noStrike">
                <a:solidFill>
                  <a:srgbClr val="00ff99"/>
                </a:solidFill>
                <a:latin typeface="Tahoma"/>
              </a:rPr>
              <a:t>OLTP</a:t>
            </a: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-приложений, так и приложений аналитической обработки </a:t>
            </a:r>
            <a:r>
              <a:rPr b="1" lang="en-US" sz="2400" spc="-1" strike="noStrike">
                <a:solidFill>
                  <a:srgbClr val="00ff99"/>
                </a:solidFill>
                <a:latin typeface="Tahoma"/>
              </a:rPr>
              <a:t>(OLAP)</a:t>
            </a: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, а также систем поддержки принятия решений (</a:t>
            </a:r>
            <a:r>
              <a:rPr b="1" lang="en-US" sz="2400" spc="-1" strike="noStrike">
                <a:solidFill>
                  <a:srgbClr val="00ff99"/>
                </a:solidFill>
                <a:latin typeface="Tahoma"/>
              </a:rPr>
              <a:t>DSS</a:t>
            </a: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Поддержкой большого числа пользователей в корпоративной сети и наличием распределенных Б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оекты создания ИКС характеризуются</a:t>
            </a:r>
            <a:br>
              <a:rPr sz="3200"/>
            </a:b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(окончание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Функционированием приложений в гетерогенной информационно-вычислительной среде на различных аппаратно-программных платформ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Необходимостью интеграции в создаваемую систему унаследованных </a:t>
            </a: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legacy</a:t>
            </a: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приложений, а также полной или частичной конвертации ранее созданных БД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Длительным периодом разработки и внедрения проекта ИКС, что связано с со сложностью решаемых задач и соответствующими организационными проблем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Tahoma"/>
              </a:rPr>
              <a:t>Необходимостью обязательного сопровождения разработки проекта выпуском соответствующей технической и эксплуатационной документ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еимущества использования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нструментальных средств разработк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вышение качества создаваемого ПО за счет средств автоматического контроля прое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скорение процессов проектирования, разработки и отладки сложных прое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ддержка процессов развития и технологий сопровождения при разработке прое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ддержка репозитариев проектов и технологий повторного использования компонентов разрабо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вобождение разработчиков ПО от рутинных трудоемких процедур в процессе создания П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ASE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-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CASE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-технологии – это совокупность методологий структурного анализа, проектирования, разработки и сопровождения сложных систем программного обеспечения, поддерживаемых комплексом взаимоувязанных средств автоматиза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сновные функции сетевых ОС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правление ИТ-ресурсами в составе ИИП, обработка запросов на их использ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правление пользователями (управление правами доступа, функциями и статусными полномочиями, учетными данными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правление сетевыми компонентами ИИП (администрирование, централизованное развертывание и модернизация сетевых ИТ-активов, выявление и устранение сбоев и неполадок, устранение узких мест и д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сновные функци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средст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ализация описаний, построение и анализ функциональных, информационных, событийных и др. моделей деятельности объектов информатизации (предприятий, организаци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мный анализ и разработка предложений по автоматизации объектов, поддержка разработки системного и технического проек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матизация процессов проектирования логических моделей баз данных, спецификаций и структуры ПО, а также графических интерфей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втоматизация процессов кодогенерации, построения прототипов и моделей системы, в т.ч. физических моделей БД, с полной функциональной поддержк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стирование, анализ и верификация (контроль правильности) сгенерированного П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кументирование про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щая классификация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ст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анализа моделей предметной обла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анализа, проектирования и создания проектных спецификаций системы в рамках наиболее распространенных  проектных  метод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проектирования баз данных и файлов (логическое моделирование данных, генерация 3-НФ, автоматическая  генерация схем БД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программирования (автоматическая кодогенерация ПО в соответствии со спецификациями, тестирование и документирование ПО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сопровождения и ре-инжиниринга (документирование и анализ ПО, реструктурирование, обеспечение мобильности и переносимости ПО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поддержки окружения ПО (платформы интеграци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управления проектами (планирование и т.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лассификация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редств по уровня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рхние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pper) CASE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средств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 системы планирования и управления разработ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едние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ddle) CASE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средств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едназначен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ля поддержки этапов анализа требований, проектирования и поддержки спецификаций и структуры П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жние 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wer) CASE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средств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ютс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едствами разработки ПО (кодогенерация, тестирование, управление конфигурацией и документирование ПО)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иповой состав инструментальных сред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позиторий хранения версий проектов и его отдельных компонентов, контроль метаданных на полноту и непротиворечиво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ые графические средства анализа и проектирования КИС, предназначенные для создания и редактирования иерархически связанных проектных диаграмм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, DFD, STD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т.д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разработки приложений, использующие технологии автоматической генерации код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конфигурационного управ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синтаксического и семантического контрол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планирования и управления проект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документирования всех проектных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азовые требования к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ASE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средства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держка полного жизненного цикла ИКС, наличие единой технологической среды создания, внедрения, сопровождения и развития  ИК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еспечение целостности проекта и контроль за его состоянием, целостность репозитория проек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зависимость от программно-аппаратной платформы и СУБД, включая независимость сред разработки и эксплуатации  ИК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ддержка одновременной работы нескольких групп разработчиков, проектировщиков БД и приложений, возможность объединения результатов их усилий в единый крупномасштабный проект ИК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крытость архитектуры и возможности экспорта/ импорта данных и программ сторонних организац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чество технической поддержк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ре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ддержка ЖЦ ИКС с помощью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ASE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средств включае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15840" y="1125360"/>
            <a:ext cx="914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ведение обследования и получение формального описания предметной области в виде модел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композицию проекта на составляющие и интеграцию отдельных частей в единый проект ИК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ектирование логики приложений и пользовательских интерфейсов, прототипирование  прилож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ектирование распределенных БД на логическом и физическом уровня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стирование, испытания, сопровождение, внесение изменений и управление версиями проек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грацию с существующим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разработками, включая конвертацию унаследованных баз данн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работку и сопровождение проектной документа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ение разработкой и сопровождением проекта ИК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ддержка модельных представлений   технологий создания ИК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85" name="Picture 4" descr="image001"/>
          <p:cNvPicPr/>
          <p:nvPr/>
        </p:nvPicPr>
        <p:blipFill>
          <a:blip r:embed="rId1"/>
          <a:stretch/>
        </p:blipFill>
        <p:spPr>
          <a:xfrm>
            <a:off x="1332000" y="687240"/>
            <a:ext cx="65530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арадигма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ASE-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технолог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27280" y="1557360"/>
            <a:ext cx="3960720" cy="86364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ОДОЛОГ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2627280" y="2924280"/>
            <a:ext cx="3960720" cy="86364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2627280" y="4365720"/>
            <a:ext cx="3960720" cy="86364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ОТ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627280" y="5734080"/>
            <a:ext cx="3960720" cy="86364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ASE-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РЕ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3780000" y="2421000"/>
            <a:ext cx="1726920" cy="503280"/>
          </a:xfrm>
          <a:prstGeom prst="downArrow">
            <a:avLst>
              <a:gd name="adj1" fmla="val 50000"/>
              <a:gd name="adj2" fmla="val 60606"/>
            </a:avLst>
          </a:prstGeom>
          <a:solidFill>
            <a:srgbClr val="cc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3780000" y="3789360"/>
            <a:ext cx="1726920" cy="573120"/>
          </a:xfrm>
          <a:prstGeom prst="downArrow">
            <a:avLst>
              <a:gd name="adj1" fmla="val 50000"/>
              <a:gd name="adj2" fmla="val 50773"/>
            </a:avLst>
          </a:prstGeom>
          <a:solidFill>
            <a:srgbClr val="cc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780000" y="5229360"/>
            <a:ext cx="1726920" cy="504720"/>
          </a:xfrm>
          <a:prstGeom prst="downArrow">
            <a:avLst>
              <a:gd name="adj1" fmla="val 50000"/>
              <a:gd name="adj2" fmla="val 60773"/>
            </a:avLst>
          </a:prstGeom>
          <a:solidFill>
            <a:srgbClr val="cc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омпоненты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ASE-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арадигм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ология - определяет руководящие указания для оценки и выбора проект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атываемого ПО, этапы работы и их последовательность, а также правила назначения и использования мето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– это систематическая процедура или техника генерации описаний компонентов ПО (структур и потоков  данных, хранилищ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тация – это формализм описания структуры системы, элементов данных, а также этапов и процедур их обрабо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ства – это инструментарий поддержки и реализации используемых мет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Базовые методологии структурного анализ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и проектирования систе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ADT/IDEF0 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tructured Analysis and Design Technique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)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SADM (Structured Systems Analysis and Design Method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SA (Structured Systems Analy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SSDD (Structured Systems Design  and Development)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Типы операционных систе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днопроцессорные 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пределенные мультипроцессорные 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пределенные мультикомпьютерные 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тевые 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пределен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тевые ОС  с ПО промежуточного слоя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iddleware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иды используемых диаграммных техник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142920" y="950400"/>
            <a:ext cx="9468000" cy="60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иаграммы потоков данных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FD – Data Flow Diagrams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редство описания и моделирования функционального взаимодействия компонентов систем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иаграммы «сущность – связь»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RD – Entity Relationship Diagrams)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едназначены для создания концептуальных моделей схем баз данных с целью последующего отображения в реальную физическую модель БД в рамках выбранной СУБД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иаграммы переходов состояний (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D – State Transition Diagrams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едназначены для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оделирования состояний системы, ее компонентов  и основных системных событий во времен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мпоненты логической модел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3780000" y="1341360"/>
            <a:ext cx="1871640" cy="649440"/>
          </a:xfrm>
          <a:prstGeom prst="roundRect">
            <a:avLst>
              <a:gd name="adj" fmla="val 16667"/>
            </a:avLst>
          </a:prstGeom>
          <a:solidFill>
            <a:srgbClr val="cc0099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оц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84360" y="2421000"/>
            <a:ext cx="4392720" cy="64908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Data Flow Dia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900000" y="3429000"/>
            <a:ext cx="7488360" cy="14400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3708360" y="3933720"/>
            <a:ext cx="1871640" cy="6494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Хранили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6156360" y="3933720"/>
            <a:ext cx="1871640" cy="6494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Управляющ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395280" y="537372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пецифик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AutoShape 11"/>
          <p:cNvSpPr/>
          <p:nvPr/>
        </p:nvSpPr>
        <p:spPr>
          <a:xfrm>
            <a:off x="2627280" y="537372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ловар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AutoShape 12"/>
          <p:cNvSpPr/>
          <p:nvPr/>
        </p:nvSpPr>
        <p:spPr>
          <a:xfrm>
            <a:off x="4788000" y="537372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E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7020000" y="537372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1042920" y="3500280"/>
            <a:ext cx="35290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Детализирующая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DF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1258920" y="3933720"/>
            <a:ext cx="1871640" cy="6494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AutoShape 21"/>
          <p:cNvSpPr/>
          <p:nvPr/>
        </p:nvSpPr>
        <p:spPr>
          <a:xfrm>
            <a:off x="2987640" y="3789360"/>
            <a:ext cx="793800" cy="792000"/>
          </a:xfrm>
          <a:prstGeom prst="rightArrow">
            <a:avLst>
              <a:gd name="adj1" fmla="val 49500"/>
              <a:gd name="adj2" fmla="val 45102"/>
            </a:avLst>
          </a:prstGeom>
          <a:solidFill>
            <a:srgbClr val="0099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1476360" y="2492280"/>
            <a:ext cx="187164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423000" y="21337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ток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AutoShape 28"/>
          <p:cNvSpPr/>
          <p:nvPr/>
        </p:nvSpPr>
        <p:spPr>
          <a:xfrm>
            <a:off x="3995640" y="1916280"/>
            <a:ext cx="1513080" cy="576000"/>
          </a:xfrm>
          <a:prstGeom prst="downArrow">
            <a:avLst>
              <a:gd name="adj1" fmla="val 58444"/>
              <a:gd name="adj2" fmla="val 70347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3851280" y="2997360"/>
            <a:ext cx="1728720" cy="576000"/>
          </a:xfrm>
          <a:prstGeom prst="downArrow">
            <a:avLst>
              <a:gd name="adj1" fmla="val 60352"/>
              <a:gd name="adj2" fmla="val 64667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AutoShape 30"/>
          <p:cNvSpPr/>
          <p:nvPr/>
        </p:nvSpPr>
        <p:spPr>
          <a:xfrm flipV="1" rot="1450800">
            <a:off x="1187280" y="4436640"/>
            <a:ext cx="505080" cy="1085760"/>
          </a:xfrm>
          <a:prstGeom prst="downArrow">
            <a:avLst>
              <a:gd name="adj1" fmla="val 58944"/>
              <a:gd name="adj2" fmla="val 136375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AutoShape 32"/>
          <p:cNvSpPr/>
          <p:nvPr/>
        </p:nvSpPr>
        <p:spPr>
          <a:xfrm flipV="1" rot="20635200">
            <a:off x="5219640" y="4364640"/>
            <a:ext cx="504720" cy="1079280"/>
          </a:xfrm>
          <a:prstGeom prst="downArrow">
            <a:avLst>
              <a:gd name="adj1" fmla="val 58944"/>
              <a:gd name="adj2" fmla="val 135658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AutoShape 33"/>
          <p:cNvSpPr/>
          <p:nvPr/>
        </p:nvSpPr>
        <p:spPr>
          <a:xfrm flipV="1" rot="21299400">
            <a:off x="3067200" y="4218480"/>
            <a:ext cx="504720" cy="1224000"/>
          </a:xfrm>
          <a:prstGeom prst="downArrow">
            <a:avLst>
              <a:gd name="adj1" fmla="val 58944"/>
              <a:gd name="adj2" fmla="val 153848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AutoShape 34"/>
          <p:cNvSpPr/>
          <p:nvPr/>
        </p:nvSpPr>
        <p:spPr>
          <a:xfrm flipV="1" rot="19993800">
            <a:off x="7754400" y="4287960"/>
            <a:ext cx="505080" cy="1152360"/>
          </a:xfrm>
          <a:prstGeom prst="downArrow">
            <a:avLst>
              <a:gd name="adj1" fmla="val 58944"/>
              <a:gd name="adj2" fmla="val 144740"/>
            </a:avLst>
          </a:prstGeom>
          <a:solidFill>
            <a:srgbClr val="ffff00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Компоненты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FD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моделей</a:t>
            </a:r>
            <a:br>
              <a:rPr sz="3600"/>
            </a:b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(нотации Йордана и Гейна-Сэрсона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отоки данных – отражают ориентированные информационные потоки в сис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роцессы – осуществляют преобразование входных потоков  в выходные  в соответствии с названием действия процесса (обработка, продуцирование)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Хранилища данных (накопители) – определяют данные, которые должны сохраняться в памяти между процесс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нешние сущности (источники и приемники данных вне системного контекст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ущность – представляет собой множество экземпляров реальных или абстрактных объектов (людей, событий, состояний, идей, предметов и т.д.), обладающих общими атрибутами и характеристи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Отношение – отражает в самом общем виде взаимоотношениями между двумя или более сущностя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вязи – используются для идентификации отношений между сущностя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мпоненты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моделе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(нотации Чена и Баркера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остояние – представляет описание реальной ситуации, в которой находится система  и ее компоненты в текущий момент врем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Начальное состояние – стартовая точка начального системного перех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ереход  – определяет перемещение моделируемой системы из одного состояния в другое, а также идентифицирует событие, являющееся причиной перех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Условие – событие, вызывающее переход системы из одного состояния  в друго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ействие – операция, которая может совершаться при выполнении перех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Компоненты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D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-модел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меры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редств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 ToolSet (IDS Sheer AG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tional Software (IBM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PWin, ERWin (Platinum/Logic Work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/IDEF (Meta Softwar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er/Developer-2000 (Oracle Corp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CASE (Evergreen CASE Tool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LVERRUN (Computer Systems Adviser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tageTeam Builder (CAYENN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-CASE (Iordon Co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мер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SADT-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бло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2195640" y="2421000"/>
            <a:ext cx="4752720" cy="180000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ahoma"/>
              </a:rPr>
              <a:t>ПРОЦЕ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3492360" y="4221000"/>
            <a:ext cx="432000" cy="1224000"/>
          </a:xfrm>
          <a:prstGeom prst="upArrow">
            <a:avLst>
              <a:gd name="adj1" fmla="val 50000"/>
              <a:gd name="adj2" fmla="val 70833"/>
            </a:avLst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4427640" y="4221000"/>
            <a:ext cx="431640" cy="1224000"/>
          </a:xfrm>
          <a:prstGeom prst="upArrow">
            <a:avLst>
              <a:gd name="adj1" fmla="val 50000"/>
              <a:gd name="adj2" fmla="val 70892"/>
            </a:avLst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5292720" y="4221000"/>
            <a:ext cx="431640" cy="1224000"/>
          </a:xfrm>
          <a:prstGeom prst="upArrow">
            <a:avLst>
              <a:gd name="adj1" fmla="val 50000"/>
              <a:gd name="adj2" fmla="val 70892"/>
            </a:avLst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3400560" y="5605560"/>
            <a:ext cx="29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ОЛН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3348000" y="177336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4572000" y="177336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5651640" y="177336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348000" y="1197000"/>
            <a:ext cx="29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УПРАВ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1042920" y="3141720"/>
            <a:ext cx="1152720" cy="504720"/>
          </a:xfrm>
          <a:prstGeom prst="rightArrow">
            <a:avLst>
              <a:gd name="adj1" fmla="val 50000"/>
              <a:gd name="adj2" fmla="val 5709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6948360" y="3068640"/>
            <a:ext cx="792360" cy="504720"/>
          </a:xfrm>
          <a:prstGeom prst="rightArrow">
            <a:avLst>
              <a:gd name="adj1" fmla="val 50000"/>
              <a:gd name="adj2" fmla="val 39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395280" y="256536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Х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7020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ЫХ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DT-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аграммы в нотац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F0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4" name="Picture 4" descr="006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имер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DT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иаграммы в нотации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F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6" name="Picture 5" descr="idef0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имер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диаграммы (логическая модель БД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48" name="Picture 4" descr="process_er_diagram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ультипроцессорные О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2589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755640" y="5950080"/>
            <a:ext cx="7704000" cy="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780000" y="2060640"/>
            <a:ext cx="180000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3007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2124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471636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7236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1403280" y="3500280"/>
            <a:ext cx="151308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Копия 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411280" y="6093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бщая межпроцессорная ш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125892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роцессо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70836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роцессо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622764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3924360" y="3500280"/>
            <a:ext cx="151272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Копия 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6443640" y="3500280"/>
            <a:ext cx="151308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Копия 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281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РИКЛАДНОЕ ПРОГРАММНОЕ ОБЕСПЕЧЕНИЕ</a:t>
            </a:r>
            <a:br>
              <a:rPr sz="4000"/>
            </a:b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ИКС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Виды ППО ИКС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Tahoma"/>
              </a:rPr>
              <a:t>«Тяжелые» корпоративные приложения</a:t>
            </a:r>
            <a:r>
              <a:rPr b="1" lang="en-US" sz="28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(ERP)</a:t>
            </a:r>
            <a:r>
              <a:rPr b="1" lang="ru-RU" sz="2800" spc="-1" strike="noStrike">
                <a:solidFill>
                  <a:srgbClr val="29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Tahoma"/>
              </a:rPr>
              <a:t>Системы 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OLTP</a:t>
            </a: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On-Line Transaction Processing)</a:t>
            </a: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Tahoma"/>
              </a:rPr>
              <a:t>Бизнес-аналитика  </a:t>
            </a: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BI</a:t>
            </a: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29ffff"/>
                </a:solidFill>
                <a:latin typeface="Tahoma"/>
              </a:rPr>
              <a:t> и системы 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OLAP/DSS</a:t>
            </a:r>
            <a:r>
              <a:rPr b="1" lang="ru-RU" sz="2800" spc="-1" strike="noStrike">
                <a:solidFill>
                  <a:srgbClr val="29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ППП общего назначе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Проблемно- и методо-ориентированные  ПП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Предметно- ориентированные ПП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Средства автоматизации проектир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АСУ ТП  реального време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Офисные ПП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Мультимедийные и 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WEB-</a:t>
            </a: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прило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Системы искусственного интеллекта </a:t>
            </a:r>
            <a:r>
              <a:rPr b="1" lang="en-US" sz="2800" spc="-1" strike="noStrike">
                <a:solidFill>
                  <a:srgbClr val="29ffff"/>
                </a:solidFill>
                <a:latin typeface="Arial"/>
              </a:rPr>
              <a:t>(AIS)</a:t>
            </a:r>
            <a:r>
              <a:rPr b="1" lang="ru-RU" sz="2800" spc="-1" strike="noStrike">
                <a:solidFill>
                  <a:srgbClr val="29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96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«Тяжелые» корпоративные приложе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4240" indent="-6285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иложения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ласса 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ERP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 MRP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Перспективное планир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Оперативное управление производств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Управление материальными ресурс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Управление запас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Управление финансами и бухуч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Управление кадр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Управление сбытом продук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Tahoma"/>
              </a:rPr>
              <a:t>Лог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иложения класса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SRP/CR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14240" indent="-6285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иложения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OSS/B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ебования к корпоративным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ERP-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ложениям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лнота реализации функций управления компани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Безусловное выполнение критически важных и ответственных приложений в заданные сроки с гарантированным качеством (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QoS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Время реакции системы, адекватное ожиданиям конечных бизнес-пользовате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Высокий уровень информационной безопас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ростота доступа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и удобный, интуитивно понятный интерфейс  конечных пользовате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инимизация эксплуатационных затра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ростота развертывания и администрирования корпоративных прилож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Минимизация затрат на развитие и модернизацию ППО, требование сохранения инвести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хват подразделений функциям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RP/MRP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241280"/>
            <a:ext cx="91440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ое производство (цехи, служб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струментальное производ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монтные сл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нергетическое хозяй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лужбы материально-технического снаб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анспортные сл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ладское хозяй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ухгалтерия, кадровые служб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дел кап.строитель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делы  сбыта, маркетинга, ОТК и т.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Функциональность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P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риложен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нструкторская подготовка 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Технологическая подготовка 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бъемно-календарное планирование 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Технико-экономическое планирование 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ланирование материально-технич. снаб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еративное управление и  учет в производст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чет поступления сырья и материал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чет выпуска и отгрузки, складской уче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Бухгалтерский учет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одель корпоративного управления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79280" y="765000"/>
            <a:ext cx="4680000" cy="568836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24000" y="69228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Оперативное упр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684360" y="5589720"/>
            <a:ext cx="2881080" cy="718920"/>
          </a:xfrm>
          <a:prstGeom prst="bevel">
            <a:avLst>
              <a:gd name="adj" fmla="val 12500"/>
            </a:avLst>
          </a:prstGeom>
          <a:solidFill>
            <a:srgbClr val="cc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бъект у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2484360" y="4508640"/>
            <a:ext cx="1871640" cy="64764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1042920" y="3357720"/>
            <a:ext cx="2521080" cy="8632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Бл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у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3851280" y="836640"/>
            <a:ext cx="5041800" cy="26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AutoShape 17"/>
          <p:cNvSpPr/>
          <p:nvPr/>
        </p:nvSpPr>
        <p:spPr>
          <a:xfrm>
            <a:off x="1403280" y="1052640"/>
            <a:ext cx="7056360" cy="2089080"/>
          </a:xfrm>
          <a:prstGeom prst="bevel">
            <a:avLst>
              <a:gd name="adj" fmla="val 125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5190840" y="306864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Стратегическое упр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808600" y="2133720"/>
            <a:ext cx="21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тратегиче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20"/>
          <p:cNvSpPr/>
          <p:nvPr/>
        </p:nvSpPr>
        <p:spPr>
          <a:xfrm>
            <a:off x="1547640" y="1268280"/>
            <a:ext cx="4319640" cy="1513080"/>
          </a:xfrm>
          <a:prstGeom prst="bevel">
            <a:avLst>
              <a:gd name="adj" fmla="val 12500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3749400" y="177336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Среднесроч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AutoShape 5"/>
          <p:cNvSpPr/>
          <p:nvPr/>
        </p:nvSpPr>
        <p:spPr>
          <a:xfrm>
            <a:off x="1403280" y="1268280"/>
            <a:ext cx="2376720" cy="1224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Оператив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(аналитическ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од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AutoShape 23"/>
          <p:cNvSpPr/>
          <p:nvPr/>
        </p:nvSpPr>
        <p:spPr>
          <a:xfrm>
            <a:off x="1547640" y="2492280"/>
            <a:ext cx="576360" cy="865440"/>
          </a:xfrm>
          <a:prstGeom prst="downArrow">
            <a:avLst>
              <a:gd name="adj1" fmla="val 50000"/>
              <a:gd name="adj2" fmla="val 3753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AutoShape 24"/>
          <p:cNvSpPr/>
          <p:nvPr/>
        </p:nvSpPr>
        <p:spPr>
          <a:xfrm>
            <a:off x="2195640" y="278136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AutoShape 25"/>
          <p:cNvSpPr/>
          <p:nvPr/>
        </p:nvSpPr>
        <p:spPr>
          <a:xfrm>
            <a:off x="6732720" y="472428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AutoShape 27"/>
          <p:cNvSpPr/>
          <p:nvPr/>
        </p:nvSpPr>
        <p:spPr>
          <a:xfrm>
            <a:off x="1403280" y="4221000"/>
            <a:ext cx="865080" cy="1368720"/>
          </a:xfrm>
          <a:prstGeom prst="downArrow">
            <a:avLst>
              <a:gd name="adj1" fmla="val 50111"/>
              <a:gd name="adj2" fmla="val 83079"/>
            </a:avLst>
          </a:prstGeom>
          <a:solidFill>
            <a:srgbClr val="0000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AutoShape 28"/>
          <p:cNvSpPr/>
          <p:nvPr/>
        </p:nvSpPr>
        <p:spPr>
          <a:xfrm>
            <a:off x="2843280" y="3068640"/>
            <a:ext cx="576360" cy="289080"/>
          </a:xfrm>
          <a:prstGeom prst="downArrow">
            <a:avLst>
              <a:gd name="adj1" fmla="val 64741"/>
              <a:gd name="adj2" fmla="val 5147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AutoShape 29"/>
          <p:cNvSpPr/>
          <p:nvPr/>
        </p:nvSpPr>
        <p:spPr>
          <a:xfrm rot="16200000">
            <a:off x="3348720" y="3717000"/>
            <a:ext cx="935280" cy="648000"/>
          </a:xfrm>
          <a:custGeom>
            <a:avLst/>
            <a:gdLst>
              <a:gd name="textAreaLeft" fmla="*/ 0 w 935280"/>
              <a:gd name="textAreaRight" fmla="*/ 801720 w 935280"/>
              <a:gd name="textAreaTop" fmla="*/ 43200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AutoShape 31"/>
          <p:cNvSpPr/>
          <p:nvPr/>
        </p:nvSpPr>
        <p:spPr>
          <a:xfrm flipV="1" rot="501000">
            <a:off x="250560" y="1195920"/>
            <a:ext cx="1116000" cy="2736720"/>
          </a:xfrm>
          <a:custGeom>
            <a:avLst/>
            <a:gdLst>
              <a:gd name="textAreaLeft" fmla="*/ 149400 w 1116000"/>
              <a:gd name="textAreaRight" fmla="*/ 966600 w 1116000"/>
              <a:gd name="textAreaTop" fmla="*/ 511560 h 2736720"/>
              <a:gd name="textAreaBottom" fmla="*/ 18100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69" stAng="-5400000" swAng="-5400000"/>
                <a:lnTo>
                  <a:pt x="0" y="10249"/>
                </a:lnTo>
                <a:arcTo wR="21600" hR="8069" stAng="10800000" swAng="-1956414"/>
                <a:lnTo>
                  <a:pt x="10708" y="20499"/>
                </a:lnTo>
                <a:lnTo>
                  <a:pt x="21600" y="17227"/>
                </a:lnTo>
                <a:lnTo>
                  <a:pt x="10708" y="11753"/>
                </a:lnTo>
                <a:lnTo>
                  <a:pt x="10708" y="15036"/>
                </a:lnTo>
                <a:arcTo wR="21600" hR="8069" stAng="8843586" swAng="1781481"/>
                <a:lnTo>
                  <a:pt x="198" y="9158"/>
                </a:lnTo>
                <a:arcTo wR="21600" hR="8069" stAng="-10625067" swAng="5225067"/>
                <a:close/>
              </a:path>
              <a:path fill="darkenLess" w="21600" h="21600">
                <a:moveTo>
                  <a:pt x="21600" y="0"/>
                </a:moveTo>
                <a:arcTo wR="21600" hR="8069" stAng="-5400000" swAng="-5400000"/>
                <a:lnTo>
                  <a:pt x="0" y="8069"/>
                </a:lnTo>
                <a:arcTo wR="21600" hR="8069" stAng="10800000" swAng="-174933"/>
                <a:lnTo>
                  <a:pt x="198" y="9158"/>
                </a:lnTo>
                <a:arcTo wR="21600" hR="8069" stAng="-10625067" swAng="5225067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6588000" y="5013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6443640" y="530064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AutoShape 34"/>
          <p:cNvSpPr/>
          <p:nvPr/>
        </p:nvSpPr>
        <p:spPr>
          <a:xfrm>
            <a:off x="6300720" y="5589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AutoShape 35"/>
          <p:cNvSpPr/>
          <p:nvPr/>
        </p:nvSpPr>
        <p:spPr>
          <a:xfrm>
            <a:off x="6156360" y="587700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Ресур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AutoShape 38"/>
          <p:cNvSpPr/>
          <p:nvPr/>
        </p:nvSpPr>
        <p:spPr>
          <a:xfrm>
            <a:off x="3492360" y="5950080"/>
            <a:ext cx="2735280" cy="431640"/>
          </a:xfrm>
          <a:prstGeom prst="leftRightArrow">
            <a:avLst>
              <a:gd name="adj1" fmla="val 50000"/>
              <a:gd name="adj2" fmla="val 126152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AutoShape 39"/>
          <p:cNvSpPr/>
          <p:nvPr/>
        </p:nvSpPr>
        <p:spPr>
          <a:xfrm>
            <a:off x="2987640" y="5157720"/>
            <a:ext cx="432000" cy="432000"/>
          </a:xfrm>
          <a:prstGeom prst="upArrow">
            <a:avLst>
              <a:gd name="adj1" fmla="val 50000"/>
              <a:gd name="adj2" fmla="val 51472"/>
            </a:avLst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5796000" y="3860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99"/>
                </a:solidFill>
                <a:latin typeface="Tahoma"/>
              </a:rPr>
              <a:t>КИ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имеры корпоративных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RP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истем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S (IDS Sheer AG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XAPT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AN-IV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aan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acle Enterprise Edition (Oracle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P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(SAP AG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БОСС-Корпорация» (Ай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Галактика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Парус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1С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прияти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LTP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-прилож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анковские системы обслуживания клиен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стемы бронирования и продажи бил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стемы органов государственной вла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Учетно-отчетные системы МВД (паспортно-визовые службы, ГИБДД, криминалистика и т.д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Системы налоговых служ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Системы органов здравоохра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Системы социального обеспеч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Пенсионный Фон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Государственные Реестры и кадастры (Рег. палат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Tahoma"/>
              </a:rPr>
              <a:t>Проч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етно-регистрационные системы регионального и муниципального уровней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ные  учетно-отчетные сист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изнес-аналитика и приложения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LAP/DS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ллектуальный анализ да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Mining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(извлечение новой информации из накопленных данных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ный и регрессионный анализ (анализ значимых факторов влияния, выявление скрытых зависимост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LAP-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лиз (многомерное представление данных и исследование динамики изменений, агрегирование аналитической информаци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ы поддержки принятия решений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S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экспертные сист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туационное моделир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ирование и  прогнозир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оптимизации управленческих ре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ультикомпьютерные  ОС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89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755640" y="5950080"/>
            <a:ext cx="7704000" cy="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780000" y="2060640"/>
            <a:ext cx="180000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300720" y="2060640"/>
            <a:ext cx="1800360" cy="3384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47636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99564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6516720" y="4797360"/>
            <a:ext cx="1366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124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471636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236000" y="5445000"/>
            <a:ext cx="0" cy="505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1332000" y="3500280"/>
            <a:ext cx="6696000" cy="86544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лужбы распределенной операционн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258920" y="6093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рпоративная се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1332000" y="2421000"/>
            <a:ext cx="6696000" cy="647640"/>
          </a:xfrm>
          <a:prstGeom prst="rect">
            <a:avLst/>
          </a:prstGeom>
          <a:solidFill>
            <a:srgbClr val="00ccff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Распределенные прило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25892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370836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6227640" y="148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омпьютер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ahoma"/>
              </a:rPr>
              <a:t>Методы интеллектуального анализа данных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нжирование (упорядочение факторов по степени их влияния на целевой показатель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гментация (разделение области значени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филирование наилучших достиж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явление скрытых ассоциа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явление исключ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собенности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LAP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-анализа данных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мерное представление данных в виде гиперкуб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дение сложных аналитических исследований на гиперкубовых представлениях да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вязка информации к временн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 срезам с целью исследования динамики изменений да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грегирование аналитической информ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мерный нисходящий аналитический просмотр данных с заданной его глуб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ехнологии интеллектуального анализа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Нечеткие множества и модели нечеткого выв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Нейросетевые технолог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етод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ata Mining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кластерного и регрессионного анализ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тистические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планирования эксперимен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многомерной визуализации и интерпретации результатов анализ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грированные техн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рхитектура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SS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-систем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3" name="Object 4"/>
          <p:cNvGraphicFramePr/>
          <p:nvPr/>
        </p:nvGraphicFramePr>
        <p:xfrm>
          <a:off x="0" y="1197000"/>
          <a:ext cx="914400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71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одсистема извлечения знаний из наборов данны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База зн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одсистема подготовки вариантов решений (ППВР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одсистема анализа реш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Источник данных и знаний </a:t>
            </a:r>
            <a:r>
              <a:rPr b="1" lang="ru-RU" sz="3200" spc="-1" strike="noStrike">
                <a:solidFill>
                  <a:srgbClr val="e5ffff"/>
                </a:solidFill>
                <a:latin typeface="Arial"/>
              </a:rPr>
              <a:t>(БД или человек-эксперт)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рхитектурные составляющие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SS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истем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остав инвариантного ядра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SS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истем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система представления зн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система выработки допустимых вариантов решений (альтернатив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система классификации и прогнозиров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система многокритериального анализа альтернатив и оптимиз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ссоциативные правила (правила продукци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йные механизмы (кластеры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ревья реш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йронные се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ногофакторные методы и модел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четкие мод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ехнологии представления знани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SS-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истем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 технологии извлечения знани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0" y="2052720"/>
            <a:ext cx="91440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хема многокритериального анализа альтернати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AutoShape 6"/>
          <p:cNvSpPr/>
          <p:nvPr/>
        </p:nvSpPr>
        <p:spPr>
          <a:xfrm>
            <a:off x="395280" y="1197000"/>
            <a:ext cx="8497800" cy="56610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6" name="Object 4"/>
          <p:cNvGraphicFramePr/>
          <p:nvPr/>
        </p:nvGraphicFramePr>
        <p:xfrm>
          <a:off x="2340000" y="1484280"/>
          <a:ext cx="475128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84280"/>
                    <a:ext cx="4751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ППП общего назначе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стольные  СУБ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енераторы  отче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кстовые редакторы (процессо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едства обработки таблиц (табличные процессо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едства презентационной графи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редства обеспечения информационной безопас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нтегрированные пакеты (настольные издательские системы и т.д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8:14:16Z</dcterms:created>
  <dc:creator>User</dc:creator>
  <dc:description/>
  <dc:language>en-US</dc:language>
  <cp:lastModifiedBy>Павел</cp:lastModifiedBy>
  <dcterms:modified xsi:type="dcterms:W3CDTF">2015-02-26T08:49:02Z</dcterms:modified>
  <cp:revision>59</cp:revision>
  <dc:subject/>
  <dc:title>Слайд 1</dc:title>
</cp:coreProperties>
</file>