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C50C-62A4-478E-B95C-FB43EA791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CE6C-AD98-4F76-AFAC-07AD54CC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F8A6-D09E-4BD7-AE76-225928702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A876-BA87-4481-B22C-27B262E1A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6895-BB21-4576-A0B5-8C063FB3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244E-3C00-47EE-BD0B-EAFAAC88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EE4E-E6BD-4F40-A78E-39B33EAD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4FA4-3E5E-47C3-B205-4A130C74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6367-B0A6-487F-BA34-F8754273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2C66-E2F3-4467-A323-AC138147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002E-2C89-41A3-8BCA-DB18AF02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E035-1562-42C0-AA68-08B2B53D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7338-EAA3-4B28-93EE-33B56B155C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66"/>
                </a:solidFill>
                <a:latin typeface="Arial"/>
              </a:rPr>
              <a:t>Моделирование</a:t>
            </a:r>
            <a:br>
              <a:rPr sz="7200"/>
            </a:br>
            <a:r>
              <a:rPr b="1" lang="ru-RU" sz="7200" spc="-1" strike="noStrike">
                <a:solidFill>
                  <a:srgbClr val="006666"/>
                </a:solidFill>
                <a:latin typeface="Arial"/>
              </a:rPr>
              <a:t>сетей и систем</a:t>
            </a:r>
            <a:br>
              <a:rPr sz="7200"/>
            </a:br>
            <a:r>
              <a:rPr b="1" lang="ru-RU" sz="7200" spc="-1" strike="noStrike">
                <a:solidFill>
                  <a:srgbClr val="006666"/>
                </a:solidFill>
                <a:latin typeface="Arial"/>
              </a:rPr>
              <a:t>телекоммуникаций</a:t>
            </a:r>
            <a:br>
              <a:rPr sz="7200"/>
            </a:br>
            <a:r>
              <a:rPr b="1" lang="ru-RU" sz="7200" spc="-1" strike="noStrike">
                <a:solidFill>
                  <a:srgbClr val="006666"/>
                </a:solidFill>
                <a:latin typeface="Arial"/>
              </a:rPr>
              <a:t>(ССТК)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920" y="126792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Arial"/>
              </a:rPr>
              <a:t>Элементы Теории массового обслуживания</a:t>
            </a:r>
            <a:br>
              <a:rPr sz="5400"/>
            </a:b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(Лекции 6-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12600" y="11592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ведение в теорию массового обслуживания (ТМ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0" y="858960"/>
            <a:ext cx="9131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йные процессы и их моделирование – основа теории массового обслуживания (ТМО). Собственно и сама ТМО зародилась в те времена, когда появились первые телефонные аппараты, телефонные линии связи и коммутационные узлы на телефонных станциях, осуществляющие обработку звонков от абонентов се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создания математического аппарата, позволяющего оценить пропускную способность таких сетей и определить нужную производительность узлов коммутации, привели к тому, что усилиями целого ряда ученых-математиков эта весьма непростая задача была в достаточно короткие сроки успешно реше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12600" y="3090960"/>
            <a:ext cx="9047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яду наиболее известных исследователей, внёсших достойный вклад в развитие ТМО, можно отметить датского учёного А.-К. Эрланга (1878-1929), одного из крупнейших мировых математиков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ка А.Н. Колмогорова (1903-1987), а также когорту выдающихся советских математиков в лице А.Я. Хинчина (1894-1959), Н.П.Бусленко (1922-1977), Е.С. Вентцель (1907-2002), Б.В. Гнеденко (1912-1995) и целого ряда других учё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>
            <a:off x="-46080" y="4844880"/>
            <a:ext cx="918216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задачи ТМО сводятся к анализу и исследованию явлений и процессов, происходящих в различных системах массового обслуживания (СМО), независимо от их физической природы, будь то магазин-супермаркет или парикмахерская, станция техобслуживания автомобилей или Центр обработки заявок крупного оператора ССТК. При этом целью проводимых исследований обычно является определение и оптимизация таких параметров СМО, которые обеспечивают необходимое качество её функционирования, например, минимизацию среднего времени обработки заявок, длительности среднего времени пребывания заявки в очереди на обслуживание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100440"/>
            <a:ext cx="91440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Основные понятия и определения ТМ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108000" y="565200"/>
            <a:ext cx="90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Случайный процесс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есть некоторая наблюдаемая во времени последовательность событий стохастической (случайной) природы, происходящих в изучаемой системе.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мена событий происходит в заранее неизвестные моменты времен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ичем последовательность появления тех или иных событий также носит случайный характер. В дальнейшем, прежде всего, нас будет интересовать такой класс случайных процессов, как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лучайные процессы с дискретными состояниями и непрерывным времене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Дискретные состоян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множество всех возможных состояний в рассматриваемой системе, причем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еходы системы из состояния в состояние осуществляются скачкообразно в заранее неизвестные моменты времен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90360" y="3357720"/>
            <a:ext cx="903600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йный процесс называется </a:t>
            </a:r>
            <a:r>
              <a:rPr b="1" i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процессом с дискретными состояниям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сли все его возможные состояния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…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но заранее перечислить (т.е.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системе имеется конечное счётное множество состояний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и переход из состояния в состояние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существляется скачкообразно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.е. практически мгнове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йный процесс называется </a:t>
            </a:r>
            <a:r>
              <a:rPr b="1" i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процессом с непрерывным времене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сли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оменты возможных переходов из состояния в состояние не фиксированы заране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неопределённы,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лучайны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ичем такие переходы могут в принципе происходить в любые моменты врем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108000" y="5576760"/>
            <a:ext cx="901836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йный процесс, происходящий в некоторой системе, называется </a:t>
            </a:r>
            <a:r>
              <a:rPr b="1" i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марковски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сли для любого момента времени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роятностные характеристики данного процесса в будущем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висят только от состояния системы в данный момент 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</a:t>
            </a:r>
            <a:r>
              <a:rPr b="1" i="1" lang="ru-RU" sz="18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0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 зависят от того, как и когда система пришла в это состоя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168480" y="202680"/>
            <a:ext cx="931212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труктура и состав системы массового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0" y="1030320"/>
            <a:ext cx="9131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Системой массового обслуживания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МО) будем называть систему, основными элементами которой являются (см. Рис.): входящий поток заявок на обслуживание, множество обслуживающих эти заявки устройств (ОУ), очередь ожидающих обслуживания заявок (так называемый входной буфер), а также выходящий поток обслуженных заяв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Полотно 156"/>
          <p:cNvGrpSpPr/>
          <p:nvPr/>
        </p:nvGrpSpPr>
        <p:grpSpPr>
          <a:xfrm>
            <a:off x="971640" y="2779560"/>
            <a:ext cx="7200720" cy="3875400"/>
            <a:chOff x="971640" y="2779560"/>
            <a:chExt cx="7200720" cy="3875400"/>
          </a:xfrm>
        </p:grpSpPr>
        <p:sp>
          <p:nvSpPr>
            <p:cNvPr id="100" name="Прямоугольник 10"/>
            <p:cNvSpPr/>
            <p:nvPr/>
          </p:nvSpPr>
          <p:spPr>
            <a:xfrm>
              <a:off x="971640" y="2779560"/>
              <a:ext cx="7200720" cy="38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16"/>
            <p:cNvSpPr/>
            <p:nvPr/>
          </p:nvSpPr>
          <p:spPr>
            <a:xfrm>
              <a:off x="4261680" y="3350160"/>
              <a:ext cx="3600" cy="260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17"/>
            <p:cNvSpPr/>
            <p:nvPr/>
          </p:nvSpPr>
          <p:spPr>
            <a:xfrm flipV="1">
              <a:off x="4258080" y="3350160"/>
              <a:ext cx="68580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18"/>
            <p:cNvSpPr/>
            <p:nvPr/>
          </p:nvSpPr>
          <p:spPr>
            <a:xfrm>
              <a:off x="4258080" y="4114800"/>
              <a:ext cx="685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19"/>
            <p:cNvSpPr/>
            <p:nvPr/>
          </p:nvSpPr>
          <p:spPr>
            <a:xfrm>
              <a:off x="4258080" y="5950800"/>
              <a:ext cx="685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20"/>
            <p:cNvSpPr/>
            <p:nvPr/>
          </p:nvSpPr>
          <p:spPr>
            <a:xfrm>
              <a:off x="4258080" y="4879800"/>
              <a:ext cx="685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21"/>
            <p:cNvSpPr/>
            <p:nvPr/>
          </p:nvSpPr>
          <p:spPr>
            <a:xfrm>
              <a:off x="4944240" y="3044880"/>
              <a:ext cx="682200" cy="610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22"/>
            <p:cNvSpPr/>
            <p:nvPr/>
          </p:nvSpPr>
          <p:spPr>
            <a:xfrm>
              <a:off x="4944240" y="3808800"/>
              <a:ext cx="682200" cy="610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23"/>
            <p:cNvSpPr/>
            <p:nvPr/>
          </p:nvSpPr>
          <p:spPr>
            <a:xfrm>
              <a:off x="4944240" y="4574520"/>
              <a:ext cx="682200" cy="6098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24"/>
            <p:cNvSpPr/>
            <p:nvPr/>
          </p:nvSpPr>
          <p:spPr>
            <a:xfrm>
              <a:off x="4944240" y="5644440"/>
              <a:ext cx="682200" cy="610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25"/>
            <p:cNvSpPr/>
            <p:nvPr/>
          </p:nvSpPr>
          <p:spPr>
            <a:xfrm flipV="1">
              <a:off x="3882960" y="4422240"/>
              <a:ext cx="37476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26"/>
            <p:cNvSpPr/>
            <p:nvPr/>
          </p:nvSpPr>
          <p:spPr>
            <a:xfrm>
              <a:off x="5051880" y="5206680"/>
              <a:ext cx="4356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27"/>
            <p:cNvSpPr/>
            <p:nvPr/>
          </p:nvSpPr>
          <p:spPr>
            <a:xfrm>
              <a:off x="4961160" y="3149280"/>
              <a:ext cx="85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У</a:t>
              </a:r>
              <a:r>
                <a:rPr b="0" lang="ru-RU" sz="1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28"/>
            <p:cNvSpPr/>
            <p:nvPr/>
          </p:nvSpPr>
          <p:spPr>
            <a:xfrm>
              <a:off x="4915080" y="3922920"/>
              <a:ext cx="855360" cy="46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У</a:t>
              </a:r>
              <a:r>
                <a:rPr b="0" lang="ru-RU" sz="1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29"/>
            <p:cNvSpPr/>
            <p:nvPr/>
          </p:nvSpPr>
          <p:spPr>
            <a:xfrm>
              <a:off x="5626440" y="3350160"/>
              <a:ext cx="34236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30"/>
            <p:cNvSpPr/>
            <p:nvPr/>
          </p:nvSpPr>
          <p:spPr>
            <a:xfrm>
              <a:off x="5626440" y="4114800"/>
              <a:ext cx="3423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31"/>
            <p:cNvSpPr/>
            <p:nvPr/>
          </p:nvSpPr>
          <p:spPr>
            <a:xfrm>
              <a:off x="5626440" y="4879800"/>
              <a:ext cx="3423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32"/>
            <p:cNvSpPr/>
            <p:nvPr/>
          </p:nvSpPr>
          <p:spPr>
            <a:xfrm>
              <a:off x="5626440" y="5950800"/>
              <a:ext cx="3423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33"/>
            <p:cNvSpPr/>
            <p:nvPr/>
          </p:nvSpPr>
          <p:spPr>
            <a:xfrm>
              <a:off x="4918680" y="4664520"/>
              <a:ext cx="8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У</a:t>
              </a:r>
              <a:r>
                <a:rPr b="0" lang="ru-RU" sz="1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34"/>
            <p:cNvSpPr/>
            <p:nvPr/>
          </p:nvSpPr>
          <p:spPr>
            <a:xfrm>
              <a:off x="4849560" y="5756400"/>
              <a:ext cx="85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У</a:t>
              </a:r>
              <a:r>
                <a:rPr b="0" i="1" lang="en-US" sz="1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35"/>
            <p:cNvSpPr/>
            <p:nvPr/>
          </p:nvSpPr>
          <p:spPr>
            <a:xfrm>
              <a:off x="2850840" y="4143240"/>
              <a:ext cx="1024920" cy="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36"/>
            <p:cNvSpPr/>
            <p:nvPr/>
          </p:nvSpPr>
          <p:spPr>
            <a:xfrm>
              <a:off x="2850840" y="4754520"/>
              <a:ext cx="102492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37"/>
            <p:cNvSpPr/>
            <p:nvPr/>
          </p:nvSpPr>
          <p:spPr>
            <a:xfrm>
              <a:off x="3875760" y="4142160"/>
              <a:ext cx="1080" cy="61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38"/>
            <p:cNvSpPr/>
            <p:nvPr/>
          </p:nvSpPr>
          <p:spPr>
            <a:xfrm>
              <a:off x="2680200" y="4449600"/>
              <a:ext cx="5104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39"/>
            <p:cNvSpPr/>
            <p:nvPr/>
          </p:nvSpPr>
          <p:spPr>
            <a:xfrm>
              <a:off x="3702600" y="4142160"/>
              <a:ext cx="5760" cy="61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40"/>
            <p:cNvSpPr/>
            <p:nvPr/>
          </p:nvSpPr>
          <p:spPr>
            <a:xfrm>
              <a:off x="3530880" y="4142160"/>
              <a:ext cx="5760" cy="61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41"/>
            <p:cNvSpPr/>
            <p:nvPr/>
          </p:nvSpPr>
          <p:spPr>
            <a:xfrm>
              <a:off x="3363840" y="4142160"/>
              <a:ext cx="1080" cy="61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42"/>
            <p:cNvSpPr/>
            <p:nvPr/>
          </p:nvSpPr>
          <p:spPr>
            <a:xfrm>
              <a:off x="3190680" y="4142160"/>
              <a:ext cx="1080" cy="61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143"/>
            <p:cNvSpPr/>
            <p:nvPr/>
          </p:nvSpPr>
          <p:spPr>
            <a:xfrm rot="16200000">
              <a:off x="3283560" y="4473360"/>
              <a:ext cx="153360" cy="1018800"/>
            </a:xfrm>
            <a:custGeom>
              <a:avLst/>
              <a:gdLst>
                <a:gd name="textAreaLeft" fmla="*/ 97920 w 153360"/>
                <a:gd name="textAreaRight" fmla="*/ 153720 w 153360"/>
                <a:gd name="textAreaTop" fmla="*/ 26640 h 1018800"/>
                <a:gd name="textAreaBottom" fmla="*/ 992160 h 101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12"/>
                    <a:pt x="10800" y="1824"/>
                  </a:cubicBezTo>
                  <a:lnTo>
                    <a:pt x="10800" y="8976"/>
                  </a:lnTo>
                  <a:cubicBezTo>
                    <a:pt x="10800" y="9888"/>
                    <a:pt x="5400" y="10800"/>
                    <a:pt x="0" y="10800"/>
                  </a:cubicBezTo>
                  <a:cubicBezTo>
                    <a:pt x="5400" y="10800"/>
                    <a:pt x="10800" y="11712"/>
                    <a:pt x="10800" y="12624"/>
                  </a:cubicBezTo>
                  <a:lnTo>
                    <a:pt x="10800" y="19776"/>
                  </a:lnTo>
                  <a:cubicBezTo>
                    <a:pt x="10800" y="20688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44"/>
            <p:cNvSpPr/>
            <p:nvPr/>
          </p:nvSpPr>
          <p:spPr>
            <a:xfrm>
              <a:off x="2630520" y="4969800"/>
              <a:ext cx="1333440" cy="78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черед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яво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45"/>
            <p:cNvSpPr/>
            <p:nvPr/>
          </p:nvSpPr>
          <p:spPr>
            <a:xfrm>
              <a:off x="1486800" y="4300200"/>
              <a:ext cx="192240" cy="18972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46"/>
            <p:cNvSpPr/>
            <p:nvPr/>
          </p:nvSpPr>
          <p:spPr>
            <a:xfrm>
              <a:off x="1857240" y="4300200"/>
              <a:ext cx="193320" cy="19080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47"/>
            <p:cNvSpPr/>
            <p:nvPr/>
          </p:nvSpPr>
          <p:spPr>
            <a:xfrm>
              <a:off x="2227680" y="4299120"/>
              <a:ext cx="193320" cy="19080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148"/>
            <p:cNvSpPr/>
            <p:nvPr/>
          </p:nvSpPr>
          <p:spPr>
            <a:xfrm rot="16200000">
              <a:off x="7074360" y="4054680"/>
              <a:ext cx="176400" cy="1195200"/>
            </a:xfrm>
            <a:custGeom>
              <a:avLst/>
              <a:gdLst>
                <a:gd name="textAreaLeft" fmla="*/ 112680 w 176400"/>
                <a:gd name="textAreaRight" fmla="*/ 176760 w 176400"/>
                <a:gd name="textAreaTop" fmla="*/ 31320 h 1195200"/>
                <a:gd name="textAreaBottom" fmla="*/ 1163880 h 119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12"/>
                    <a:pt x="10800" y="1824"/>
                  </a:cubicBezTo>
                  <a:lnTo>
                    <a:pt x="10800" y="8976"/>
                  </a:lnTo>
                  <a:cubicBezTo>
                    <a:pt x="10800" y="9888"/>
                    <a:pt x="5400" y="10800"/>
                    <a:pt x="0" y="10800"/>
                  </a:cubicBezTo>
                  <a:cubicBezTo>
                    <a:pt x="5400" y="10800"/>
                    <a:pt x="10800" y="11712"/>
                    <a:pt x="10800" y="12624"/>
                  </a:cubicBezTo>
                  <a:lnTo>
                    <a:pt x="10800" y="19776"/>
                  </a:lnTo>
                  <a:cubicBezTo>
                    <a:pt x="10800" y="20688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49"/>
            <p:cNvSpPr/>
            <p:nvPr/>
          </p:nvSpPr>
          <p:spPr>
            <a:xfrm>
              <a:off x="1179720" y="4807080"/>
              <a:ext cx="1450800" cy="80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ходящий пото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яво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50"/>
            <p:cNvSpPr/>
            <p:nvPr/>
          </p:nvSpPr>
          <p:spPr>
            <a:xfrm>
              <a:off x="6699960" y="4311360"/>
              <a:ext cx="193320" cy="191880"/>
            </a:xfrm>
            <a:prstGeom prst="ellipse">
              <a:avLst/>
            </a:prstGeom>
            <a:solidFill>
              <a:srgbClr val="00b05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51"/>
            <p:cNvSpPr/>
            <p:nvPr/>
          </p:nvSpPr>
          <p:spPr>
            <a:xfrm>
              <a:off x="7070040" y="4309200"/>
              <a:ext cx="193320" cy="194040"/>
            </a:xfrm>
            <a:prstGeom prst="ellipse">
              <a:avLst/>
            </a:prstGeom>
            <a:solidFill>
              <a:srgbClr val="00b05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52"/>
            <p:cNvSpPr/>
            <p:nvPr/>
          </p:nvSpPr>
          <p:spPr>
            <a:xfrm>
              <a:off x="7439400" y="4309200"/>
              <a:ext cx="193320" cy="190800"/>
            </a:xfrm>
            <a:prstGeom prst="ellipse">
              <a:avLst/>
            </a:prstGeom>
            <a:solidFill>
              <a:srgbClr val="00b05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153"/>
            <p:cNvSpPr/>
            <p:nvPr/>
          </p:nvSpPr>
          <p:spPr>
            <a:xfrm rot="16200000">
              <a:off x="1885680" y="4185720"/>
              <a:ext cx="152280" cy="10645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8080 h 1064520"/>
                <a:gd name="textAreaBottom" fmla="*/ 1036440 h 106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12"/>
                    <a:pt x="10800" y="1824"/>
                  </a:cubicBezTo>
                  <a:lnTo>
                    <a:pt x="10800" y="8976"/>
                  </a:lnTo>
                  <a:cubicBezTo>
                    <a:pt x="10800" y="9888"/>
                    <a:pt x="5400" y="10800"/>
                    <a:pt x="0" y="10800"/>
                  </a:cubicBezTo>
                  <a:cubicBezTo>
                    <a:pt x="5400" y="10800"/>
                    <a:pt x="10800" y="11712"/>
                    <a:pt x="10800" y="12624"/>
                  </a:cubicBezTo>
                  <a:lnTo>
                    <a:pt x="10800" y="19776"/>
                  </a:lnTo>
                  <a:cubicBezTo>
                    <a:pt x="10800" y="20688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54"/>
            <p:cNvSpPr/>
            <p:nvPr/>
          </p:nvSpPr>
          <p:spPr>
            <a:xfrm>
              <a:off x="6346440" y="4807080"/>
              <a:ext cx="1571760" cy="80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ходящий пото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яво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55"/>
            <p:cNvSpPr/>
            <p:nvPr/>
          </p:nvSpPr>
          <p:spPr>
            <a:xfrm>
              <a:off x="1716840" y="4104000"/>
              <a:ext cx="5104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56"/>
            <p:cNvSpPr/>
            <p:nvPr/>
          </p:nvSpPr>
          <p:spPr>
            <a:xfrm>
              <a:off x="6699960" y="4157640"/>
              <a:ext cx="8359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57"/>
            <p:cNvSpPr/>
            <p:nvPr/>
          </p:nvSpPr>
          <p:spPr>
            <a:xfrm>
              <a:off x="4538880" y="3151440"/>
              <a:ext cx="310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58"/>
            <p:cNvSpPr/>
            <p:nvPr/>
          </p:nvSpPr>
          <p:spPr>
            <a:xfrm>
              <a:off x="4538880" y="3921840"/>
              <a:ext cx="310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59"/>
            <p:cNvSpPr/>
            <p:nvPr/>
          </p:nvSpPr>
          <p:spPr>
            <a:xfrm>
              <a:off x="4538880" y="4664520"/>
              <a:ext cx="310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60"/>
            <p:cNvSpPr/>
            <p:nvPr/>
          </p:nvSpPr>
          <p:spPr>
            <a:xfrm>
              <a:off x="4538880" y="5755320"/>
              <a:ext cx="310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4"/>
          <p:cNvSpPr/>
          <p:nvPr/>
        </p:nvSpPr>
        <p:spPr>
          <a:xfrm>
            <a:off x="108000" y="291960"/>
            <a:ext cx="8928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зличных структур СМО с различными законами распределения входящих потоков заявок, законами распределения времени обслуживания, заданным количеством ОУ и фиксированной длиной очереди существуют специальные условные обозначения. На первом месте в такой условной записи стоит обозначение входящего потока заявок, на втором – условное обозначение закона распределения времени обслуживания заявок в ОУ, на третьем – количество ОУ в системе и на четвертом – длина очереди (количество мест для ожидающих обслуживания заявок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сь модельного представления СМО в виде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M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/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G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/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N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/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условное обозначение для модели СМО, имеющей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уассоновский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ходящий поток заявок (</a:t>
            </a:r>
            <a:r>
              <a:rPr b="1" i="1" lang="en-US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M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оизвольный закон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функций распределения длительности обслуживания заявок в ОУ (</a:t>
            </a:r>
            <a:r>
              <a:rPr b="1" i="1" lang="en-US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G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i="1" lang="en-US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оличество обслуживающих устройств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данной СМО, </a:t>
            </a:r>
            <a:r>
              <a:rPr b="1" i="1" lang="en-US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m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бъём входного буфер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назначенного для хранения заявок, поступающих в систему и ожидающих в очереди на обслужи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31680" y="42703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ходящий поток является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куррентны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произвольным законом распределения интервалов между поступлением заявок, то на первом месте в такой записи модели СМО необходимо будет указать обозначение </a:t>
            </a:r>
            <a:r>
              <a:rPr b="1" i="1" lang="en-US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G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тором месте в зависимости от характера распределения времени обслуживания заявок в качестве вариантов могут быть указаны: </a:t>
            </a:r>
            <a:r>
              <a:rPr b="1" i="1" lang="en-US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M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ля показательного распределения длительности интервалов обслуживания; </a:t>
            </a:r>
            <a:r>
              <a:rPr b="1" i="1" lang="en-US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E</a:t>
            </a:r>
            <a:r>
              <a:rPr b="1" i="1" lang="en-US" sz="1800" spc="-1" strike="noStrike" baseline="30000">
                <a:solidFill>
                  <a:srgbClr val="ff0066"/>
                </a:solidFill>
                <a:latin typeface="Times New Roman"/>
                <a:ea typeface="Times New Roman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ля закона распределения Эрланга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рядка; </a:t>
            </a:r>
            <a:r>
              <a:rPr b="1" i="1" lang="en-US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ля детерминированного закона обслуживания (длительность обслуживания строго фиксирована)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4"/>
          <p:cNvSpPr/>
          <p:nvPr/>
        </p:nvSpPr>
        <p:spPr>
          <a:xfrm>
            <a:off x="0" y="115920"/>
            <a:ext cx="914724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 моделей СМО можно также выделить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МО с ожидание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МО с потерям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МО с ожиданием подразумевает такую модель, где заявки в случае занятости ОУ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мещаются в очередь и не теряютс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жидая в ней, пока не освободится одно из ОУ.   Такие СМО также называются СМО с неограниченным временем ожидания (бесконечной длиной очеред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О с потерями (СМО с отказами) подразумевает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озможность потери заявок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ледствие того, что вновь пришедшая заявка, застав все обслуживающие устройства СМО занятыми, покидает систему, т.е. теряется. Классическим примером такой модели обслуживания является работа автоматических телефонных станций (АТС), когда в случае занятости запрашиваемой линии связи (номера), позвонивший абонент получает сообщение об отказе в обслуживании (короткие гудк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 вариантом СМО с потерями является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МО с ограниченной длиной очеред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акая система имеет входной буфер ожидания, где заявки образуют очередь конечной длины </a:t>
            </a:r>
            <a:r>
              <a:rPr b="1" i="1" lang="en-US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m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чередная вновь пришедшая заявка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ановится в очеред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сли все ОУ заняты, но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и этом имеются свободные места в буфере ожидан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Если же нет свободных мест и в самом буфере, то заявка теряется. Пример – очередь пакетов данных на сетевом маршрутизаторе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и заявок крайне нежелательны, поэтому их надо избегать за счет соответствующих технических решений СМ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0" y="5164200"/>
            <a:ext cx="903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 СМО с ожиданием или потерями различают также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мкнутые и разомкнутые системы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Разомкнутая СМО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истема с неограниченным источником потока заявок на обслуживание, примером чему является  Интер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Замкнутая СМО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система, в которой поток заявок ограничен. Примерами таких СМО являются локальные сети предприят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3024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Марковские процессы и конечные цепи Мар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9"/>
          <p:cNvSpPr/>
          <p:nvPr/>
        </p:nvSpPr>
        <p:spPr>
          <a:xfrm>
            <a:off x="25560" y="798480"/>
            <a:ext cx="911844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йный процесс, происходящий в некоторой системе, называется </a:t>
            </a:r>
            <a:r>
              <a:rPr b="1" i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марковски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сли для любого момента времени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роятностные характеристики данного процесса в будущем зависят только от состояния системы в данный момент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не зависят от того, как и когда система пришла в это состоя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7"/>
          <p:cNvSpPr/>
          <p:nvPr/>
        </p:nvSpPr>
        <p:spPr>
          <a:xfrm>
            <a:off x="0" y="2060640"/>
            <a:ext cx="9144000" cy="47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ковские случайные процессы </a:t>
            </a:r>
            <a:r>
              <a:rPr b="1" i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с дискретными состояниями и непрерывным времене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ставленные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виде цепочки состояний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вершины данной цепи соответствуют  возможным состояниям исследуемой СМО, а переходы из того или иного состояния системы в соседние другие состояния обозначены стрелками с указанными вероятностями данных переходов, называются </a:t>
            </a:r>
            <a:r>
              <a:rPr b="1" i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марковскими цепям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исло возможных состояний исследуемой системы  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</a:t>
            </a:r>
            <a:r>
              <a:rPr b="1" i="1" lang="ru-RU" sz="18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0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 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</a:t>
            </a:r>
            <a:r>
              <a:rPr b="1" i="1" lang="ru-RU" sz="18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1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 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</a:t>
            </a:r>
            <a:r>
              <a:rPr b="1" i="1" lang="ru-RU" sz="18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…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</a:t>
            </a:r>
            <a:r>
              <a:rPr b="1" i="1" lang="en-US" sz="18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n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конечно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 их можно заранее перечислить (т.е. в системе имеется счётное множество состояний), то  такая цепь называется </a:t>
            </a:r>
            <a:r>
              <a:rPr b="1" i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конечной цепью Марков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цепи Маркова переход СМО из одного состояния в другое происходит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д воздействием потоков случайных событий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к,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онечная цепь Марков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случайный процесс, происходящий на конечном множестве состояний, для которого (т.е. процесса)  вероятность попасть в некоторое состояние  (путём осуществления возможных переходов из одного состояния в другое)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висит только от того состояния, в котором этот процесс находился в предыдущий момент времени и не зависит от того, как и когда система пришла в это состояни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казатели эффективности исследуемой СМ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109656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реднее число заявок, обслуживаемых СМО в единицу времени (т.е. общая производительность систем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реднее число занятых каналов обслуживания заявок, т.е. среднее количество полезно используемых в СМО обслуживающих устройств (ОУ), другими словами, –  средний коэффициент полезной загрузки сист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реднее число ожидающих обслуживания заявок в очереди (т.е. в буфере ожидания систем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реднее время ожидания в очереди на обслужив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реднее время простоя системы из-за отсутствия заявок на обслужив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ероятность потери заявок из-за общей перегрузки СМО вследствие тех или иных причин (слишком малое количество ОУ, недостаточная производительность ОУ, недостаточный объем буфера, излишне высокая интенсивность входного потока заявок и т.д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ероятность того, что число заявок в очереди не превысит заданные значения (например, установленного объема буфер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9109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арианты организации системы О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05228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По общей организации структуры обслуживания заявок системой О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 последовательным обслуживанием заявок одиночными О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 параллельным обслуживанием заявок несколькими О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комбинированные варианты структурной организации О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По организации обслуживания очеред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истемы с ожиданием заявок в очереди на обслуживание (буфером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 потерями заявок (с отказами в обслуживани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комбинированные (например, с потерями заявок из-за превышения заданного времени ожидания в очереди на обслуживани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По дисциплине приоритетного обслуживания очередей заяво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 абсолютным приоритет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 относительным приоритетом/приоритет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 более сложными дисциплинами приоритетного обслужи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По регламенту (этапности) обслуживания заяво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элементарный (одноступенчаты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многоступенчатый (многофазовы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 другими, более сложными регламентами обслужи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По регламенту (этапности) обслуживания заяво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МО открытого типа (разомкнутая систем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замкнутая СМО с ограниченным потоком заявок (поток требований на обслуживание не превышает заданного лимита заявок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3"/>
          <p:cNvSpPr/>
          <p:nvPr/>
        </p:nvSpPr>
        <p:spPr>
          <a:xfrm>
            <a:off x="0" y="162864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оследовательно, в порядке поступления заявки в очередь на обслуживание (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FIFO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оследовательно в порядке, обратном порядку постановки заявки в очередь на обслуживание (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LIFO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бслуживание заявок в рамках установленных приоритетов (дисциплин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 случайном поряд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 порядке первого поступления после освобождения ресурсов ОУ (в т.ч. конкретно заданных заране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Другие, более сложные варианты организации обслуживания очередей, в т.ч. комбинирован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8000" y="476280"/>
            <a:ext cx="89280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Основные варианты организации дисциплины обслуживания очередей в СМ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11160" y="1197000"/>
            <a:ext cx="885672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Тема 4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ДЕЛЬНЫЕ ПРЕДСТАВЛЕНИЯ СИСТЕМ МАССОВОГО ОБСЛУЖИВАНИЯ И АНАЛИЗ ПРОЦЕССОВ ОБРАБОТКИ ДАННЫХ В ТЕЛЕКОММУНИКАЦИОННЫХ СЕТЯХ И СИСТЕ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3760"/>
            <a:ext cx="914400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Уравнения Колмогор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"/>
          <p:cNvSpPr/>
          <p:nvPr/>
        </p:nvSpPr>
        <p:spPr>
          <a:xfrm>
            <a:off x="0" y="620640"/>
            <a:ext cx="9144000" cy="66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1" i="1" lang="ru-RU" sz="2000" spc="-1" strike="noStrike">
                <a:solidFill>
                  <a:srgbClr val="800080"/>
                </a:solidFill>
                <a:latin typeface="Arial"/>
              </a:rPr>
              <a:t>Уравнения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 Колмогорова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определяют способ вычисления так называемых  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финальных  вероятностей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нахождения СМО во всех возможных её состояниях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0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…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n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. При этом под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финальными вероятностями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понимаются предельные, не зависящие от начального состояния системы, вероятности её нахождения в том или ином состоянии из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эргодического множества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Эргодическое множество состояний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системы – такое множе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состояний, в котором  можно из любого состояния данного множества попасть в любое другое состояние этого же множества, но из которого (множества), попав в него, нельзя уй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Невозвратное множество состояний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– такое множество состояний системы, в котором можно попасть в любое другое состояние этого же множества, но в которое, уйдя из него, нельзя верну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Поглощающее состояние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– состояние, попав в которое нельзя из него выйти (т.е. это вырожденное эргодическое множеств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Эргодическая цепь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– цепь, состояния которой образуют единое эргодическое множество, или, что эквивалентно, цепь, в которой из любого состояния можно за конечное число шагов попасть в любое другое состояние данной цеп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Циклическая цепь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– эргодическая цепь, в которой в каждое из её состояний можно попасть только через определенные периодические промежутки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Регулярная цепь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– эргодическая цепь, не являющаяся цикличес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108000" y="259920"/>
            <a:ext cx="91440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бщее правило составления уравнений Колмогор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"/>
          <p:cNvSpPr/>
          <p:nvPr/>
        </p:nvSpPr>
        <p:spPr>
          <a:xfrm>
            <a:off x="11160" y="1273320"/>
            <a:ext cx="9144000" cy="55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Общее правило составления </a:t>
            </a:r>
            <a:r>
              <a:rPr b="1" i="1" lang="ru-RU" sz="2000" spc="-1" strike="noStrike">
                <a:solidFill>
                  <a:srgbClr val="800080"/>
                </a:solidFill>
                <a:latin typeface="Arial"/>
              </a:rPr>
              <a:t>Уравнений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 Колмогоров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системы финальных вероятностей можно с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формулировать следующим образ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 левой части уравнения Колмогорова стоит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производная вероятности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нахождения системы в некотором 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-м состоя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 правой части данного уравнения стоит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сумма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вероятностей всех состояний,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из которых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идут стрелки в данное 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-е состояние, умноженных на интенсивности соответствующих потоков событий,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минус суммарная интенсивность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сех потоков, выводящих систему из данного состояния, умноженная на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вероятность нахождения системы в этом состоянии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ри этом сумма всех финальных вероятностей состояний системы должна быть 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равна 1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. Данное  условие называется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условием нормировки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. Необходимо также учитывать начальные усло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Таким образом, финальную вероятность некоторого 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-го состояния системы можно трактовать как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среднее относительное время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ребывания системы в данном состоя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Формулы Эрлан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0" y="145692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улы Эрланга есть математическая модель для описания работы СМО без буфера заявок (без очередей), т.е. для формализации режима работы СМО с потерями заявок, если все ОУ заняты. Пример – ранние АТ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1456920"/>
            <a:ext cx="8964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цесс разработки и применения моделей в ходе исследований – это важный, сложнейший и трудоемкий этап проектирования любой СМ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 связан с кропотливым и тщательным предварительным изучением создаваемого объекта, в данном случае, проектируемой СМО, разработкой его модельных представлений, их верификацией (т.е. проверкой адекватности), а также их непосредственным использованием в процессе изучения свойств и характеристик исследуемого объекта (системы) путём моделир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187200"/>
            <a:ext cx="91440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лучайные события и функции распред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3"/>
          <p:cNvSpPr/>
          <p:nvPr/>
        </p:nvSpPr>
        <p:spPr>
          <a:xfrm>
            <a:off x="250920" y="1002600"/>
            <a:ext cx="8713800" cy="23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ажным понятием в теории вероятностей является 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  <a:ea typeface="Times New Roman"/>
              </a:rPr>
              <a:t>дискретная случайная величин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Под ней понимается некоторая случайная величина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которая при определённых условиях принимает одно из своих возможных значений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1" i="1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с вероятностью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1" i="1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1" i="1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1, 2, …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нятие случайной величиной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конкретного значения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1" i="1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рассматривается как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случайное событ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причём все такие события образуют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полное множеств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т.е. выполняется услов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Объект 12"/>
              <p:cNvSpPr txBox="1"/>
              <p:nvPr/>
            </p:nvSpPr>
            <p:spPr>
              <a:xfrm>
                <a:off x="2843280" y="3236760"/>
                <a:ext cx="280836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nary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mr>
                    </m:m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" name="Rectangle 14"/>
          <p:cNvSpPr/>
          <p:nvPr/>
        </p:nvSpPr>
        <p:spPr>
          <a:xfrm>
            <a:off x="-324000" y="378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34920" y="4362480"/>
            <a:ext cx="910908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я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ставящая в соответствие каждому значению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искретной случайной величины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роятность появления этого значения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называется </a:t>
            </a:r>
            <a:r>
              <a:rPr b="1" i="1" lang="ru-RU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функцией дискретного распределения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йной величины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</a:t>
            </a:r>
            <a:r>
              <a:rPr b="1" i="1" lang="ru-RU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функцией вероятност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пособы задания данной функции могут быть самыми различными (в табличном виде, графически и т.д.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52280" y="129600"/>
            <a:ext cx="888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непрерывной случайной величины такой функции не существует, т.к. все возможные значения непрерывной случайной величины перечислить нельзя. Поэтому целесообразно ввести такую функцию, которая применима и для дискретных и для непрерывных случайных величи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158760" y="1194480"/>
            <a:ext cx="883296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Функция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1" i="1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=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1" i="1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, определяющая вероятность того, что случайная величина не превышает значения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1" i="1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называется </a:t>
            </a:r>
            <a:r>
              <a:rPr b="1" i="1" lang="ru-RU" sz="1600" spc="-1" strike="noStrike">
                <a:solidFill>
                  <a:srgbClr val="ff0066"/>
                </a:solidFill>
                <a:latin typeface="Arial"/>
                <a:ea typeface="Times New Roman"/>
              </a:rPr>
              <a:t>интегральной функцией распределения</a:t>
            </a:r>
            <a:r>
              <a:rPr b="1" lang="ru-RU" sz="1600" spc="-1" strike="noStrike">
                <a:solidFill>
                  <a:srgbClr val="ff0066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просто </a:t>
            </a:r>
            <a:r>
              <a:rPr b="1" i="1" lang="ru-RU" sz="1600" spc="-1" strike="noStrike">
                <a:solidFill>
                  <a:srgbClr val="ff0066"/>
                </a:solidFill>
                <a:latin typeface="Arial"/>
                <a:ea typeface="Times New Roman"/>
              </a:rPr>
              <a:t>функцией распределен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случайной величины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При этом для любой случайной величины имее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Объект 6"/>
              <p:cNvSpPr txBox="1"/>
              <p:nvPr/>
            </p:nvSpPr>
            <p:spPr>
              <a:xfrm>
                <a:off x="1908000" y="1916280"/>
                <a:ext cx="152640" cy="16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2" name="Rectangle 9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414036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Объект 10"/>
              <p:cNvSpPr txBox="1"/>
              <p:nvPr/>
            </p:nvSpPr>
            <p:spPr>
              <a:xfrm>
                <a:off x="2549520" y="2243160"/>
                <a:ext cx="2814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x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sub>
                            <m:sup/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</m:e>
                          </m:nary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mr>
                    </m:m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Rectangle 13"/>
          <p:cNvSpPr/>
          <p:nvPr/>
        </p:nvSpPr>
        <p:spPr>
          <a:xfrm>
            <a:off x="152280" y="3138480"/>
            <a:ext cx="868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чевидно, что </a:t>
            </a:r>
            <a:r>
              <a:rPr b="1" i="1" lang="ru-RU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функция распределения случайной величины является монотонно возрастающе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приче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Объект 12"/>
              <p:cNvSpPr txBox="1"/>
              <p:nvPr/>
            </p:nvSpPr>
            <p:spPr>
              <a:xfrm>
                <a:off x="3059280" y="3774960"/>
                <a:ext cx="20509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Rectangle 14"/>
          <p:cNvSpPr/>
          <p:nvPr/>
        </p:nvSpPr>
        <p:spPr>
          <a:xfrm>
            <a:off x="0" y="3914640"/>
            <a:ext cx="8832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6"/>
          <p:cNvSpPr/>
          <p:nvPr/>
        </p:nvSpPr>
        <p:spPr>
          <a:xfrm>
            <a:off x="169920" y="4059360"/>
            <a:ext cx="86803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непрерывной случайной величины функция распределения будет непрерывной, а для дискретной случайной величины она будет разрыв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оятность попадания случайной величины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епрерывной или дискретной) в интервал значений [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определяется через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ункцию распределен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форму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771640" y="558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Объект 17"/>
              <p:cNvSpPr txBox="1"/>
              <p:nvPr/>
            </p:nvSpPr>
            <p:spPr>
              <a:xfrm>
                <a:off x="1547640" y="5840280"/>
                <a:ext cx="53280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≤</m:t>
                          </m:r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-F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mr>
                    </m:m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4"/>
          <p:cNvSpPr/>
          <p:nvPr/>
        </p:nvSpPr>
        <p:spPr>
          <a:xfrm>
            <a:off x="108000" y="189000"/>
            <a:ext cx="89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актических целей важное значение имеет </a:t>
            </a:r>
            <a:r>
              <a:rPr b="1" i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закон распределения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йной величины. Под законом распределения понимается некоторое типичное распределение случайной величины, исходя из которого, по известным формулам, можно получить любую характеристику этой случайной велич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108000" y="1374840"/>
            <a:ext cx="892800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дискретной случайной величины закон распределения определяется по виду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ункции дискретного распределен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непрерывной случайной величины закон распределения определяется по виду так называемой </a:t>
            </a:r>
            <a:r>
              <a:rPr b="1" i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функции плотности распределения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ли </a:t>
            </a:r>
            <a:r>
              <a:rPr b="1" i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функции плотности вероятност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Она определяется через функцию распределения ка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47636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Объект 7"/>
              <p:cNvSpPr txBox="1"/>
              <p:nvPr/>
            </p:nvSpPr>
            <p:spPr>
              <a:xfrm>
                <a:off x="2987640" y="2865600"/>
                <a:ext cx="24638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Ф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F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x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mr>
                    </m:m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Rectangle 6"/>
          <p:cNvSpPr/>
          <p:nvPr/>
        </p:nvSpPr>
        <p:spPr>
          <a:xfrm>
            <a:off x="0" y="374148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практике из непрерывных законов распределения наиболее часто встречается </a:t>
            </a:r>
            <a:r>
              <a:rPr b="1" i="1" lang="ru-RU" sz="1600" spc="-1" strike="noStrike">
                <a:solidFill>
                  <a:srgbClr val="ff0066"/>
                </a:solidFill>
                <a:latin typeface="Arial"/>
                <a:ea typeface="Times New Roman"/>
              </a:rPr>
              <a:t>нормальное</a:t>
            </a:r>
            <a:r>
              <a:rPr b="1" lang="ru-RU" sz="1600" spc="-1" strike="noStrike">
                <a:solidFill>
                  <a:srgbClr val="ff0066"/>
                </a:solidFill>
                <a:latin typeface="Arial"/>
                <a:ea typeface="Times New Roman"/>
              </a:rPr>
              <a:t> или </a:t>
            </a:r>
            <a:r>
              <a:rPr b="1" i="1" lang="ru-RU" sz="1600" spc="-1" strike="noStrike">
                <a:solidFill>
                  <a:srgbClr val="ff0066"/>
                </a:solidFill>
                <a:latin typeface="Arial"/>
                <a:ea typeface="Times New Roman"/>
              </a:rPr>
              <a:t>гауссово</a:t>
            </a:r>
            <a:r>
              <a:rPr b="1" lang="ru-RU" sz="1600" spc="-1" strike="noStrike">
                <a:solidFill>
                  <a:srgbClr val="ff0066"/>
                </a:solidFill>
                <a:latin typeface="Arial"/>
                <a:ea typeface="Times New Roman"/>
              </a:rPr>
              <a:t> распределени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Объект 9"/>
              <p:cNvSpPr txBox="1"/>
              <p:nvPr/>
            </p:nvSpPr>
            <p:spPr>
              <a:xfrm>
                <a:off x="2473200" y="4394160"/>
                <a:ext cx="334980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Ф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σ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π</m:t>
                                  </m:r>
                                </m:e>
                              </m:rad>
                            </m:den>
                          </m:f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(</m:t>
                                  </m:r>
                                  <m:r>
                                    <m:t xml:space="preserve">x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m</m:t>
                                  </m: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2</m:t>
                                  </m:r>
                                  <m:s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den>
                              </m:f>
                            </m:sup>
                          </m:sSup>
                          <m:r>
                            <m:t xml:space="preserve">,</m:t>
                          </m:r>
                        </m:e>
                      </m:mr>
                    </m:m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TextBox 13"/>
          <p:cNvSpPr/>
          <p:nvPr/>
        </p:nvSpPr>
        <p:spPr>
          <a:xfrm>
            <a:off x="179280" y="538812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σ и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ть параметры данного распределения (среднее квадратичное отклонение и мода соответственн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9"/>
          <p:cNvSpPr/>
          <p:nvPr/>
        </p:nvSpPr>
        <p:spPr>
          <a:xfrm>
            <a:off x="179280" y="189000"/>
            <a:ext cx="885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 часто встречающимся в практических задачах абсолютно непрерывным видом распределения является </a:t>
            </a:r>
            <a:r>
              <a:rPr b="1" i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экспоненциально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или </a:t>
            </a:r>
            <a:r>
              <a:rPr b="1" i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показательно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i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распределени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2556000" y="134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Объект 10"/>
              <p:cNvSpPr txBox="1"/>
              <p:nvPr/>
            </p:nvSpPr>
            <p:spPr>
              <a:xfrm>
                <a:off x="2987640" y="985680"/>
                <a:ext cx="26989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Ф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  <m:e>
                          <m:sSup>
                            <m:e>
                              <m:r>
                                <m:t xml:space="preserve">λ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λx</m:t>
                              </m:r>
                            </m:sup>
                          </m:sSup>
                          <m:r>
                            <m:t xml:space="preserve">,</m:t>
                          </m:r>
                        </m:e>
                      </m:mr>
                    </m:m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TextBox 13"/>
          <p:cNvSpPr/>
          <p:nvPr/>
        </p:nvSpPr>
        <p:spPr>
          <a:xfrm>
            <a:off x="395280" y="146844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λ – некоторый параметр данного распред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5"/>
          <p:cNvSpPr/>
          <p:nvPr/>
        </p:nvSpPr>
        <p:spPr>
          <a:xfrm>
            <a:off x="250920" y="21924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дискретных случайных величин важнейшее значение имеет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кон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распределения Пуассон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1851120" y="2838600"/>
            <a:ext cx="11337840" cy="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Объект 16"/>
              <p:cNvSpPr txBox="1"/>
              <p:nvPr/>
            </p:nvSpPr>
            <p:spPr>
              <a:xfrm>
                <a:off x="2627280" y="2838600"/>
                <a:ext cx="29034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Ф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  <m:e>
                          <m:f>
                            <m:num>
                              <m:sSup>
                                <m:e>
                                  <m:r>
                                    <m:t xml:space="preserve">λ</m:t>
                                  </m:r>
                                </m:e>
                                <m:sup>
                                  <m:r>
                                    <m:t xml:space="preserve">k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k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λ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mr>
                    </m:m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TextBox 19"/>
          <p:cNvSpPr/>
          <p:nvPr/>
        </p:nvSpPr>
        <p:spPr>
          <a:xfrm>
            <a:off x="250920" y="401940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спределение Пуассон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жает закон распределения дискретной случайной величины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ая представляет собой число событий, произошедших за фиксированный период времени, при условии, что данные события происходят с некоторой фиксированной средней интенсивностью λ и независимо друг от дру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ение Пуассона играет исключительно важную роль в задачах анализа ССТК, поскольку позволяет моделировать с необходимой степенью адекватности потоки происходящих в них событ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3360" y="2620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токи случайных собы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55440" y="981000"/>
            <a:ext cx="90331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</a:t>
            </a:r>
            <a:r>
              <a:rPr b="1" i="1" lang="ru-RU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потоком событи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нимается 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следовательность однородных событий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ссматриваемой системе,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ледующих одно за другим в случайные моменты времен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ероятностная природа потока событий обусловлена тем, что эти события происходят независимо друг от друга и порождаются стохастическими (случайными) процессами, происходящими в систе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ческим примером 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тока случайных событи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вляется поток заявок (запросов) на обработку информации, поступающих на сетевые серверы в локальных или корпоративных сетях с клиентских рабочих мест пользователей этих сетей. Другой, гораздо более «древний», но при этом не менее известный классический случай, – 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случайны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ток звонков пользователей, поступающих на обслуживание операторами сетей связ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 характеристикой потока 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днородных случайных событий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его </a:t>
            </a:r>
            <a:r>
              <a:rPr b="1" i="1" lang="ru-RU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интенсивность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характеризующая среднее число происходящих в системе событий в единицу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4"/>
          <p:cNvSpPr/>
          <p:nvPr/>
        </p:nvSpPr>
        <p:spPr>
          <a:xfrm>
            <a:off x="108000" y="260280"/>
            <a:ext cx="8928000" cy="62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к событий называется </a:t>
            </a:r>
            <a:r>
              <a:rPr b="1" i="1" lang="ru-RU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простейши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сли он обладает тремя основными свойствами: 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ационарности, ординарности и отсутствия последейств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остейший поток иногда также называют </a:t>
            </a:r>
            <a:r>
              <a:rPr b="1" i="1" lang="ru-RU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стационарным пуассоновским потоко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йство </a:t>
            </a:r>
            <a:r>
              <a:rPr b="1" i="1" lang="ru-RU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стационарност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тока означает, что 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реднее количество событий, происходящих в системе за фиксированный отрезок времени зависит только от длительности этого отрезка и не зависит от его положения на временной ос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наче говоря, для стационарного потока его интенсивность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читается постоянной в течение всего рассматриваемого периода времени.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йство </a:t>
            </a:r>
            <a:r>
              <a:rPr b="1" i="1" lang="ru-RU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ординарност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тока означает, что никакие два события в системе 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е могут происходить одновременн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.е. в каждый момент времени в системе может наблюдаться только одно событие. Таким образом, вероятностью попадания на достаточно малый участок времени Δ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ух или более событий можно пренебреч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йством </a:t>
            </a:r>
            <a:r>
              <a:rPr b="1" i="1" lang="ru-RU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отсутствия последействия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к событий обладает в том случае, если 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ля любых двух непересекающихся интервалов времени τ</a:t>
            </a:r>
            <a:r>
              <a:rPr b="1" i="1" lang="ru-RU" sz="20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и τ</a:t>
            </a:r>
            <a:r>
              <a:rPr b="1" i="1" lang="ru-RU" sz="20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число событий, попадающих на один из них, не зависит от того, сколько событий произошло на друго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4"/>
          <p:cNvSpPr/>
          <p:nvPr/>
        </p:nvSpPr>
        <p:spPr>
          <a:xfrm>
            <a:off x="108000" y="189000"/>
            <a:ext cx="9036000" cy="24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к событий называют </a:t>
            </a:r>
            <a:r>
              <a:rPr b="1" i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рекуррентны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сли он обладает свойствами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ационарности и ординарност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интервалы времени между событиями Δ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ставляют собой независимые случайные величины с одинаковым 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произвольным законом распределен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тсюда следует, что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остейший поток есть частный случай рекуррентного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ейший поток с интенсивностью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изуется </a:t>
            </a:r>
            <a:r>
              <a:rPr b="1" i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показательны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уассоновским)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коном распределения длительности интервалов времени 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соседними события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1076400" y="2496960"/>
            <a:ext cx="1148724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Объект 5"/>
              <p:cNvSpPr txBox="1"/>
              <p:nvPr/>
            </p:nvSpPr>
            <p:spPr>
              <a:xfrm>
                <a:off x="3059280" y="2421000"/>
                <a:ext cx="23288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Ф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  <m:e>
                          <m:sSup>
                            <m:e>
                              <m:r>
                                <m:t xml:space="preserve">λ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λ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mr>
                    </m:m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TextBox 8"/>
          <p:cNvSpPr/>
          <p:nvPr/>
        </p:nvSpPr>
        <p:spPr>
          <a:xfrm>
            <a:off x="108000" y="310500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данного закона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реднее число событий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оисходящих за интервал времени длительностью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пределяется следующим выражени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3348000" y="391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Объект 9"/>
              <p:cNvSpPr txBox="1"/>
              <p:nvPr/>
            </p:nvSpPr>
            <p:spPr>
              <a:xfrm>
                <a:off x="3059280" y="3835440"/>
                <a:ext cx="216036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N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λt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mr>
                    </m:m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TextBox 12"/>
          <p:cNvSpPr/>
          <p:nvPr/>
        </p:nvSpPr>
        <p:spPr>
          <a:xfrm>
            <a:off x="108000" y="4419720"/>
            <a:ext cx="892800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остейшего поток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интенсивностью </a:t>
            </a:r>
            <a:r>
              <a:rPr b="1" i="1" lang="ru-RU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роятность </a:t>
            </a:r>
            <a:r>
              <a:rPr b="1" i="1" lang="en-US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</a:t>
            </a:r>
            <a:r>
              <a:rPr b="1" i="1" lang="en-US" sz="1800" spc="-1" strike="noStrike" baseline="-25000">
                <a:solidFill>
                  <a:srgbClr val="ff0066"/>
                </a:solidFill>
                <a:latin typeface="Times New Roman"/>
                <a:ea typeface="Times New Roman"/>
              </a:rPr>
              <a:t>k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</a:t>
            </a:r>
            <a:r>
              <a:rPr b="1" i="1" lang="en-US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t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го, что за временной интервал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ойдет ровно </a:t>
            </a:r>
            <a:r>
              <a:rPr b="1" i="1" lang="en-US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ытий, определяется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3564000" y="543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Объект 13"/>
              <p:cNvSpPr txBox="1"/>
              <p:nvPr/>
            </p:nvSpPr>
            <p:spPr>
              <a:xfrm>
                <a:off x="2843280" y="5240160"/>
                <a:ext cx="3024000" cy="7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  <m:e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λt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k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k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λt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mr>
                    </m:m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09:54:16Z</dcterms:created>
  <dc:creator>User</dc:creator>
  <dc:description/>
  <dc:language>en-US</dc:language>
  <cp:lastModifiedBy>Igor Зиновьев</cp:lastModifiedBy>
  <dcterms:modified xsi:type="dcterms:W3CDTF">2021-04-11T09:53:58Z</dcterms:modified>
  <cp:revision>92</cp:revision>
  <dc:subject/>
  <dc:title>Слайд 1</dc:title>
</cp:coreProperties>
</file>