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8000" y="198000"/>
            <a:ext cx="892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9280" y="1557360"/>
            <a:ext cx="8785440" cy="252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9280" y="4326120"/>
            <a:ext cx="8785440" cy="252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8000" y="198000"/>
            <a:ext cx="892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9280" y="1557360"/>
            <a:ext cx="4287240" cy="252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1557360"/>
            <a:ext cx="4287240" cy="252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9280" y="4326120"/>
            <a:ext cx="4287240" cy="252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4326120"/>
            <a:ext cx="4287240" cy="252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8000" y="198000"/>
            <a:ext cx="892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9280" y="1557360"/>
            <a:ext cx="2828520" cy="252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49640" y="1557360"/>
            <a:ext cx="2828520" cy="252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0000" y="1557360"/>
            <a:ext cx="2828520" cy="252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9280" y="4326120"/>
            <a:ext cx="2828520" cy="252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49640" y="4326120"/>
            <a:ext cx="2828520" cy="252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0000" y="4326120"/>
            <a:ext cx="2828520" cy="252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8000" y="198000"/>
            <a:ext cx="892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9280" y="1557360"/>
            <a:ext cx="8785440" cy="530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8000" y="198000"/>
            <a:ext cx="892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9280" y="1557360"/>
            <a:ext cx="878544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8000" y="198000"/>
            <a:ext cx="892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9280" y="1557360"/>
            <a:ext cx="428724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1557360"/>
            <a:ext cx="428724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8000" y="198000"/>
            <a:ext cx="892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8000" y="198000"/>
            <a:ext cx="8928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8000" y="198000"/>
            <a:ext cx="892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9280" y="1557360"/>
            <a:ext cx="4287240" cy="252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1557360"/>
            <a:ext cx="428724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9280" y="4326120"/>
            <a:ext cx="4287240" cy="252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8000" y="198000"/>
            <a:ext cx="892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1557360"/>
            <a:ext cx="428724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557360"/>
            <a:ext cx="4287240" cy="252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4326120"/>
            <a:ext cx="4287240" cy="252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8000" y="198000"/>
            <a:ext cx="892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9280" y="1557360"/>
            <a:ext cx="4287240" cy="252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1557360"/>
            <a:ext cx="4287240" cy="252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9280" y="4326120"/>
            <a:ext cx="8785440" cy="252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442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Rectangle 4"/>
          <p:cNvSpPr/>
          <p:nvPr/>
        </p:nvSpPr>
        <p:spPr>
          <a:xfrm>
            <a:off x="82440" y="90360"/>
            <a:ext cx="8977320" cy="66582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Line 5"/>
          <p:cNvSpPr/>
          <p:nvPr/>
        </p:nvSpPr>
        <p:spPr>
          <a:xfrm>
            <a:off x="320760" y="1484280"/>
            <a:ext cx="8582040" cy="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08000" y="198000"/>
            <a:ext cx="892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79280" y="1557360"/>
            <a:ext cx="878544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8000" y="198000"/>
            <a:ext cx="892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79280" y="1484280"/>
            <a:ext cx="878544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imes New Roman"/>
              </a:rPr>
              <a:t>Стандарты на отдельные процессы управления ИБ и оценку безопасности И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8000" y="198000"/>
            <a:ext cx="89280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imes New Roman"/>
              </a:rPr>
              <a:t>ISO/IEC 13335 – МЕТОДЫ И СРЕДСТВА ОБЕСПЕЧЕНИЯ БЕЗОПАСНОСТИ ИНФОРМАЦИОННЫХ ТЕХНОЛОГИЙ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79280" y="1484280"/>
            <a:ext cx="878544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5680" indent="0" algn="just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ffff"/>
                </a:solidFill>
                <a:latin typeface="Times New Roman"/>
              </a:rPr>
              <a:t>предполагается передавать через соединения, и любую другую информацию, потенциально доступную для несанкционированного получения через эти соединения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55680" algn="just">
              <a:lnSpc>
                <a:spcPct val="100000"/>
              </a:lnSpc>
              <a:spcBef>
                <a:spcPts val="18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ffff"/>
                </a:solidFill>
                <a:latin typeface="Times New Roman"/>
              </a:rPr>
              <a:t>идентификация возможных средств управления, которые могут быть использованы, на основе анализа типа (ов) соединения и характеристик организации сети и связанных с этим доверительных отношений, а также видов установленных рисков ИБ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55680" algn="just">
              <a:lnSpc>
                <a:spcPct val="100000"/>
              </a:lnSpc>
              <a:spcBef>
                <a:spcPts val="18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ffff"/>
                </a:solidFill>
                <a:latin typeface="Times New Roman"/>
              </a:rPr>
              <a:t>разработка документации и анализ вариантов структуры ОИБ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55680" algn="just">
              <a:lnSpc>
                <a:spcPct val="100000"/>
              </a:lnSpc>
              <a:spcBef>
                <a:spcPts val="18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ffff"/>
                </a:solidFill>
                <a:latin typeface="Times New Roman"/>
              </a:rPr>
              <a:t>распределение задач по детальному выбору защитных мер, проектированию, реализации и их обслуживанию, используя идентифицированные возможные средства управления и согласованную структуру ОИБ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55680" indent="0" algn="just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8000" y="198000"/>
            <a:ext cx="89280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imes New Roman"/>
              </a:rPr>
              <a:t>ISO/IEC 15408 И ISO/IEC 18045:2008-ОБЩИЕ КРИТЕРИИ И МЕТОДОЛОГИЯ ОЦЕНКИ БЕЗОПАСНОСТИ ИНФОРМА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ru-RU" sz="2200" spc="-1" strike="noStrike">
                <a:solidFill>
                  <a:srgbClr val="ffffff"/>
                </a:solidFill>
                <a:latin typeface="Times New Roman"/>
              </a:rPr>
              <a:t>ЦИОННЫХ ТЕХНОЛОГИЙ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79280" y="1459080"/>
            <a:ext cx="878544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 algn="just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Состоящий из трех частей стандарт </a:t>
            </a:r>
            <a:r>
              <a:rPr b="0" i="1" lang="ru-RU" sz="2200" spc="-1" strike="noStrike">
                <a:solidFill>
                  <a:srgbClr val="ffffff"/>
                </a:solidFill>
                <a:latin typeface="Times New Roman"/>
              </a:rPr>
              <a:t>ISO/IEС 15408 «The Common Criteria for Information Technology Security Evaluation» 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(Общие критерии оценки безопасности ИТ), в создании которого участвовали США, Канада, Великобритания, Франция, Германия, Нидерланды, - один из наиболее распространенных международных стандартов в области ИБ, в котором подробно рассмотрены общие подходы, методы и функции обеспечения защиты информации программно-технического уровня в организациях. Его первая версия вышла в 1999 г.» действующая в настоящее время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Стандарт был создан для взаимного признания результатов оценки безопасности ИТ в мировом масштабе. Он позволяет сравнить результаты независимых оценок ИБ и допустимых рисков на основе множества общих требований к функциям безопасности средств и систем ИТ, а также гарантий, применяемых к ним в процессе тестирования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8000" y="198000"/>
            <a:ext cx="89280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imes New Roman"/>
              </a:rPr>
              <a:t>ISO/IEC 15408 И ISO/IEC 18045:2008-ОБЩИЕ КРИТЕРИИ И МЕТОДОЛОГИЯ ОЦЕНКИ БЕЗОПАСНОСТИ ИНФОРМА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ru-RU" sz="2200" spc="-1" strike="noStrike">
                <a:solidFill>
                  <a:srgbClr val="ffffff"/>
                </a:solidFill>
                <a:latin typeface="Times New Roman"/>
              </a:rPr>
              <a:t>ЦИОННЫХ ТЕХНОЛОГИЙ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79280" y="1484280"/>
            <a:ext cx="878544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Функции обеспечения безопасности ИТ, которых выделено в стандарте 11 классов (аудит, идентификация и аутентификация, криптографическая защита, конфиденциальность, передача данных, защита пользовательских данных, управление безопасностью, защита функций безопасности системы, использование ресурсов, доступ к системе, надежность средств), представлены в виде четырехуровневой иерархической структуры: класс - семейство - компонент - элемент. Опенка безопасности ИТ базируется на моделях системы безопасности, состоящих из перечисленных функций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В стандарте содержится ряд предопре-деленных моделей (профилей защиты), описывающих стандартные модули системы безопасности, например системы управления базами данных (СУБД) или межсетевого экрана (МЭ). Для профиля защиты определяются следующие характеристики: область применения; уровень надежности; статус сертификации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8000" y="198000"/>
            <a:ext cx="89280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imes New Roman"/>
              </a:rPr>
              <a:t>ISO/IEC 15408 И ISO/IEC 18045:2008-ОБЩИЕ КРИТЕРИИ И МЕТОДОЛОГИЯ ОЦЕНКИ БЕЗОПАСНОСТИ ИНФОРМА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ru-RU" sz="2200" spc="-1" strike="noStrike">
                <a:solidFill>
                  <a:srgbClr val="ffffff"/>
                </a:solidFill>
                <a:latin typeface="Times New Roman"/>
              </a:rPr>
              <a:t>ЦИОННЫХ ТЕХНОЛОГИЙ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79280" y="1484280"/>
            <a:ext cx="878544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Сертифицированный профиль представляет собой полное описание определенной части (или функции) системы безопасности. В нем содержится анализ внутренней и внешней среды объекта, требования к его функциональности и надежности, логическое обоснование его использования, возможности и ограничения развития объекта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Также вводятся два основных вида требований безопасности: функциональные, предъявляемые к функциям безопасности и реализующим их механизмам, и требования доверия, предъявляемые к технологии и процессу разработки и эксплуатации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Требования безопасности объекта оценки определяются исходя из целей безопасности, которые, в свою очередь, основываются на анализе назначения объекта оценки и условий среды его использования (угроз, предположений, политики безопасности)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8000" y="198000"/>
            <a:ext cx="89280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imes New Roman"/>
              </a:rPr>
              <a:t>ISO/IEC 15408 И ISO/IEC 18045:2008-ОБЩИЕ КРИТЕРИИ И МЕТОДОЛОГИЯ ОЦЕНКИ БЕЗОПАСНОСТИ ИНФОРМА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ru-RU" sz="2200" spc="-1" strike="noStrike">
                <a:solidFill>
                  <a:srgbClr val="ffffff"/>
                </a:solidFill>
                <a:latin typeface="Times New Roman"/>
              </a:rPr>
              <a:t>ЦИОННЫХ ТЕХНОЛОГИЙ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79280" y="1484280"/>
            <a:ext cx="878544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Отличаясь значительной полнотой, универсализмом и большим потенциалом развития, стандарт ISO/IEC 15408 получил признание во многих странах мира, в том числе и в России. Стандарт ГОСТ Р ИСО/МЭК 15408 «Информационная технология. Методы и средства обеспечения безопасности. Критерии оценки безопасности информационных технологий» также состоит из трех частей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8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ffff"/>
                </a:solidFill>
                <a:latin typeface="Times New Roman"/>
              </a:rPr>
              <a:t>ГОСТ Р ИСО/МЭК 15408-1-2008 «Информационная технология. Методы и средства обеспечения безопасности. Введение и общая модель» (идентичный ISO/IEC 15408-1:2005) устанавливает общий подход к формированию требований к оценке безопасности, основные конструкции (профиль защиты, задание по безопасности) представления требований безопасности в интересах потребителей, разработчиков и оценщиков продуктов и систем ИТ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8000" y="198000"/>
            <a:ext cx="89280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imes New Roman"/>
              </a:rPr>
              <a:t>ISO/IEC 15408 И ISO/IEC 18045:2008-ОБЩИЕ КРИТЕРИИ И МЕТОДОЛОГИЯ ОЦЕНКИ БЕЗОПАСНОСТИ ИНФОРМА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ru-RU" sz="2200" spc="-1" strike="noStrike">
                <a:solidFill>
                  <a:srgbClr val="ffffff"/>
                </a:solidFill>
                <a:latin typeface="Times New Roman"/>
              </a:rPr>
              <a:t>ЦИОННЫХ ТЕХНОЛОГИЙ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79280" y="1459080"/>
            <a:ext cx="878544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-452520" algn="just">
              <a:lnSpc>
                <a:spcPct val="100000"/>
              </a:lnSpc>
              <a:spcBef>
                <a:spcPts val="1800"/>
              </a:spcBef>
              <a:buClr>
                <a:srgbClr val="ffffff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ffff"/>
                </a:solidFill>
                <a:latin typeface="Times New Roman"/>
              </a:rPr>
              <a:t>ГОСТ Р ИСО/МЭК 15408-2-2008 «Информационная технология. Методы и средства обеспечения безопасности. Функциональные требования безопасности» (идентичный ISO/IEC 15408-2:2005) содержит универсальный систематизированный каталог функциональных требований безопасности и предусматривает возможность их детализации и расширения по определенным правилам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52520" indent="-452520" algn="just">
              <a:lnSpc>
                <a:spcPct val="100000"/>
              </a:lnSpc>
              <a:spcBef>
                <a:spcPts val="1800"/>
              </a:spcBef>
              <a:buClr>
                <a:srgbClr val="ffffff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ffff"/>
                </a:solidFill>
                <a:latin typeface="Times New Roman"/>
              </a:rPr>
              <a:t>ГОСТ Р ИСО/МЭК 15408-3-2008 «Информационная технология. Методы и средства обеспечения безопасности. Требования доверия к безопасности» (идентичный ISO/IEC 15408-3:2005) включает в себя систематизированный каталог требований доверия, определяющих меры, которые должны быть приняты на всех этапах жизненного цикла продукта или системы ИТ для обеспечения уверенности в том, что они удовлетворяют предъявленным к ним функциональным требованиям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8000" y="198000"/>
            <a:ext cx="89280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imes New Roman"/>
              </a:rPr>
              <a:t>ISO/IEC 15408 И ISO/IEC 18045:2008-ОБЩИЕ КРИТЕРИИ И МЕТОДОЛОГИЯ ОЦЕНКИ БЕЗОПАСНОСТИ ИНФОРМА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ru-RU" sz="2200" spc="-1" strike="noStrike">
                <a:solidFill>
                  <a:srgbClr val="ffffff"/>
                </a:solidFill>
                <a:latin typeface="Times New Roman"/>
              </a:rPr>
              <a:t>ЦИОННЫХ ТЕХНОЛОГИЙ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79280" y="1484280"/>
            <a:ext cx="878544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ffff"/>
                </a:solidFill>
                <a:latin typeface="Times New Roman"/>
              </a:rPr>
              <a:t>Здесь же содержатся оценочные уровни доверия, определяющие шкалу требований, которые позволяют с возрастающей степенью полноты и строгости оценить проектную, тестовую и эксплуатационную документацию, правильность реализации функций безопасности объекта оценки, уязвимости продукта или системы ИТ, стойкость механизмов зашиты и сделать заключение об уровне доверия к безопасности объекта оценки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Второй стандарт по данной тематике – это международный стандарт </a:t>
            </a:r>
            <a:r>
              <a:rPr b="0" i="1" lang="ru-RU" sz="2200" spc="-1" strike="noStrike">
                <a:solidFill>
                  <a:srgbClr val="ffffff"/>
                </a:solidFill>
                <a:latin typeface="Times New Roman"/>
              </a:rPr>
              <a:t>ISO/IEC 18045:2008 «Information technology. Security techniques. Methodology fог IT security evaluation» 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и идентичный ему </a:t>
            </a:r>
            <a:r>
              <a:rPr b="0" i="1" lang="ru-RU" sz="2200" spc="-1" strike="noStrike">
                <a:solidFill>
                  <a:srgbClr val="ffffff"/>
                </a:solidFill>
                <a:latin typeface="Times New Roman"/>
              </a:rPr>
              <a:t>ГОСТ Р ИСО/МЭК 18045-2008 «Информационная технология. Методы и средства обеспечения безопасности. Методология оценки безопасности информационных технологий»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8000" y="198000"/>
            <a:ext cx="89280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imes New Roman"/>
              </a:rPr>
              <a:t>ISO/IEC 15408 И ISO/IEC 18045:2008-ОБЩИЕ КРИТЕРИИ И МЕТОДОЛОГИЯ ОЦЕНКИ БЕЗОПАСНОСТИ ИНФОРМА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ru-RU" sz="2200" spc="-1" strike="noStrike">
                <a:solidFill>
                  <a:srgbClr val="ffffff"/>
                </a:solidFill>
                <a:latin typeface="Times New Roman"/>
              </a:rPr>
              <a:t>ЦИОННЫХ ТЕХНОЛОГИЙ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79280" y="1484280"/>
            <a:ext cx="878544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Он представляет собой нормативный документ, применяемый совместно с ГОСТ Р ИСО/МЭК 15408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ГОСТ Р ИСО/МЭК 18045-2008 описывает минимум действий, выполняемых оценщиком и органом сертификации, подтверждающим действия оценщика, при проведении оценки безопасности ИТ по ИСО/МЭК 15408 с использованием критериев и свидетельств оценки, определенных в ИСО/МЭК 15408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Стандарт также предназначен для заявителей оценки, разработчиков, авторов профилей защиты и заданий по безопасности и другим сторонам, заинтересованным в безопасности ИТ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8000" y="198000"/>
            <a:ext cx="89280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imes New Roman"/>
              </a:rPr>
              <a:t>ISO 19011:2011 и ГОСТ Р ИСО 19011-2003 – РЕКОМЕН-</a:t>
            </a:r>
            <a:br>
              <a:rPr sz="2200"/>
            </a:br>
            <a:r>
              <a:rPr b="1" lang="ru-RU" sz="2200" spc="-1" strike="noStrike">
                <a:solidFill>
                  <a:srgbClr val="ffffff"/>
                </a:solidFill>
                <a:latin typeface="Times New Roman"/>
              </a:rPr>
              <a:t>ДАЦИИ ПО АУДИТУ СИСТЕМ МЕНЕДЖМЕНТА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79280" y="1433520"/>
            <a:ext cx="878544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 algn="just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Международные стандарты ISO серий 9000 (качество) и 14000 (экология, окружающая среда) придают особое значение аудитам в составе деятельности, относящейся к менеджменту, обеспечивающим проверку результативности внедрения политики организации В области менеджмента качества и/или окружающей среды (последние системы иногда называются системами экологического менеджмента). Аудиты являются важной составляющей деятельности по оценке соответствия при сертификации/регистрации, оценке провайдеров, инспекционном контроле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В конце 2011 г. вышла вторая редакция стандарта </a:t>
            </a:r>
            <a:r>
              <a:rPr b="0" i="1" lang="ru-RU" sz="2200" spc="-1" strike="noStrike">
                <a:solidFill>
                  <a:srgbClr val="ffffff"/>
                </a:solidFill>
                <a:latin typeface="Times New Roman"/>
              </a:rPr>
              <a:t>ISO 19011:2011 «Guidelines for auditing management systems» 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(Руководство по аудиту систем менеджмента). По сравнению с первой редакцией, опубликованной в 2002 г. и применявшейся только к стандартам ISO 9001 и ISO 14001, область применения ISO 19011:2011 расширилась и отразила современные точки зрения на проведение внешних и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8000" y="198000"/>
            <a:ext cx="89280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imes New Roman"/>
              </a:rPr>
              <a:t>ISO 19011:2011 и ГОСТ Р ИСО 19011-2003 – РЕКОМЕН-</a:t>
            </a:r>
            <a:br>
              <a:rPr sz="2200"/>
            </a:br>
            <a:r>
              <a:rPr b="1" lang="ru-RU" sz="2200" spc="-1" strike="noStrike">
                <a:solidFill>
                  <a:srgbClr val="ffffff"/>
                </a:solidFill>
                <a:latin typeface="Times New Roman"/>
              </a:rPr>
              <a:t>ДАЦИИ ПО АУДИТУ СИСТЕМ МЕНЕДЖМЕНТА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79280" y="1484280"/>
            <a:ext cx="878544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внутренних аудитов в соответствии с существующими многочисленными стандартами на системы менеджмента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Особое внимание уделено разработке, реализации и управлению программой аудита – при строгом соблюдении ре-комендаций будут обеспечены все необходимые предпосылки для того, чтобы сделать аудит важнейшим инструментом достижения бизнес- целей организации. В ISO 19011:2011 было добавлено понятие риска и в явной форме установлены требования к компетентности команды аудиторов и отдельных аудиторов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Также признана важность применения технологий при удаленном аудите, например, проведении удаленных интервью и просмотре документации. Другое важное улучшение - более четкое описание разницы между стандартами ISO 19011:2011 и ISO/IEC 17021:2011</a:t>
            </a:r>
            <a:r>
              <a:rPr b="0" i="1" lang="ru-RU" sz="2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8000" y="198000"/>
            <a:ext cx="89280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imes New Roman"/>
              </a:rPr>
              <a:t>ISO/IEC 13335 – МЕТОДЫ И СРЕДСТВА ОБЕСПЕЧЕНИЯ БЕЗОПАСНОСТИ ИНФОРМАЦИОННЫХ ТЕХНОЛОГИЙ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79280" y="1471680"/>
            <a:ext cx="878544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Стандарт ISO/IEC 13335 «Information technology. Security techniques. </a:t>
            </a:r>
            <a:r>
              <a:rPr b="0" lang="ru-RU" sz="2100" spc="-1" strike="noStrike">
                <a:solidFill>
                  <a:srgbClr val="ffffff"/>
                </a:solidFill>
                <a:latin typeface="Times New Roman"/>
              </a:rPr>
              <a:t>Management of information and communications technology security» (Ин-формационная технология. Методы и средства обеспечения безопасности. Менеджмент безопасности ИТТ), первоначально появившийся в статусе технического отчета, прежде чем стать полноценным стандартом ISO/IEC, объединил несколько руководящих документов по управлению безопасностью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Times New Roman"/>
              </a:rPr>
              <a:t>Он состоит из четырех частей: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100" spc="-1" strike="noStrike">
                <a:solidFill>
                  <a:srgbClr val="ffffff"/>
                </a:solidFill>
                <a:latin typeface="Times New Roman"/>
              </a:rPr>
              <a:t>ISO/IEC 13335-1:2004 «Концепции и модели менеджмента безопасности информационных и телекоммуникационных технологий» объясняет концепции и модели управления безопасностью ИТТ. Последняя переработанная версия ISO/IEC 13335-1-2004 содержит и вторую часть стандарта ISO/IEC 13335-2, которая после этого была отменена как самостоятельная часть стандарта 13335</a:t>
            </a:r>
            <a:r>
              <a:rPr b="0" i="1" lang="ru-RU" sz="2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8000" y="198000"/>
            <a:ext cx="89280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imes New Roman"/>
              </a:rPr>
              <a:t>ISO 19011:2011 и ГОСТ Р ИСО 19011-2003 – РЕКОМЕН-</a:t>
            </a:r>
            <a:br>
              <a:rPr sz="2200"/>
            </a:br>
            <a:r>
              <a:rPr b="1" lang="ru-RU" sz="2200" spc="-1" strike="noStrike">
                <a:solidFill>
                  <a:srgbClr val="ffffff"/>
                </a:solidFill>
                <a:latin typeface="Times New Roman"/>
              </a:rPr>
              <a:t>ДАЦИИ ПО АУДИТУ СИСТЕМ МЕНЕДЖМЕНТА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79280" y="1484280"/>
            <a:ext cx="878544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Times New Roman"/>
              </a:rPr>
              <a:t>Идентичный первой редакции ISO 19011:2002 российский стандарт </a:t>
            </a:r>
            <a:r>
              <a:rPr b="0" i="1" lang="ru-RU" sz="2100" spc="-1" strike="noStrike">
                <a:solidFill>
                  <a:srgbClr val="ffffff"/>
                </a:solidFill>
                <a:latin typeface="Times New Roman"/>
              </a:rPr>
              <a:t>ГОСТ Р ИСО 19011-2003 «Руководящие указания но аудиту систем менеджмент качества и/или систем экологического менеджмента» </a:t>
            </a:r>
            <a:r>
              <a:rPr b="0" lang="ru-RU" sz="2100" spc="-1" strike="noStrike">
                <a:solidFill>
                  <a:srgbClr val="ffffff"/>
                </a:solidFill>
                <a:latin typeface="Times New Roman"/>
              </a:rPr>
              <a:t>содержат руководящие указания по принципам аудита, управлению программами аудита, проведению аудитов названных систем менеджмента, по управлению программами аудита, проведению внутренних или внешних аудитов таких систем менеджмента, а также по компетентности и оценке аудиторов (экспертов).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Times New Roman"/>
              </a:rPr>
              <a:t>Он предназначен для потенциальных пользователей, включая аудиторов (экспертов); организаций, внедряющих системы менеджмента качества и/или окружающей среды; организаций, в которых необходимо провести аудиты таких систем менеджмента согласно договорам организаций, участвующих в сертификации или в обучении аудиторов (экспертов), а также для использования при сертификации/регистрации систем менеджмента; аккредитации или стандартизации в области оценки соответствия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8000" y="198000"/>
            <a:ext cx="89280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imes New Roman"/>
              </a:rPr>
              <a:t>ISO 19011:2011 и ГОСТ Р ИСО 19011-2003 – РЕКОМЕН-</a:t>
            </a:r>
            <a:br>
              <a:rPr sz="2200"/>
            </a:br>
            <a:r>
              <a:rPr b="1" lang="ru-RU" sz="2200" spc="-1" strike="noStrike">
                <a:solidFill>
                  <a:srgbClr val="ffffff"/>
                </a:solidFill>
                <a:latin typeface="Times New Roman"/>
              </a:rPr>
              <a:t>ДАЦИИ ПО АУДИТУ СИСТЕМ МЕНЕДЖМЕНТА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79280" y="1484280"/>
            <a:ext cx="878544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В разделе стандарта по управлению программой аудитов рассматриваются следующие вопросы: определение цели программы аудитов; определение объема программы аудитов; ответственность, ресурсы и процедуры программы аудитов; внедрение программы аудитов (информирование заинтересованных сторон, координация и подготовка графика аудитов, квалификация аудиторов и выбор аудиторских групп, предоставление необходимых ресурсов, поддержание протоколов (регистрационных записей); мониторинг и анализ программы аудитов. Для процесса проведении аудитов и стандарте отдельно описываются следующие подпроцессы: инициализация аудита (назначение ведущего аудитора группы, определение целей, критериев и объема аудита, оценка осуществимости аудита, выбор аудиторской группы и установление начальных контактов); подготовка к аудиту (предварительный анализ документации, подготовка плана аудита и распределение обязанностей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8000" y="198000"/>
            <a:ext cx="89280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imes New Roman"/>
              </a:rPr>
              <a:t>ISO 19011:2011 и ГОСТ Р ИСО 19011-2003 – РЕКОМЕН-</a:t>
            </a:r>
            <a:br>
              <a:rPr sz="2200"/>
            </a:br>
            <a:r>
              <a:rPr b="1" lang="ru-RU" sz="2200" spc="-1" strike="noStrike">
                <a:solidFill>
                  <a:srgbClr val="ffffff"/>
                </a:solidFill>
                <a:latin typeface="Times New Roman"/>
              </a:rPr>
              <a:t>ДАЦИИ ПО АУДИТУ СИСТЕМ МЕНЕДЖМЕНТА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9280" y="1484280"/>
            <a:ext cx="878544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в группе, подготовка рабочих документов); проведение аудита на месте (вступительное совещание, общение в ходе аудита, сопровождающие и наблюдатели, сбор и проверка информации, выработка наблюдений аудита, подготовка заключений по результатам аудита, заключительное совещание); подготовка, утверждение и распространение отчета по аудиту; завершение аудита; проведение последующих действий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При рассмотрении квалификации и оценки аудиторов выделяются следующие важные моменты: личные качества; знания и умения, включая способность применять их на практике; поддержание и повышение квалификации; оценка аудиторов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8000" y="198000"/>
            <a:ext cx="89280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imes New Roman"/>
              </a:rPr>
              <a:t>ISO 19011:2011 и ГОСТ Р ИСО 19011-2003 – РЕКОМЕН-</a:t>
            </a:r>
            <a:br>
              <a:rPr sz="2200"/>
            </a:br>
            <a:r>
              <a:rPr b="1" lang="ru-RU" sz="2200" spc="-1" strike="noStrike">
                <a:solidFill>
                  <a:srgbClr val="ffffff"/>
                </a:solidFill>
                <a:latin typeface="Times New Roman"/>
              </a:rPr>
              <a:t>ДАЦИИ ПО АУДИТУ СИСТЕМ МЕНЕДЖМЕНТА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9280" y="1484280"/>
            <a:ext cx="878544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В многочисленных приложениях к стандарту приведены следующие формы и указания по их заполнению: график проведения аудитов, отчет об анализе программы аудита, опросный лист, отчет о несоответствии, паспорт аудитора, план аудита, отчет по аудиту, журнал регистрации отчетов о несоответствии, журнал регистрации планов аудита, журнал регистрации графиков аудитов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При совместном внедрении систем менеджмента (качества и окружающей среды) пользователь стандарта сам решает вопрос о проведении раздельных аудитов или комплексного аудита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Указания стандарта являются гибкими. Их использование может быть различным в зависимости от размера, вида деятельности, сложности проверяемых организаций, а также целей и области аудита. В выделенных рамках представлены дополнительные указания или примеры по конкретным вопросам в виде практических рекомендаций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8000" y="198000"/>
            <a:ext cx="89280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imes New Roman"/>
              </a:rPr>
              <a:t>ISO 19011:2011 и ГОСТ Р ИСО 19011-2003 – РЕКОМЕН-</a:t>
            </a:r>
            <a:br>
              <a:rPr sz="2200"/>
            </a:br>
            <a:r>
              <a:rPr b="1" lang="ru-RU" sz="2200" spc="-1" strike="noStrike">
                <a:solidFill>
                  <a:srgbClr val="ffffff"/>
                </a:solidFill>
                <a:latin typeface="Times New Roman"/>
              </a:rPr>
              <a:t>ДАЦИИ ПО АУДИТУ СИСТЕМ МЕНЕДЖМЕНТА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79280" y="1484280"/>
            <a:ext cx="878544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Основным достоинством </a:t>
            </a:r>
            <a:r>
              <a:rPr b="0" i="1" lang="ru-RU" sz="2200" spc="-1" strike="noStrike">
                <a:solidFill>
                  <a:srgbClr val="ffffff"/>
                </a:solidFill>
                <a:latin typeface="Times New Roman"/>
              </a:rPr>
              <a:t>ГОСТ Р ИСО 19011-2003 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является возможность применения или распространения данных руководящих указаний на другие виды аудитов, включая аудиты других систем менеджмента (например, как внутренний, так и внешний аудит СУИБ). Стандарт содержит общие указания, которые могут быть использованы для разработки собственных для какой-либо организации требований, связанных с аудитом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УНБ в случае глобального инцидента или локального сбоя является одним из основных требований к организации в рамках эксплуатации СУИБ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Британские стандарты серии BS 25999 – первые, посвященные УНБ. Они были разработаны на основе передового опыта в данной области большой группой специалистов-практиков мирового класса, в которую вошли представители разных отраслей и государств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8000" y="198000"/>
            <a:ext cx="89280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imes New Roman"/>
              </a:rPr>
              <a:t>BS 25999 и ГОСТ Р 53647 – УПРАВЛЕНИЕ </a:t>
            </a:r>
            <a:br>
              <a:rPr sz="2200"/>
            </a:br>
            <a:r>
              <a:rPr b="1" lang="ru-RU" sz="2200" spc="-1" strike="noStrike">
                <a:solidFill>
                  <a:srgbClr val="ffffff"/>
                </a:solidFill>
                <a:latin typeface="Times New Roman"/>
              </a:rPr>
              <a:t>НЕПРЕРЫВНОСТЬЮ БИЗНЕСА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79280" y="1484280"/>
            <a:ext cx="878544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В серию BS 25999 входят два стандарта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8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ffff"/>
                </a:solidFill>
                <a:latin typeface="Times New Roman"/>
              </a:rPr>
              <a:t>BS 25999-1:2006 «Business continuity management. Code of practice» (УИБ. Практические правила) определяет процесс, принципы и терминологию в области УНБ, закладывая основы для понимания, разработки и внедрения системы УНБ в организации и поддержания уверенности в ее надежности со стороны клиентов и партнеров. Этот стандарт в десяти разделах описывает всеобъемлющий набор средств управления и охватывает весь жизненный цикл процесса УНБ, начиная со стратегии ОНБ и заканчивая учетом данных вопросов в культуре организации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8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Times New Roman"/>
              </a:rPr>
              <a:t>BS 25999-2:2007 «Business continuity management. Specification» (УНБ. Спецификация).</a:t>
            </a:r>
            <a:r>
              <a:rPr b="0" i="1" lang="ru-RU" sz="2200" spc="-1" strike="noStrike">
                <a:solidFill>
                  <a:srgbClr val="ffffff"/>
                </a:solidFill>
                <a:latin typeface="Times New Roman"/>
              </a:rPr>
              <a:t> В то время как BS 25999-1:2006 содержит общие рекомендации по УНБ, вторая часть устанавливает и детализирует конкретные требования к СУНБ, причем только те,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8000" y="198000"/>
            <a:ext cx="89280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imes New Roman"/>
              </a:rPr>
              <a:t>BS 25999 и ГОСТ Р 53647 – УПРАВЛЕНИЕ </a:t>
            </a:r>
            <a:br>
              <a:rPr sz="2200"/>
            </a:br>
            <a:r>
              <a:rPr b="1" lang="ru-RU" sz="2200" spc="-1" strike="noStrike">
                <a:solidFill>
                  <a:srgbClr val="ffffff"/>
                </a:solidFill>
                <a:latin typeface="Times New Roman"/>
              </a:rPr>
              <a:t>НЕПРЕРЫВНОСТЬЮ БИЗНЕСА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79280" y="1484280"/>
            <a:ext cx="878544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ffff"/>
                </a:solidFill>
                <a:latin typeface="Times New Roman"/>
              </a:rPr>
              <a:t>соблюдение которых может быть объективно проверено. Используя эти требования, организации могут проводить оценку существующей СУНБ как самостоятельно, так и привлекая внешних консультантов. Па основании именно второй части стандарта сертификационные органы выдают заключение о соответствии СУНБ требованиям стандарта BS 25999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Среди национальных стандартов Великобритании также есть еще два, посвященных вопросам ОНБ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8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Times New Roman"/>
              </a:rPr>
              <a:t>BIP 2142:2007 «The Route Map to Business Continuity Management: Meeting the requirements of BS 25999» (</a:t>
            </a:r>
            <a:r>
              <a:rPr b="0" i="1" lang="ru-RU" sz="2200" spc="-1" strike="noStrike">
                <a:solidFill>
                  <a:srgbClr val="ffffff"/>
                </a:solidFill>
                <a:latin typeface="Times New Roman"/>
              </a:rPr>
              <a:t>Маршрутная карта менеджмента непрерывности бизнеса. Внедрение требований </a:t>
            </a:r>
            <a:r>
              <a:rPr b="0" i="1" lang="en-US" sz="2200" spc="-1" strike="noStrike">
                <a:solidFill>
                  <a:srgbClr val="ffffff"/>
                </a:solidFill>
                <a:latin typeface="Times New Roman"/>
              </a:rPr>
              <a:t>BS 25999)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8000" y="198000"/>
            <a:ext cx="89280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imes New Roman"/>
              </a:rPr>
              <a:t>BS 25999 и ГОСТ Р 53647 – УПРАВЛЕНИЕ </a:t>
            </a:r>
            <a:br>
              <a:rPr sz="2200"/>
            </a:br>
            <a:r>
              <a:rPr b="1" lang="ru-RU" sz="2200" spc="-1" strike="noStrike">
                <a:solidFill>
                  <a:srgbClr val="ffffff"/>
                </a:solidFill>
                <a:latin typeface="Times New Roman"/>
              </a:rPr>
              <a:t>НЕПРЕРЫВНОСТЬЮ БИЗНЕСА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79280" y="1484280"/>
            <a:ext cx="878544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just">
              <a:lnSpc>
                <a:spcPct val="100000"/>
              </a:lnSpc>
              <a:spcBef>
                <a:spcPts val="1800"/>
              </a:spcBef>
              <a:buClr>
                <a:srgbClr val="ffffff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ffff"/>
                </a:solidFill>
                <a:latin typeface="Times New Roman"/>
              </a:rPr>
              <a:t>BIP 2151:2008 «Auditing Business Continuity Management Plans» (Аудит планов в области непрерывности бизнеса)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57200" indent="0" algn="just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В 2009 г. в России на основе британских стандартов вышли три документа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8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ffff"/>
                </a:solidFill>
                <a:latin typeface="Times New Roman"/>
              </a:rPr>
              <a:t>ГОСТ Р 53647.1-2009 «Менеджмент непрерывности бизнеса. Часть 1. Практическое руководство» (идентичный BS 25999-1:2006)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8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ffff"/>
                </a:solidFill>
                <a:latin typeface="Times New Roman"/>
              </a:rPr>
              <a:t>ГОСТ Р 53647.2-2009 «Менеджмент непрерывности бизнеса. Часть 2. Требования» (идентичный BS 25999-2:2007)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8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ffff"/>
                </a:solidFill>
                <a:latin typeface="Times New Roman"/>
              </a:rPr>
              <a:t>ГОСТ Р 53647.3-2010 «Менеджмент непрерывности бизнеса. Часть 3. Руководство по внедрению» (разработан с учетом основных требований BIP 2142:2007)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57200" indent="0" algn="just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8000" y="198000"/>
            <a:ext cx="89280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imes New Roman"/>
              </a:rPr>
              <a:t>BS 25999 и ГОСТ Р 53647 – УПРАВЛЕНИЕ </a:t>
            </a:r>
            <a:br>
              <a:rPr sz="2200"/>
            </a:br>
            <a:r>
              <a:rPr b="1" lang="ru-RU" sz="2200" spc="-1" strike="noStrike">
                <a:solidFill>
                  <a:srgbClr val="ffffff"/>
                </a:solidFill>
                <a:latin typeface="Times New Roman"/>
              </a:rPr>
              <a:t>НЕПРЕРЫВНОСТЬЮ БИЗНЕСА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79280" y="1484280"/>
            <a:ext cx="878544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В названных стандартах под УНБ принято понимать целостный процесс управления, в ходе которого выявляются потенциальные угрозы и определяются возможные последствия в случае их осуществления для организации, а также создается основа обеспечения способности организации восстанавливаться и эффективно реагировать на инциденты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Такой подход гарантирует соблюдение интересов основных причастных сторон, сохранение репутации и дальнейшего функционирования организации в целом. УНБ включает управление восстановлением и продолжением деятельности в случае нарушения нормального хода бизнеса, а также управление общей программой УИБ посредством проведения обучения и повышения осведомленности персонала, а также анализа с целью поддержания плана (ов) ОНБ в актуальном состоянии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8000" y="198000"/>
            <a:ext cx="89280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imes New Roman"/>
              </a:rPr>
              <a:t>BS 25999 и ГОСТ Р 53647 – УПРАВЛЕНИЕ </a:t>
            </a:r>
            <a:br>
              <a:rPr sz="2200"/>
            </a:br>
            <a:r>
              <a:rPr b="1" lang="ru-RU" sz="2200" spc="-1" strike="noStrike">
                <a:solidFill>
                  <a:srgbClr val="ffffff"/>
                </a:solidFill>
                <a:latin typeface="Times New Roman"/>
              </a:rPr>
              <a:t>НЕПРЕРЫВНОСТЬЮ БИЗНЕСА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79280" y="1484280"/>
            <a:ext cx="878544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Стандарты </a:t>
            </a:r>
            <a:r>
              <a:rPr b="0" i="1" lang="ru-RU" sz="2200" spc="-1" strike="noStrike">
                <a:solidFill>
                  <a:srgbClr val="ffffff"/>
                </a:solidFill>
                <a:latin typeface="Times New Roman"/>
              </a:rPr>
              <a:t>ГОСТ Р 53647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, направленные на минимизацию рисков возникновения инцидентов и снижение потерь от сбоев в работе, дают четкие критерии и рекомендации по построению СУНБ и направлены на поддержание бесперебойной деятельности организации в самых сложных и неожиданных обстоятельствах. На базе изложенных требований можно построить процесс УНБ для целей обеспечения непрерывности ключевых бизнес-процессов в рамках области действия СУИБ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Стандарты </a:t>
            </a:r>
            <a:r>
              <a:rPr b="0" i="1" lang="ru-RU" sz="2200" spc="-1" strike="noStrike">
                <a:solidFill>
                  <a:srgbClr val="ffffff"/>
                </a:solidFill>
                <a:latin typeface="Times New Roman"/>
              </a:rPr>
              <a:t>ГОСТ Р 53647 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подходят для любой организации, независимо от размера и области деятельности. Они имеют особое значение для организаций, работающих в среде с высокой степенью риска, например в области финансов, телекоммуникаций, транспорта и в государственном секторе. Здесь возможность обеспечения непрерывной деятельности имеет первостепенное значение как для самой организации, гак и для ее клиентов и заинтересованных сторон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8000" y="198000"/>
            <a:ext cx="89280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imes New Roman"/>
              </a:rPr>
              <a:t>ISO/IEC 13335 – МЕТОДЫ И СРЕДСТВА ОБЕСПЕЧЕНИЯ БЕЗОПАСНОСТИ ИНФОРМАЦИОННЫХ ТЕХНОЛОГИЙ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79280" y="1484280"/>
            <a:ext cx="878544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8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ffff"/>
                </a:solidFill>
                <a:latin typeface="Times New Roman"/>
              </a:rPr>
              <a:t>ISO/IEC TR 13335-3:1908 «Методы менеджмента безопасности ин-формационных технологий» устанавливала методы управления ИБ ИТ, но в настоящее время эта часть стандарта отменена и заменена стандартом ISO/IEC 27005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8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ffff"/>
                </a:solidFill>
                <a:latin typeface="Times New Roman"/>
              </a:rPr>
              <a:t>ISO/IEC TR 13335-4:2000 «Методы и средства менеджмента безопасности информационных технологий» охватывала выбор защитных мер (в смысле технических средств управления ИБ, но в настоящее время эта часть стандарта также отменена и заменена стандартом ISO/IEC 27005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8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ffff"/>
                </a:solidFill>
                <a:latin typeface="Times New Roman"/>
              </a:rPr>
              <a:t>ISO/IEC TR 13335-5:2001 «Руководство по менеджменту безопасности сети» представляет собой руководство по управлению безопасностью сетей. В настоящее время и эта часть стандарта отменена и заменена стандартом ISO/IEC 18028-1, который, в свою очередь, стал частью стандарта ISO/IEC 27033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8000" y="198000"/>
            <a:ext cx="89280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imes New Roman"/>
              </a:rPr>
              <a:t>Отраслевые стандарты в области управления ИБ – стандарты банковской системы Российской Федерации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79280" y="1484280"/>
            <a:ext cx="878544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Для организаций банковской сферы задача ОИБ является одним из важных требований бизнеса, поскольку являясь объектом пристального внимания злоумышленников, банки ежедневно сталкиваются с инцидентами ИБ. Развитие и укрепление банковской системы (БС) Российской Федерации (РФ), включающей в себя Банк России, кредитные организации и филиалы и представительства иностранных банков, а также обеспечение эффективного и бесперебойного функционирования платежной системы РФ являются целями деятельности Банка России. Важнейшее условие реализации этих целей - обеспечение необходимого и достаточного уровня ИБ организаций БС РФ, включая их активы (в том числе информационные), который во многом определяется уровнем ИБ банковских технологических процессов - платежных, информационных и прочих, автоматизированных банковских систем (АБС), эксплуатирующихся организациями БС РФ, и т. д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8000" y="198000"/>
            <a:ext cx="89280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imes New Roman"/>
              </a:rPr>
              <a:t>Отраслевые стандарты в области управления ИБ – стандарты банковской системы Российской Федерации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79280" y="1700280"/>
            <a:ext cx="878544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Негативные последствия сбоев в работе отдельных организаций могут привести к быстрому развитию системного кризиса всей платежной системы РФ, нанести ущерб интересам ее собственников и клиентов. Поэтому для организаций БС РФ угрозы ИБ информационным активам и их реализация в виде инцидентов ИБ представляют реальную опасность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Для противостояния таким угрозам и обеспечения эффективности мероприятий по ликвидации неблагоприятных последствий инцидентов ИБ (их влияния па операционные, кредитные и иные риски) в организациях БС РФ следует обеспечить достаточный уровень ИБ, который необходимо сохранить в течение длительного времени. По этим причинам ОИБ является для организаций БС РФ одним из основополагающих аспектов их деятельности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8000" y="198000"/>
            <a:ext cx="89280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imes New Roman"/>
              </a:rPr>
              <a:t>Отраслевые стандарты в области управления ИБ – стандарты банковской системы Российской Федерации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79280" y="1484280"/>
            <a:ext cx="878544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Деятельность, относящаяся к ОИБ в организациях БС РФ, должна контролироваться за счет регулярного проведения оценки уровня ИБ, рисков ИБ и принятия мер, необходимых для управления этими рисками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Для этих целей был разработан комплекс документов, положенный в основу стандартизации обеспечения и управления ИБ дли организаций БС РФ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Основные цели такой стандартизации</a:t>
            </a:r>
            <a:r>
              <a:rPr b="0" i="1" lang="ru-RU" sz="22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8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ffff"/>
                </a:solidFill>
                <a:latin typeface="Times New Roman"/>
              </a:rPr>
              <a:t>повышение доверия к БС РФ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8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ffff"/>
                </a:solidFill>
                <a:latin typeface="Times New Roman"/>
              </a:rPr>
              <a:t>повышение стабильности функционирования организаций БС РФ и на этой основе - стабильности функционирования БС РФ в целом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8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ffff"/>
                </a:solidFill>
                <a:latin typeface="Times New Roman"/>
              </a:rPr>
              <a:t>достижение адекватности мер по защите от реальных угроз ИБ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8000" y="198000"/>
            <a:ext cx="89280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imes New Roman"/>
              </a:rPr>
              <a:t>Отраслевые стандарты в области управления ИБ – стандарты банковской системы Российской Федерации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79280" y="1484280"/>
            <a:ext cx="878544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8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ffff"/>
                </a:solidFill>
                <a:latin typeface="Times New Roman"/>
              </a:rPr>
              <a:t>предотвращение и/или снижение ущерба от инцидентов ИБ. Основные задачи стандартизации по ОИБ организаций БС РФ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8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ffff"/>
                </a:solidFill>
                <a:latin typeface="Times New Roman"/>
              </a:rPr>
              <a:t>установление для них единых требований по ОИБ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8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ffff"/>
                </a:solidFill>
                <a:latin typeface="Times New Roman"/>
              </a:rPr>
              <a:t>повышение эффективности мероприятий по обеспечению и поддержанию ИБ организаций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ffff"/>
                </a:solidFill>
                <a:latin typeface="Times New Roman"/>
              </a:rPr>
              <a:t>Комплекс документов по обеспечению и управлению ИБ организаций БС РФ состоит из отраслевых стандартов (СТО) и рекомендаций в области стандартизации (PC)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ffff"/>
                </a:solidFill>
                <a:latin typeface="Times New Roman"/>
              </a:rPr>
              <a:t>Разработаны следующие документы комплекса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8000" y="198000"/>
            <a:ext cx="89280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imes New Roman"/>
              </a:rPr>
              <a:t>Отраслевые стандарты в области управления ИБ – стандарты банковской системы Российской Федерации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79280" y="1484280"/>
            <a:ext cx="878544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Комплекс документов по для БС РФ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154080" y="1773360"/>
            <a:ext cx="885672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8000" y="198000"/>
            <a:ext cx="89280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imes New Roman"/>
              </a:rPr>
              <a:t>Отраслевые стандарты в области управления ИБ – стандарты банковской системы Российской Федерации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9280" y="1484280"/>
            <a:ext cx="878544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Стандарт Банка России </a:t>
            </a:r>
            <a:r>
              <a:rPr b="0" i="1" lang="ru-RU" sz="2200" spc="-1" strike="noStrike">
                <a:solidFill>
                  <a:srgbClr val="ffffff"/>
                </a:solidFill>
                <a:latin typeface="Times New Roman"/>
              </a:rPr>
              <a:t>СТО БР ИББС-1.0 «Обеспечение информационной безопасности организаций банковской системы Российской Федерации. Общие положения» 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– четвертая редакция введена в действие е 21 июня 2010 г</a:t>
            </a:r>
            <a:r>
              <a:rPr b="0" i="1" lang="ru-RU" sz="2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Стандарт Банка России </a:t>
            </a:r>
            <a:r>
              <a:rPr b="0" i="1" lang="ru-RU" sz="2200" spc="-1" strike="noStrike">
                <a:solidFill>
                  <a:srgbClr val="ffffff"/>
                </a:solidFill>
                <a:latin typeface="Times New Roman"/>
              </a:rPr>
              <a:t>СТО БР ИББС-1.1 «Обеспечение информационной безопасности организаций банковской системы Российской Федерации. Аудит информационной безопасности»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 - первая редакция введена в действие с 1 мая 2007г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Стандарт Банка России </a:t>
            </a:r>
            <a:r>
              <a:rPr b="0" i="1" lang="ru-RU" sz="2200" spc="-1" strike="noStrike">
                <a:solidFill>
                  <a:srgbClr val="ffffff"/>
                </a:solidFill>
                <a:latin typeface="Times New Roman"/>
              </a:rPr>
              <a:t>СТО БР ИББС-1.2 «Обеспечение информационной безопасности организаций банковской системы Российской Федерации. Методика оценки соответствия информационной безопасности организаций БС РФ требованиям СТО БР ИББС-1.0»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 - третья редакция введена в действие с 21 июня 2010 г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8000" y="198000"/>
            <a:ext cx="89280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imes New Roman"/>
              </a:rPr>
              <a:t>Отраслевые стандарты в области управления ИБ – стандарты банковской системы Российской Федерации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79280" y="1484280"/>
            <a:ext cx="878544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Рекомендации в области стандартизации Банка России </a:t>
            </a:r>
            <a:r>
              <a:rPr b="0" i="1" lang="ru-RU" sz="2200" spc="-1" strike="noStrike">
                <a:solidFill>
                  <a:srgbClr val="ffffff"/>
                </a:solidFill>
                <a:latin typeface="Times New Roman"/>
              </a:rPr>
              <a:t>PC БР ИББС-2.0 «Обеспечение информационной безопасности организаций банковской системы Российской Федерации. Методические рекомендации по документации в области обеспечения информационной безопасности в соответствии с требованиями СТО БР ИББС-1.0» 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- первая редакция введена в действие с 1 мая 2007 г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Рекомендации в области стандартизации Банка России </a:t>
            </a:r>
            <a:r>
              <a:rPr b="0" i="1" lang="ru-RU" sz="2200" spc="-1" strike="noStrike">
                <a:solidFill>
                  <a:srgbClr val="ffffff"/>
                </a:solidFill>
                <a:latin typeface="Times New Roman"/>
              </a:rPr>
              <a:t>PC БР ИГСБС- 2.1 «Обеспечение информационной безопасности организаций банковской системы Российской Федерации. Руководство по самооценке соответствия информационной безопасности организаций БС РФ требованиям СТО БР ИББС-1.0»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 - первая редакция введена в действие с 1 мая 2007 г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8000" y="198000"/>
            <a:ext cx="89280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imes New Roman"/>
              </a:rPr>
              <a:t>Отраслевые стандарты в области управления ИБ – стандарты банковской системы Российской Федерации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0920" y="1484280"/>
            <a:ext cx="903780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Рекомендации в области стандартизации Банка России 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PC БР ИББС-2.2 «Обеспечение информационной безопасности организаций банковской системы Российской Федерации. Методика оценки рисков нарушения информационной безопасности»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- первая редакция введена в дей¬ствие с 1 января 2010 г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Рекомендации в области стандартизации Банка России 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РС БР ИББС-2.3. «Обеспечение информационной безопасности организаций банковской системы Российской Федерации. Требования по обеспечению безопасности персональных данных в информационных системах персональных данных организаций БС РФ»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- первая редакция введена в действие с 21 июня 2010 г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Рекомендации в области стандартизации Банка России 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PC БР ИББС-2.4. «Обеспечение информационной безопасности организаций банковской системы Российской Федерации. Отраслевая частная модель угроз безопасности персональных данных при их обработке в информационных системах персональных данных организаций БС РФ»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- первая редакция введена в действие с 21 июня 2010 г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8000" y="198000"/>
            <a:ext cx="89280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imes New Roman"/>
              </a:rPr>
              <a:t>СТО БР ИББС-1.0 – ОБЩИЕ ПОЛОЖЕНИЯ В ОБЛАСТИ ОБЕСПЕЧЕНИЯ ИБ ОРГАНИЗАЦИЙ БАНКОВСКОЙ </a:t>
            </a:r>
            <a:br>
              <a:rPr sz="2200"/>
            </a:br>
            <a:r>
              <a:rPr b="1" lang="ru-RU" sz="2200" spc="-1" strike="noStrike">
                <a:solidFill>
                  <a:srgbClr val="ffffff"/>
                </a:solidFill>
                <a:latin typeface="Times New Roman"/>
              </a:rPr>
              <a:t>СИСТЕМЫ РОССИЙСКОЙ ФЕДЕРАЦИИ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79280" y="1484280"/>
            <a:ext cx="878544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Стандарт СТО БР ИББС-1.0 «Обеспечение информационной безопасности организаций банковской системы Российской Федерации. Общие положения» является базовым для развивающей и обеспечивающей его группы СТО и PC. С момента выхода в 2004 г. первой редакции стандарт претерпел ряд изменений и постоянно обновляется по результатам его применения. В настоящее время действует четвертая редакция стандарта. В СТО БР ИББС-1.0-2010 СМИБ определяется как часть менеджмента организации БС РФ, предназначенная для создания, реализации, эксплуатации, мониторинга, анализа, поддержки и совершенствования системы обеспечения ИБ (СОИБ). СОИБ организации БС РФ - это совокупность ее СМИБ и системы ИБ (СИБ). СИБ, в свою очередь, это со-вокупность защитных мер, защитных средств и процессов их эксплуатации, включая ресурсное и административное (организационное) обеспечение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8000" y="198000"/>
            <a:ext cx="89280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imes New Roman"/>
              </a:rPr>
              <a:t>СТО БР ИББС-1.0 – ОБЩИЕ ПОЛОЖЕНИЯ В ОБЛАСТИ ОБЕСПЕЧЕНИЯ ИБ ОРГАНИЗАЦИЙ БАНКОВСКОЙ </a:t>
            </a:r>
            <a:br>
              <a:rPr sz="2200"/>
            </a:br>
            <a:r>
              <a:rPr b="1" lang="ru-RU" sz="2200" spc="-1" strike="noStrike">
                <a:solidFill>
                  <a:srgbClr val="ffffff"/>
                </a:solidFill>
                <a:latin typeface="Times New Roman"/>
              </a:rPr>
              <a:t>СИСТЕМЫ РОССИЙСКОЙ ФЕДЕРАЦИИ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8000" y="1446120"/>
            <a:ext cx="892800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Процессы СМИБ сгруппированы в виде циклической модели РDСА: «планирование – реализация – проверка —совершенствование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В стандарте отмечается, что для успешного функционирования СМИБ в организации БС РФ следует выполнить требования по следующим видам деятельности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ffff"/>
                </a:solidFill>
                <a:latin typeface="Times New Roman"/>
              </a:rPr>
              <a:t>организация и функционирование службы ИБ организации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ffff"/>
                </a:solidFill>
                <a:latin typeface="Times New Roman"/>
              </a:rPr>
              <a:t>определение/коррекция области действия СОИБ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ffff"/>
                </a:solidFill>
                <a:latin typeface="Times New Roman"/>
              </a:rPr>
              <a:t>выбор/коррекция подхода к оценке рисков нарушения ИБ и проведение оценки таких рисков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ffff"/>
                </a:solidFill>
                <a:latin typeface="Times New Roman"/>
              </a:rPr>
              <a:t>разработка планов обработки рисков нарушения ИБ и организация реализации этих планов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ffff"/>
                </a:solidFill>
                <a:latin typeface="Times New Roman"/>
              </a:rPr>
              <a:t>разработка/коррекция внутренних документов, регламентирующих деятельность в области ОИБ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8000" y="198000"/>
            <a:ext cx="89280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imes New Roman"/>
              </a:rPr>
              <a:t>ISO/IEC 13335 – МЕТОДЫ И СРЕДСТВА ОБЕСПЕЧЕНИЯ БЕЗОПАСНОСТИ ИНФОРМАЦИОННЫХ ТЕХНОЛОГИЙ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9280" y="1484280"/>
            <a:ext cx="878544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В России были приняты четыре стандарта, идентичные соответствующим частям ISO/IEC 13335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8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ffff"/>
                </a:solidFill>
                <a:latin typeface="Times New Roman"/>
              </a:rPr>
              <a:t>ГОСТ Р ИСО/МЭК 13335-1-2006 «Информационная технология. Методы и средства обеспечения безопасности. Концепция и модели менеджмента безопасности информационных и телекоммуникационных технологий» 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(идентичный ISO/IEC 13335-1:2004) представляет собой руководство по управлению безопасностью ИТТ, устанавливает концепцию и модели, лежащие в основе базового понимания безопасности ИТТ, и раскрывает общие вопросы управления, которые важны для успешного планирования, реализации и поддержки безопасности ИТТ. Отмечается, что для создания эффективной программы безопасности ИТТ фундаментальными являются следующие высокоуровневые принципы безопасности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8000" y="198000"/>
            <a:ext cx="89280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imes New Roman"/>
              </a:rPr>
              <a:t>СТО БР ИББС-1.0 – ОБЩИЕ ПОЛОЖЕНИЯ В ОБЛАСТИ ОБЕСПЕЧЕНИЯ ИБ ОРГАНИЗАЦИЙ БАНКОВСКОЙ </a:t>
            </a:r>
            <a:br>
              <a:rPr sz="2200"/>
            </a:br>
            <a:r>
              <a:rPr b="1" lang="ru-RU" sz="2200" spc="-1" strike="noStrike">
                <a:solidFill>
                  <a:srgbClr val="ffffff"/>
                </a:solidFill>
                <a:latin typeface="Times New Roman"/>
              </a:rPr>
              <a:t>СИСТЕМЫ РОССИЙСКОЙ ФЕДЕРАЦИИ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79280" y="1484280"/>
            <a:ext cx="878544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8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ffff"/>
                </a:solidFill>
                <a:latin typeface="Times New Roman"/>
              </a:rPr>
              <a:t>принятие руководством организации решений о реализации и эксплуатации СОИБ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8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ffff"/>
                </a:solidFill>
                <a:latin typeface="Times New Roman"/>
              </a:rPr>
              <a:t>разработка и организация реализации программ по обучению и повышению осведомленности в области ИБ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8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ffff"/>
                </a:solidFill>
                <a:latin typeface="Times New Roman"/>
              </a:rPr>
              <a:t>организация обнаружения и реагирования на инциденты ИБ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8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ffff"/>
                </a:solidFill>
                <a:latin typeface="Times New Roman"/>
              </a:rPr>
              <a:t>организация ОИБ и его восстановления после прерываний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8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ffff"/>
                </a:solidFill>
                <a:latin typeface="Times New Roman"/>
              </a:rPr>
              <a:t>проверка и оценка ИБ организаций путем выполнения следующих процессов: мониторинг и контроль защитных мер, проведение аудита и самооценки ИБ, анализ функционирования СОИБ (в том числе со стороны руководства организации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8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ffff"/>
                </a:solidFill>
                <a:latin typeface="Times New Roman"/>
              </a:rPr>
              <a:t>принятие решений по стратегическим и тактическим улучшениям СОИ Б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8000" y="198000"/>
            <a:ext cx="89280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200" spc="-1" strike="noStrike">
                <a:solidFill>
                  <a:srgbClr val="ffffff"/>
                </a:solidFill>
                <a:latin typeface="Times New Roman"/>
              </a:rPr>
              <a:t>СТО БР ИББС-1.1 - АУДИТ ИБ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79280" y="1484280"/>
            <a:ext cx="878544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ffff"/>
                </a:solidFill>
                <a:latin typeface="Times New Roman"/>
              </a:rPr>
              <a:t>СТО БР ИББС-1.1 «Обеспечение информационной безопасности организаций банковской системы Российской Федерации. Аудит информационной безопасности»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 распространяется на организации БС РФ, а также на организации, проводящие аудит ИБ организации БС РФ, и устанавливает требования к проведению внешнего аудита ИБ организаций БС РФ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Одним из условий реализации целей деятельности организаций БС РФ является обеспечение необходимого и достаточною уровня их ИБ. Уровень ИБ считается высоким, если процессы СОИБ проводятся осознанно на основе прогноза, мониторинга и анализа внутренней и внешней среды, развития и изменения целей бизнеса (деятельности) организации. Основным из видов проверки уровня ИБ является аудит ИБ - систематический, независимый и документируемый процесс получения свидетельств аудита деятельности организации по ОИБ и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8000" y="198000"/>
            <a:ext cx="89280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200" spc="-1" strike="noStrike">
                <a:solidFill>
                  <a:srgbClr val="ffffff"/>
                </a:solidFill>
                <a:latin typeface="Times New Roman"/>
              </a:rPr>
              <a:t>СТО БР ИББС-1.1 - АУДИТ ИБ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79280" y="1484280"/>
            <a:ext cx="878544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установления степени выполнения в организации установленных критериев аудита ИБ, проводимый внешней по отношению к проверяемой независимой проверяющей организацией. Оценка соответствия ИБ критериям аудита ИБ проводится на основе документов по ОИБ и фактов, свидетельствующих о выполнении, частичном выполнении или невыполнении установленных требований по ОИБ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Основными целями аудита ИБ как важнейшего процесса в непрерывном цикле процессов менеджмента ИБ организации являются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8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ffff"/>
                </a:solidFill>
                <a:latin typeface="Times New Roman"/>
              </a:rPr>
              <a:t>повышение доверия к этим организациям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8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ffff"/>
                </a:solidFill>
                <a:latin typeface="Times New Roman"/>
              </a:rPr>
              <a:t>оценка соответствия ИБ организаций критериям аудита ИБ, установленным согласно требованиям СТО БР ИББС-1.0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8000" y="198000"/>
            <a:ext cx="89280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200" spc="-1" strike="noStrike">
                <a:solidFill>
                  <a:srgbClr val="ffffff"/>
                </a:solidFill>
                <a:latin typeface="Times New Roman"/>
              </a:rPr>
              <a:t>СТО БР ИББС-1.1 - АУДИТ ИБ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79280" y="1484280"/>
            <a:ext cx="878544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Данный стандарт провозглашает основные принципы проведения аудита ИБ организаций БС РФ, такие как независимость аудита ИБ, полнота аудита ИБ, оценка на основе свидетельств аудита ИБ, достоверность свидетельств аудита ИБ, компетентность и этичность поведения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Однако данные принципы применимы при проведении аудита ИБ любых других организаций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В СТО БР ИББС-1.1-2007 рассматривается целый ряд требований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8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ffff"/>
                </a:solidFill>
                <a:latin typeface="Times New Roman"/>
              </a:rPr>
              <a:t>к менеджменту программами аудита ИБ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8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ffff"/>
                </a:solidFill>
                <a:latin typeface="Times New Roman"/>
              </a:rPr>
              <a:t>к взаимоотношениям представителей аудиторской организации с представителями проверяемой организации, включая их обязанности и ответственность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8000" y="198000"/>
            <a:ext cx="89280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200" spc="-1" strike="noStrike">
                <a:solidFill>
                  <a:srgbClr val="ffffff"/>
                </a:solidFill>
                <a:latin typeface="Times New Roman"/>
              </a:rPr>
              <a:t>СТО БР ИББС-1.1 - АУДИТ ИБ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79280" y="1699920"/>
            <a:ext cx="8785440" cy="482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8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ffff"/>
                </a:solidFill>
                <a:latin typeface="Times New Roman"/>
              </a:rPr>
              <a:t>к этапам проведения аудита ИБ организаций БС РФ: подготовке к проведению аудита ИБ; анализу документов; проведению аудита ИБ на месте; подготовке, утверждению и рассылке отчета по аудиту ИБ; завершению аудита ИБ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Программа аудита ИБ включает деятельность, необходимую для планирования и организации определенного количества аудитов ИБ, их контроля, анализа и совершенствования, а также обеспечения их ресурсами, необходимыми для эффективного и результативного проведения аудитов ИБ в заданные сроки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Последовательность процессов менеджмента программы аудита ИБ (после распределение полномочий) соответствует циклической модели PDCA и включает в себя следующие процессы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8000" y="198000"/>
            <a:ext cx="89280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200" spc="-1" strike="noStrike">
                <a:solidFill>
                  <a:srgbClr val="ffffff"/>
                </a:solidFill>
                <a:latin typeface="Times New Roman"/>
              </a:rPr>
              <a:t>СТО БР ИББС-1.1 - АУДИТ ИБ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79280" y="1484280"/>
            <a:ext cx="878544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ffff"/>
                </a:solidFill>
                <a:latin typeface="Times New Roman"/>
              </a:rPr>
              <a:t>разработка программы аудита ИБ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ffff"/>
                </a:solidFill>
                <a:latin typeface="Times New Roman"/>
              </a:rPr>
              <a:t>внедрение программы аудита ИБ и деятельность по проведению аудита ИБ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ffff"/>
                </a:solidFill>
                <a:latin typeface="Times New Roman"/>
              </a:rPr>
              <a:t>контроль и анализ программы аудита ИБ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ffff"/>
                </a:solidFill>
                <a:latin typeface="Times New Roman"/>
              </a:rPr>
              <a:t>совершенствование программы аудита ИБ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Согласно стандарту хорошей практикой проверки уровня ИБ и подготовки к аудиту ИБ организации БС РФ является самооценка ИБ, которая проводится на основе принятых в организации документов и методик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Как было отмечено выше, СТО БР ИББС-1.1 устанавливает требования к проведению внешнего аудита ИБ организаций БС РФ. Однако почти все приведенные положения и требования стандарта могут быть применены в организациях, работающих в других отраслях</a:t>
            </a:r>
            <a:r>
              <a:rPr b="0" i="1" lang="ru-RU" sz="22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с</a:t>
            </a:r>
            <a:r>
              <a:rPr b="0" i="1" lang="ru-RU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минимальными изменениями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8000" y="198000"/>
            <a:ext cx="89280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200" spc="-1" strike="noStrike">
                <a:solidFill>
                  <a:srgbClr val="ffffff"/>
                </a:solidFill>
                <a:latin typeface="Times New Roman"/>
              </a:rPr>
              <a:t>СТО БР ИББС-1.2 - МЕТОДИКА ОЦЕНКИ СООТВЕТСТВИЯ ИБ ОРГАНИЗАЦИЙ БАНКОВСКОЙ СИСТЕМЫ РОССИЙСКОЙ ФЕДЕРАЦИИ ТРЕБОВАНИЯМ СТО БР ИББС-1.0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79280" y="1484280"/>
            <a:ext cx="878544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Стандартом СТО БР ИББС-1.0 с целью проверки уровня ИБ как самого Банка России, так и организаций БС РФ определено требование проведения регулярной внешней и внутренней оценки ИБ, а также самооценки ИБ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Стандарт </a:t>
            </a:r>
            <a:r>
              <a:rPr b="0" i="1" lang="ru-RU" sz="2200" spc="-1" strike="noStrike">
                <a:solidFill>
                  <a:srgbClr val="ffffff"/>
                </a:solidFill>
                <a:latin typeface="Times New Roman"/>
              </a:rPr>
              <a:t>СТО БР ИББС-1.2-2010 «Обеспечение информационной безопасности организаций банковской системы Российской Федерации. Методика оценки соответствия информационной безопасности организаций БС РФ требованиям СТО БР ИББС-1.0» 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устанавливает способы определения степени выполнения и итогового уровня соответствия ИБ указанным требованиям при проведении внутренней и/или внешней оценки и самооценки ИБ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8000" y="198000"/>
            <a:ext cx="89280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200" spc="-1" strike="noStrike">
                <a:solidFill>
                  <a:srgbClr val="ffffff"/>
                </a:solidFill>
                <a:latin typeface="Times New Roman"/>
              </a:rPr>
              <a:t>СТО БР ИББС-1.2 - МЕТОДИКА ОЦЕНКИ СООТВЕТСТВИЯ ИБ ОРГАНИЗАЦИЙ БАНКОВСКОЙ СИСТЕМЫ РОССИЙСКОЙ ФЕДЕРАЦИИ ТРЕБОВАНИЯМ СТО БР ИББС-1.0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79280" y="1484280"/>
            <a:ext cx="878544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Целью данной методики является стандартизация подходов и способов оценки, используемых для определения уровня соответствия ИБ организации БС РФ требованиям СТО БР ИББС-1.0 по трем направлениям оценки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8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ffff"/>
                </a:solidFill>
                <a:latin typeface="Times New Roman"/>
              </a:rPr>
              <a:t>текущий уровень ИБ организации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8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ffff"/>
                </a:solidFill>
                <a:latin typeface="Times New Roman"/>
              </a:rPr>
              <a:t>менеджмент ИБ организации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8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ffff"/>
                </a:solidFill>
                <a:latin typeface="Times New Roman"/>
              </a:rPr>
              <a:t>уровень осознания ИБ организации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Для этого определяется состав показателей ИБ и способы их оценивания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Используются групповые и частные показатели ИБ. Групповые показа гели ИБ образуют структуру направлений оценки, детализируя оценки по ним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8000" y="198000"/>
            <a:ext cx="89280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200" spc="-1" strike="noStrike">
                <a:solidFill>
                  <a:srgbClr val="ffffff"/>
                </a:solidFill>
                <a:latin typeface="Times New Roman"/>
              </a:rPr>
              <a:t>СТО БР ИББС-1.2 - МЕТОДИКА ОЦЕНКИ СООТВЕТСТВИЯ ИБ ОРГАНИЗАЦИЙ БАНКОВСКОЙ СИСТЕМЫ РОССИЙСКОЙ ФЕДЕРАЦИИ ТРЕБОВАНИЯМ СТО БР ИББС-1.0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79280" y="1484280"/>
            <a:ext cx="878544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 algn="just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Times New Roman"/>
              </a:rPr>
              <a:t>Оценки групповых показателей используются для получения оценки по направлениям. Частные показатели ИБ входят в состав групповых показателей и представлены в виде вопросов, ответы на которые дают возможность определить оценки, которые затем формируют оценки групповых показателей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Times New Roman"/>
              </a:rPr>
              <a:t>Частные показатели разделены на две категории: выполнение которых обязательно и рекомендовано в организации. Также установлены критерии выставления оценок частных показателей ИБ, в которых оценивается степень документированности и/или выполнения требований по ОИБ.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Times New Roman"/>
              </a:rPr>
              <a:t>В методике представлены формы, предназначенные для заполнения при проведении оценки. Каждая из форм содержит групповой показатель ИБ, входящие в него частные показатели ИБ, обязательность их выполнения, метрику (шкалу) для оценивания частных показателей и коэффициенты значимости частных показателей ИБ, используемые при вычислении показателя ИБ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8000" y="198000"/>
            <a:ext cx="89280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200" spc="-1" strike="noStrike">
                <a:solidFill>
                  <a:srgbClr val="ffffff"/>
                </a:solidFill>
                <a:latin typeface="Times New Roman"/>
              </a:rPr>
              <a:t>СТО БР ИББС-1.2 - МЕТОДИКА ОЦЕНКИ СООТВЕТСТВИЯ ИБ ОРГАНИЗАЦИЙ БАНКОВСКОЙ СИСТЕМЫ РОССИЙСКОЙ ФЕДЕРАЦИИ ТРЕБОВАНИЯМ СТО БР ИББС-1.0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79280" y="1484280"/>
            <a:ext cx="878544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Оценка частного показателя ИБ должна основываться на свидетельствах аудита, в качестве основных источников которых рекомендуется использовать:</a:t>
            </a:r>
            <a:r>
              <a:rPr b="0" i="1" lang="ru-RU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ffff"/>
                </a:solidFill>
                <a:latin typeface="Times New Roman"/>
              </a:rPr>
              <a:t>внутренние нормативные документы проверяемой организации и при необходимости документы третьих лиц, относящиеся к ОИБ организации БС РФ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ffff"/>
                </a:solidFill>
                <a:latin typeface="Times New Roman"/>
              </a:rPr>
              <a:t>устные высказывания сотрудников проверяемой организации в процессе проводимых опросов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ffff"/>
                </a:solidFill>
                <a:latin typeface="Times New Roman"/>
              </a:rPr>
              <a:t>результаты наблюдений членов аудиторской группы за деятельностью сотрудников проверяемой организации в области ИБ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8000" y="198000"/>
            <a:ext cx="89280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imes New Roman"/>
              </a:rPr>
              <a:t>ISO/IEC 13335 – МЕТОДЫ И СРЕДСТВА ОБЕСПЕЧЕНИЯ БЕЗОПАСНОСТИ ИНФОРМАЦИОННЫХ ТЕХНОЛОГИЙ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9280" y="1484280"/>
            <a:ext cx="878544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100" spc="-1" strike="noStrike">
                <a:solidFill>
                  <a:srgbClr val="ffffff"/>
                </a:solidFill>
                <a:latin typeface="Times New Roman"/>
              </a:rPr>
              <a:t>менеджмент риска - активы должны быть защищены путем принятия соответствующих мер, которые должны выбираться и применяться на основании соответствующей методологии управления рисками, устанавливающей допустимые риски и учитывающей существующие ограничения, исходя из активов организации, угроз, уязвимостей и различных воздействий угроз;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100" spc="-1" strike="noStrike">
                <a:solidFill>
                  <a:srgbClr val="ffffff"/>
                </a:solidFill>
                <a:latin typeface="Times New Roman"/>
              </a:rPr>
              <a:t>обязательства организации в области ОИБ ИТТ и в управлении рисками ИБ. для формирования которых следует разъяснить преимущества от реализации защиты ИТТ;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100" spc="-1" strike="noStrike">
                <a:solidFill>
                  <a:srgbClr val="ffffff"/>
                </a:solidFill>
                <a:latin typeface="Times New Roman"/>
              </a:rPr>
              <a:t>служебные обязанности и ответственность за ОИБ активов, которые должны быть определены и доведены до сведения персонала;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100" spc="-1" strike="noStrike">
                <a:solidFill>
                  <a:srgbClr val="ffffff"/>
                </a:solidFill>
                <a:latin typeface="Times New Roman"/>
              </a:rPr>
              <a:t>цели, стратегии и политика, которые должны учитываться при управлении рисками, связанными с защитой ИТТ организации;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100" spc="-1" strike="noStrike">
                <a:solidFill>
                  <a:srgbClr val="ffffff"/>
                </a:solidFill>
                <a:latin typeface="Times New Roman"/>
              </a:rPr>
              <a:t>управление жизненным циклом – управление ИБ ИТТ должно быть непрерывным в течение всего их жизненного цикла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8000" y="198000"/>
            <a:ext cx="89280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200" spc="-1" strike="noStrike">
                <a:solidFill>
                  <a:srgbClr val="ffffff"/>
                </a:solidFill>
                <a:latin typeface="Times New Roman"/>
              </a:rPr>
              <a:t>СТО БР ИББС-1.2 - МЕТОДИКА ОЦЕНКИ СООТВЕТСТВИЯ ИБ ОРГАНИЗАЦИЙ БАНКОВСКОЙ СИСТЕМЫ РОССИЙСКОЙ ФЕДЕРАЦИИ ТРЕБОВАНИЯМ СТО БР ИББС-1.0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79280" y="1988640"/>
            <a:ext cx="878544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Оценка группового показателя (за исключением группового показателя М9 «Общие требования по обработке персональных данных в организации БС РФ») вычисляется из оценок входящих в него частных показателей с учетом некоторых коэффициентов значимости, определяющих важность частного показателя для оценивания группового показателя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В </a:t>
            </a:r>
            <a:r>
              <a:rPr b="0" i="1" lang="ru-RU" sz="2200" spc="-1" strike="noStrike">
                <a:solidFill>
                  <a:srgbClr val="ffffff"/>
                </a:solidFill>
                <a:latin typeface="Times New Roman"/>
              </a:rPr>
              <a:t>СТО БР ИББС-1.2 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также представлен вид наглядного отображения получившихся результатов оценивания (оценок) в виде круговой диаграммы с уровнями соответствия требованиям СТО БО ИББС-1.0 с 0-го по 5-й по трем направлениям оценки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8000" y="198000"/>
            <a:ext cx="89280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imes New Roman"/>
              </a:rPr>
              <a:t>ISO/IEC 13335 – МЕТОДЫ И СРЕДСТВА ОБЕСПЕЧЕНИЯ БЕЗОПАСНОСТИ ИНФОРМАЦИОННЫХ ТЕХНОЛОГИЙ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79280" y="1484280"/>
            <a:ext cx="878544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just">
              <a:lnSpc>
                <a:spcPct val="100000"/>
              </a:lnSpc>
              <a:spcBef>
                <a:spcPts val="1800"/>
              </a:spcBef>
              <a:buClr>
                <a:srgbClr val="ffffff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100" spc="-1" strike="noStrike">
                <a:solidFill>
                  <a:srgbClr val="ffffff"/>
                </a:solidFill>
                <a:latin typeface="Times New Roman"/>
              </a:rPr>
              <a:t>ГОСТ Р ИСО/МЭК ТО 13335-3-2007 «Информационная технология. Методы и средства обеспечения безопасности. Методы менеджмента безопасности информационных технологий» </a:t>
            </a:r>
            <a:r>
              <a:rPr b="0" lang="ru-RU" sz="2100" spc="-1" strike="noStrike">
                <a:solidFill>
                  <a:srgbClr val="ffffff"/>
                </a:solidFill>
                <a:latin typeface="Times New Roman"/>
              </a:rPr>
              <a:t>(идентичный ISO/IEC TR 13335—3:1998) устанавливает методы управления ИБ ИТ, в основе которых лежат общие принципы, установленные ISO/IEC 13335-1. В стандарте приведены общий обзор способов управления, цели, стратегия и политика обеспечения безопасности ИТТ, описание вариантов стратегии анализа рисков и детальное описание комбинированного подхода анализа рисков, вопросы применения защитных мер и ознакомления с ними персонала и процесса их одобрения, описание работ по последующему наблюдению за системой, необходимых для обеспечения эффективного действия средств защиты. В настоящее время заменен действующим ГОСТ Р ИСО/МЭК 27005-2010 «Информационная технология. Методы и средства обеспечения безопасности. Менеджмент риска информационной безопасности»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8000" y="198000"/>
            <a:ext cx="89280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imes New Roman"/>
              </a:rPr>
              <a:t>ISO/IEC 13335 – МЕТОДЫ И СРЕДСТВА ОБЕСПЕЧЕНИЯ БЕЗОПАСНОСТИ ИНФОРМАЦИОННЫХ ТЕХНОЛОГИЙ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79280" y="1484280"/>
            <a:ext cx="878544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just">
              <a:lnSpc>
                <a:spcPct val="100000"/>
              </a:lnSpc>
              <a:spcBef>
                <a:spcPts val="1800"/>
              </a:spcBef>
              <a:buClr>
                <a:srgbClr val="ffffff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ffff"/>
                </a:solidFill>
                <a:latin typeface="Times New Roman"/>
              </a:rPr>
              <a:t>ГОСТ Р ИСО/МЭК ТО 13335-4-2007 «Информационная технология. Методы и средства обеспечения безопасности. Выбор защитных мер» 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(идентичный ISO/IEC TR 13335-4:2000) является руководством по выбору защитных мер с учетом потребностей и проблем безопасности организации. В стандарте описан процесс выбора защитных мер в соответствии с риском системы безопасности и с учетом особенностей окружающей среды, а также устанавливаются способы дос¬тижения соответствующей защиты на основе базовою уровня безопасности. Приведенный R стандарте подход к выбору защитных мер согласован с методами управления ИБ ИТ, приведенными в ISO/IEC TR 13335-3. В настоящее время заменен действующим ГОСТ Р ИСО/МЭК 27005-2010 «Информационная технология. Методы и средства обеспечения безопасности. Менеджмент риска информационной безопасности» </a:t>
            </a:r>
            <a:r>
              <a:rPr b="0" i="1" lang="ru-RU" sz="2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8000" y="198000"/>
            <a:ext cx="89280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imes New Roman"/>
              </a:rPr>
              <a:t>ISO/IEC 13335 – МЕТОДЫ И СРЕДСТВА ОБЕСПЕЧЕНИЯ БЕЗОПАСНОСТИ ИНФОРМАЦИОННЫХ ТЕХНОЛОГИЙ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79280" y="1657440"/>
            <a:ext cx="878544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just">
              <a:lnSpc>
                <a:spcPct val="100000"/>
              </a:lnSpc>
              <a:spcBef>
                <a:spcPts val="1800"/>
              </a:spcBef>
              <a:buClr>
                <a:srgbClr val="ffffff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ffff"/>
                </a:solidFill>
                <a:latin typeface="Times New Roman"/>
              </a:rPr>
              <a:t>ГОСТ Р ИСО/МЭК ТО 13335 5-2006 «Информационная технология. Методы и средства обеспечения безопасности. Руководство по менеджменту безопасности сети» 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(идентичный ISO/IEC TR 13335- 5:2001) представляет собой руководство по управлению безопасностью сетей для персонала, ответственного за эту деятельность, и содержит основные положения по выявлению и анализу факторов, имеющих отношение к компонентам безопасности связи и учитываемых при установлении требований по безопасности сети и указании потенциальных средств управления. Отмечается, что для идентификации требований по ОИБ для сетей и соответствующих средств управления (их детальное проектирование и техническая реализация не рассматриваются) необходимо решить следующие задачи, каждой из которых посвящен отдельный раздел стандарта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8000" y="198000"/>
            <a:ext cx="89280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imes New Roman"/>
              </a:rPr>
              <a:t>ISO/IEC 13335 – МЕТОДЫ И СРЕДСТВА ОБЕСПЕЧЕНИЯ БЕЗОПАСНОСТИ ИНФОРМАЦИОННЫХ ТЕХНОЛОГИЙ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78544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lnSpc>
                <a:spcPct val="100000"/>
              </a:lnSpc>
              <a:spcBef>
                <a:spcPts val="18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ffff"/>
                </a:solidFill>
                <a:latin typeface="Times New Roman"/>
              </a:rPr>
              <a:t>анализ общих требований по ОИБ сетевых соединений, изложенных в ПолИБ организации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just">
              <a:lnSpc>
                <a:spcPct val="100000"/>
              </a:lnSpc>
              <a:spcBef>
                <a:spcPts val="18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ffff"/>
                </a:solidFill>
                <a:latin typeface="Times New Roman"/>
              </a:rPr>
              <a:t>анализ сетевой структуры с сетевыми соединениями и ее применения как необходимой основы для выполнения последующих задач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just">
              <a:lnSpc>
                <a:spcPct val="100000"/>
              </a:lnSpc>
              <a:spcBef>
                <a:spcPts val="18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ffff"/>
                </a:solidFill>
                <a:latin typeface="Times New Roman"/>
              </a:rPr>
              <a:t>идентификация типа (ов) рассматриваемых сетевых соединений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just">
              <a:lnSpc>
                <a:spcPct val="100000"/>
              </a:lnSpc>
              <a:spcBef>
                <a:spcPts val="18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ffff"/>
                </a:solidFill>
                <a:latin typeface="Times New Roman"/>
              </a:rPr>
              <a:t>анализ характеристик предложенного объединения в сеть (используя при необходимости имеющуюся информацию о применении структуры сети) и связанные с этим доверительные отношения;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just">
              <a:lnSpc>
                <a:spcPct val="100000"/>
              </a:lnSpc>
              <a:spcBef>
                <a:spcPts val="18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ffff"/>
                </a:solidFill>
                <a:latin typeface="Times New Roman"/>
              </a:rPr>
              <a:t>определение видов рисков ИБ, если это возможно, с помощью анализа рисков и управления результатами проведенного анализа включая оценки бизнес-операций и информацию, которую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just">
              <a:lnSpc>
                <a:spcPct val="10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just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5T14:31:21Z</dcterms:created>
  <dc:creator>Кривилёв М.А.</dc:creator>
  <dc:description/>
  <dc:language>en-US</dc:language>
  <cp:lastModifiedBy>sok306</cp:lastModifiedBy>
  <dcterms:modified xsi:type="dcterms:W3CDTF">2018-02-24T12:18:50Z</dcterms:modified>
  <cp:revision>658</cp:revision>
  <dc:subject/>
  <dc:title>Слайд 1</dc:title>
</cp:coreProperties>
</file>