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7" name="PlaceHolder 2"/>
          <p:cNvSpPr>
            <a:spLocks noGrp="1"/>
          </p:cNvSpPr>
          <p:nvPr>
            <p:ph/>
          </p:nvPr>
        </p:nvSpPr>
        <p:spPr>
          <a:xfrm>
            <a:off x="179280" y="1557360"/>
            <a:ext cx="87854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179280" y="4326120"/>
            <a:ext cx="87854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 name="PlaceHolder 2"/>
          <p:cNvSpPr>
            <a:spLocks noGrp="1"/>
          </p:cNvSpPr>
          <p:nvPr>
            <p:ph/>
          </p:nvPr>
        </p:nvSpPr>
        <p:spPr>
          <a:xfrm>
            <a:off x="17928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8144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17928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8144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5" name="PlaceHolder 2"/>
          <p:cNvSpPr>
            <a:spLocks noGrp="1"/>
          </p:cNvSpPr>
          <p:nvPr>
            <p:ph/>
          </p:nvPr>
        </p:nvSpPr>
        <p:spPr>
          <a:xfrm>
            <a:off x="179280" y="155736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149640" y="155736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120000" y="155736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179280" y="432612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149640" y="432612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120000" y="4326120"/>
            <a:ext cx="282852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 name="PlaceHolder 2"/>
          <p:cNvSpPr>
            <a:spLocks noGrp="1"/>
          </p:cNvSpPr>
          <p:nvPr>
            <p:ph type="subTitle"/>
          </p:nvPr>
        </p:nvSpPr>
        <p:spPr>
          <a:xfrm>
            <a:off x="179280" y="1557360"/>
            <a:ext cx="8785440" cy="5300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 name="PlaceHolder 2"/>
          <p:cNvSpPr>
            <a:spLocks noGrp="1"/>
          </p:cNvSpPr>
          <p:nvPr>
            <p:ph/>
          </p:nvPr>
        </p:nvSpPr>
        <p:spPr>
          <a:xfrm>
            <a:off x="179280" y="155736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 name="PlaceHolder 2"/>
          <p:cNvSpPr>
            <a:spLocks noGrp="1"/>
          </p:cNvSpPr>
          <p:nvPr>
            <p:ph/>
          </p:nvPr>
        </p:nvSpPr>
        <p:spPr>
          <a:xfrm>
            <a:off x="17928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8144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000" y="198000"/>
            <a:ext cx="8928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5" name="PlaceHolder 2"/>
          <p:cNvSpPr>
            <a:spLocks noGrp="1"/>
          </p:cNvSpPr>
          <p:nvPr>
            <p:ph/>
          </p:nvPr>
        </p:nvSpPr>
        <p:spPr>
          <a:xfrm>
            <a:off x="17928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8144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17928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9" name="PlaceHolder 2"/>
          <p:cNvSpPr>
            <a:spLocks noGrp="1"/>
          </p:cNvSpPr>
          <p:nvPr>
            <p:ph/>
          </p:nvPr>
        </p:nvSpPr>
        <p:spPr>
          <a:xfrm>
            <a:off x="179280" y="1557360"/>
            <a:ext cx="42872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8144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81440" y="432612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3" name="PlaceHolder 2"/>
          <p:cNvSpPr>
            <a:spLocks noGrp="1"/>
          </p:cNvSpPr>
          <p:nvPr>
            <p:ph/>
          </p:nvPr>
        </p:nvSpPr>
        <p:spPr>
          <a:xfrm>
            <a:off x="17928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81440" y="1557360"/>
            <a:ext cx="42872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179280" y="4326120"/>
            <a:ext cx="8785440" cy="252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484280"/>
            <a:ext cx="8582040" cy="0"/>
          </a:xfrm>
          <a:prstGeom prst="line">
            <a:avLst/>
          </a:prstGeom>
          <a:ln w="12600">
            <a:solidFill>
              <a:srgbClr val="00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108000" y="198000"/>
            <a:ext cx="8928000" cy="114300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 name="PlaceHolder 2"/>
          <p:cNvSpPr>
            <a:spLocks noGrp="1"/>
          </p:cNvSpPr>
          <p:nvPr>
            <p:ph type="body"/>
          </p:nvPr>
        </p:nvSpPr>
        <p:spPr>
          <a:xfrm>
            <a:off x="179280" y="1557360"/>
            <a:ext cx="8785440" cy="5300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4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истема</a:t>
            </a:r>
            <a:r>
              <a:rPr b="0" lang="ru-RU" sz="2400" spc="-1" strike="noStrike">
                <a:solidFill>
                  <a:srgbClr val="ffffff"/>
                </a:solidFill>
                <a:latin typeface="Times New Roman"/>
              </a:rPr>
              <a:t> – это совокупность взаимосвязанных и взаимодействующих элементов. </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43" name="Picture 4" descr=""/>
          <p:cNvPicPr/>
          <p:nvPr/>
        </p:nvPicPr>
        <p:blipFill>
          <a:blip r:embed="rId1"/>
          <a:stretch/>
        </p:blipFill>
        <p:spPr>
          <a:xfrm>
            <a:off x="217440" y="2311560"/>
            <a:ext cx="8772480" cy="42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 подход</a:t>
            </a:r>
            <a:endParaRPr b="1" lang="en-US" sz="2400" spc="-1" strike="noStrike">
              <a:solidFill>
                <a:srgbClr val="ffffff"/>
              </a:solidFill>
              <a:latin typeface="Times New Roman"/>
            </a:endParaRPr>
          </a:p>
        </p:txBody>
      </p:sp>
      <p:sp>
        <p:nvSpPr>
          <p:cNvPr id="61"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a:t>
            </a:r>
            <a:r>
              <a:rPr b="1" i="1" lang="ru-RU" sz="2400" spc="-1" strike="noStrike">
                <a:solidFill>
                  <a:srgbClr val="ffffff"/>
                </a:solidFill>
                <a:latin typeface="Times New Roman"/>
              </a:rPr>
              <a:t>системном подходе </a:t>
            </a:r>
            <a:r>
              <a:rPr b="0" lang="ru-RU" sz="2400" spc="-1" strike="noStrike">
                <a:solidFill>
                  <a:srgbClr val="ffffff"/>
                </a:solidFill>
                <a:latin typeface="Times New Roman"/>
              </a:rPr>
              <a:t>в рамках моделирования систем необходимо, прежде всего, четко определить цель моделирования системы. Важно помнить, что невозможно полностью смоделировать реально функционирующую систему, а необходимо создать </a:t>
            </a:r>
            <a:r>
              <a:rPr b="0" i="1" lang="ru-RU" sz="2400" spc="-1" strike="noStrike">
                <a:solidFill>
                  <a:srgbClr val="ffffff"/>
                </a:solidFill>
                <a:latin typeface="Times New Roman"/>
              </a:rPr>
              <a:t>модель</a:t>
            </a:r>
            <a:r>
              <a:rPr b="0" lang="ru-RU" sz="2400" spc="-1" strike="noStrike">
                <a:solidFill>
                  <a:srgbClr val="ffffff"/>
                </a:solidFill>
                <a:latin typeface="Times New Roman"/>
              </a:rPr>
              <a:t> (систему-модель) под поставленную проблему при решении конкретной задачи. В конечном итоге моделирование должно адекватно отражать реальные процессы поведения исследуемых систем. Одной из целей моделирования является ее познавательная направленность. Выполнению этой цели способствует правильный отбор в создаваемую модель элементов системы, структуры и связей между ними, критерия оценки адекватности модели. При таком подходе упрощается классификация реальных систем и их модел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 подход</a:t>
            </a:r>
            <a:endParaRPr b="1" lang="en-US" sz="2400" spc="-1" strike="noStrike">
              <a:solidFill>
                <a:srgbClr val="ffffff"/>
              </a:solidFill>
              <a:latin typeface="Times New Roman"/>
            </a:endParaRPr>
          </a:p>
        </p:txBody>
      </p:sp>
      <p:sp>
        <p:nvSpPr>
          <p:cNvPr id="63"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сновными </a:t>
            </a:r>
            <a:r>
              <a:rPr b="1" i="1" lang="ru-RU" sz="2200" spc="-1" strike="noStrike">
                <a:solidFill>
                  <a:srgbClr val="ffffff"/>
                </a:solidFill>
                <a:latin typeface="Times New Roman"/>
              </a:rPr>
              <a:t>целями </a:t>
            </a:r>
            <a:r>
              <a:rPr b="0" i="1" lang="ru-RU" sz="2200" spc="-1" strike="noStrike">
                <a:solidFill>
                  <a:srgbClr val="ffffff"/>
                </a:solidFill>
                <a:latin typeface="Times New Roman"/>
              </a:rPr>
              <a:t>при системном подходе являются следующие</a:t>
            </a:r>
            <a:r>
              <a:rPr b="0" lang="ru-RU" sz="2200" spc="-1" strike="noStrike">
                <a:solidFill>
                  <a:srgbClr val="ffffff"/>
                </a:solidFill>
                <a:latin typeface="Times New Roman"/>
              </a:rPr>
              <a:t>:</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вышение синергетичност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нижение эмерджентност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ение положительной мультипликативности в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ение устойчивости функционирования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ение адаптивности работы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ение совместимости работы различных подсистем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ение эффективной работы обратных связей в организации как внутри подсистем, так и между подсистемам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 подход</a:t>
            </a:r>
            <a:endParaRPr b="1" lang="en-US" sz="2400" spc="-1" strike="noStrike">
              <a:solidFill>
                <a:srgbClr val="ffffff"/>
              </a:solidFill>
              <a:latin typeface="Times New Roman"/>
            </a:endParaRPr>
          </a:p>
        </p:txBody>
      </p:sp>
      <p:sp>
        <p:nvSpPr>
          <p:cNvPr id="6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 целом системный подход предполагает следующие этапы решения проблемы:</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зучение предметной области (качественный анализ);</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ыявление и формулирование проблемы;</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атематическая (количественная) постановка проблемы;</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турное и/или математическое моделирование исследуемых объектов и процессов;</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атистическая обработка результатов моделирования;</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иск и оценка альтернативных решений;</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формулирование выводов и предложений по решению проблемы</a:t>
            </a:r>
            <a:r>
              <a:rPr b="0" i="1" lang="ru-RU" sz="2200" spc="-1" strike="noStrike">
                <a:solidFill>
                  <a:srgbClr val="ffffff"/>
                </a:solidFill>
                <a:latin typeface="Times New Roman"/>
              </a:rPr>
              <a:t>.</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67"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оцесс это:</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оследовательная смена явлений, состояний в развитии чего-нибудь;</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цепь логически связанных, повторяющихся действий, в результате которых используются ресурсы организации с целью достижения определенных измеримых результатов для удовлетворения внутренних или внешних потребителе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наче </a:t>
            </a:r>
            <a:r>
              <a:rPr b="0" i="1" lang="ru-RU" sz="2200" spc="-1" strike="noStrike">
                <a:solidFill>
                  <a:srgbClr val="ffffff"/>
                </a:solidFill>
                <a:latin typeface="Times New Roman"/>
              </a:rPr>
              <a:t>процесс</a:t>
            </a:r>
            <a:r>
              <a:rPr b="0" lang="ru-RU" sz="2200" spc="-1" strike="noStrike">
                <a:solidFill>
                  <a:srgbClr val="ffffff"/>
                </a:solidFill>
                <a:latin typeface="Times New Roman"/>
              </a:rPr>
              <a:t> - это совокупность взаимосвязанных или взаимодействующих видов деятельности, преобразующая входы в выходы и требующая для этого определенных ресурсов и управляющих воздействий (управления).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69"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ходами</a:t>
            </a:r>
            <a:r>
              <a:rPr b="0" lang="ru-RU" sz="2200" spc="-1" strike="noStrike">
                <a:solidFill>
                  <a:srgbClr val="ffffff"/>
                </a:solidFill>
                <a:latin typeface="Times New Roman"/>
              </a:rPr>
              <a:t> к процессу обычно являются выходы других процессов. Ниже представлена обобщенная иллюстрация данного определения.</a:t>
            </a:r>
            <a:endParaRPr b="0" lang="en-US" sz="2200" spc="-1" strike="noStrike">
              <a:solidFill>
                <a:srgbClr val="ffffff"/>
              </a:solidFill>
              <a:latin typeface="Arial"/>
            </a:endParaRPr>
          </a:p>
        </p:txBody>
      </p:sp>
      <p:pic>
        <p:nvPicPr>
          <p:cNvPr id="70" name="Picture 2" descr=""/>
          <p:cNvPicPr/>
          <p:nvPr/>
        </p:nvPicPr>
        <p:blipFill>
          <a:blip r:embed="rId1"/>
          <a:stretch/>
        </p:blipFill>
        <p:spPr>
          <a:xfrm>
            <a:off x="1204920" y="2241720"/>
            <a:ext cx="6680160" cy="44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7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ходами </a:t>
            </a:r>
            <a:r>
              <a:rPr b="0" lang="ru-RU" sz="2200" spc="-1" strike="noStrike">
                <a:solidFill>
                  <a:srgbClr val="ffffff"/>
                </a:solidFill>
                <a:latin typeface="Times New Roman"/>
              </a:rPr>
              <a:t>могут быть специфические требования, включая ресурсы – подмножество активов организации, используемых или потребляемых в процессе выполнения некоторой деятельности. На выходе получаются в той или иной степени удовлетворенные требования и сам непосредственный результат процесса.</a:t>
            </a:r>
            <a:endParaRPr b="0" lang="en-US" sz="2200" spc="-1" strike="noStrike">
              <a:solidFill>
                <a:srgbClr val="ffffff"/>
              </a:solidFill>
              <a:latin typeface="Arial"/>
            </a:endParaRPr>
          </a:p>
          <a:p>
            <a:pPr indent="0" algn="just">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ходы и выходы </a:t>
            </a:r>
            <a:r>
              <a:rPr b="0" lang="ru-RU" sz="2200" spc="-1" strike="noStrike">
                <a:solidFill>
                  <a:srgbClr val="ffffff"/>
                </a:solidFill>
                <a:latin typeface="Times New Roman"/>
              </a:rPr>
              <a:t>процесса могут быть осязаемыми (оборудование, материалы, продукция, информация па различных носителях и т. п.) и неосязаемыми (специфицированные требования,  и т. п.).</a:t>
            </a:r>
            <a:endParaRPr b="0" lang="en-US" sz="2200" spc="-1" strike="noStrike">
              <a:solidFill>
                <a:srgbClr val="ffffff"/>
              </a:solidFill>
              <a:latin typeface="Arial"/>
            </a:endParaRPr>
          </a:p>
          <a:p>
            <a:pPr indent="0" algn="just">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Любой процесс имеет заинтересованные стороны - потребителя, внутреннего или внешнего, и действует в соответствии с установленными целям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7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оцессы организации можно разделить на несколько групп:</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новные (процессы жизненного цикла), обеспечивающие намеченный результат деятельности организации. Назначение процесса – создание основных продуктов деятельности организации; результат – основной продукт и/или полуфабрикат для его изготовления для промежуточных процессов.</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спомогательные, предназначенные для обеспечения нормального функционирования основных и других процессов необходимыми ресурсами; они обеспечивают работу основных (сервисное обслуживание оборудования, обеспечение энергоресурсами и производственной средой, обеспечение работы офиса, информационное обеспечение, обеспечение финансовой поддержки, управление окружающей средой, PR-деятельность и связь с общественностью и т. д.).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76" name="PlaceHolder 2"/>
          <p:cNvSpPr>
            <a:spLocks noGrp="1"/>
          </p:cNvSpPr>
          <p:nvPr>
            <p:ph/>
          </p:nvPr>
        </p:nvSpPr>
        <p:spPr>
          <a:xfrm>
            <a:off x="179280" y="1484280"/>
            <a:ext cx="8785440" cy="5300640"/>
          </a:xfrm>
          <a:prstGeom prst="rect">
            <a:avLst/>
          </a:prstGeom>
          <a:noFill/>
          <a:ln w="0">
            <a:noFill/>
          </a:ln>
        </p:spPr>
        <p:txBody>
          <a:bodyPr anchor="t">
            <a:normAutofit/>
          </a:bodyPr>
          <a:p>
            <a:pPr marL="3556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значение процесса – обеспечение деятельности основных процессов; результат – ресурсы и сервисы для основных процессов. ОИБ относится к вспомогательной деятельности.</a:t>
            </a:r>
            <a:endParaRPr b="0" lang="en-US" sz="2200" spc="-1" strike="noStrike">
              <a:solidFill>
                <a:srgbClr val="ffffff"/>
              </a:solidFill>
              <a:latin typeface="Arial"/>
            </a:endParaRPr>
          </a:p>
          <a:p>
            <a:pPr marL="3556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цессы управления (менеджмента), относящиеся к стратегическому планированию, постановке целей и установлению политик, обеспечению коммуникаций и т. п. Назначение процесса - управление деятельностью организации; результат - деятельность всей организации. По своей природе управленческие задачи являются информационными.</a:t>
            </a:r>
            <a:endParaRPr b="0" lang="en-US" sz="2200" spc="-1" strike="noStrike">
              <a:solidFill>
                <a:srgbClr val="ffffff"/>
              </a:solidFill>
              <a:latin typeface="Arial"/>
            </a:endParaRPr>
          </a:p>
          <a:p>
            <a:pPr marL="3556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цессы измерения, анализа и совершенствования. Назначение процесса - входные данные для процессов усовершенствования всей деятельности организации; результат - совершенствование всей деятельности организации.</a:t>
            </a:r>
            <a:endParaRPr b="0" lang="en-US" sz="2200" spc="-1" strike="noStrike">
              <a:solidFill>
                <a:srgbClr val="ffffff"/>
              </a:solidFill>
              <a:latin typeface="Arial"/>
            </a:endParaRPr>
          </a:p>
          <a:p>
            <a:pPr marL="3556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556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78" name="PlaceHolder 2"/>
          <p:cNvSpPr>
            <a:spLocks noGrp="1"/>
          </p:cNvSpPr>
          <p:nvPr>
            <p:ph/>
          </p:nvPr>
        </p:nvSpPr>
        <p:spPr>
          <a:xfrm>
            <a:off x="179280" y="1496520"/>
            <a:ext cx="8785440" cy="52578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Продуктивность процесса отражает способность достижения желаемых результатов. Эффективность процесса определяется достигнутыми результатами в сравнении с использованными ресурсами и может оцениваться посредством внутренних и внешних процессов контроля (проверки).</a:t>
            </a:r>
            <a:endParaRPr b="0" lang="en-US" sz="23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Опираясь на определение процесса все действия внутри организации можно рассматривать либо как процесс, либо как его часть. Зачастую, когда говорится об организациях, используется понятие бизнес-процесса. Использование понятия «бизнес-процесс» вызвано сложившимися традициями и является разумным с учетом того, что понятие процесс используется в других областях знания (математика, физика и т. д.) совсем в другом контексте. Об использовании этих понятий при выполнении конкретных проектов приходится договариваться</a:t>
            </a:r>
            <a:r>
              <a:rPr b="0" lang="ru-RU"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a:t>
            </a:r>
            <a:endParaRPr b="1" lang="en-US" sz="2400" spc="-1" strike="noStrike">
              <a:solidFill>
                <a:srgbClr val="ffffff"/>
              </a:solidFill>
              <a:latin typeface="Times New Roman"/>
            </a:endParaRPr>
          </a:p>
        </p:txBody>
      </p:sp>
      <p:sp>
        <p:nvSpPr>
          <p:cNvPr id="8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Бизнес-процесс - это множество из одной или нескольких упорядоченных во времени, логически связанных и завершенных видов деятельности, в совокупности поддерживающих деятельность организации и реализующих ее политик, направленную на достижение поставленных целей.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изнес-процесс осуществляется обычно в рамках заранее определенной организационной структуры, которая описывает функциональные роли участников этой структуры и отношения между ним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4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Более детально система - это состоящее из двух элементов или более множество, которое удовлетворяет следующим трем условиям:</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1.</a:t>
            </a:r>
            <a:r>
              <a:rPr b="0" i="1" lang="ru-RU" sz="2200" spc="-1" strike="noStrike">
                <a:solidFill>
                  <a:srgbClr val="ffffff"/>
                </a:solidFill>
                <a:latin typeface="Times New Roman"/>
              </a:rPr>
              <a:t>	</a:t>
            </a:r>
            <a:r>
              <a:rPr b="0" i="1" lang="ru-RU" sz="2200" spc="-1" strike="noStrike">
                <a:solidFill>
                  <a:srgbClr val="ffffff"/>
                </a:solidFill>
                <a:latin typeface="Times New Roman"/>
              </a:rPr>
              <a:t>Поведение каждого элемента воздействует на поведение целого (например, организм человека). Каждая его часть: сердце, легкие, желудок и т. д. воздействует на функционирование организма в целом</a:t>
            </a:r>
            <a:r>
              <a:rPr b="0" lang="ru-RU" sz="2200" spc="-1" strike="noStrike">
                <a:solidFill>
                  <a:srgbClr val="ffffff"/>
                </a:solidFill>
                <a:latin typeface="Times New Roman"/>
              </a:rPr>
              <a:t>.</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2.</a:t>
            </a:r>
            <a:r>
              <a:rPr b="0" i="1" lang="ru-RU" sz="2200" spc="-1" strike="noStrike">
                <a:solidFill>
                  <a:srgbClr val="ffffff"/>
                </a:solidFill>
                <a:latin typeface="Times New Roman"/>
              </a:rPr>
              <a:t>	</a:t>
            </a:r>
            <a:r>
              <a:rPr b="0" i="1" lang="ru-RU" sz="2200" spc="-1" strike="noStrike">
                <a:solidFill>
                  <a:srgbClr val="ffffff"/>
                </a:solidFill>
                <a:latin typeface="Times New Roman"/>
              </a:rPr>
              <a:t>Поведение элементов и их воздействия на целое взаимозависимы. Данное условие означает, что поведение каждого элемента и его воздействие на целое зависит от того, как ведет себя по крайней мере еще один другой элемент. Ни один элемент не имеет самостоятельного воздействия на систему в целом.</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ный подход</a:t>
            </a:r>
            <a:endParaRPr b="1" lang="en-US" sz="2400" spc="-1" strike="noStrike">
              <a:solidFill>
                <a:srgbClr val="ffffff"/>
              </a:solidFill>
              <a:latin typeface="Times New Roman"/>
            </a:endParaRPr>
          </a:p>
        </p:txBody>
      </p:sp>
      <p:sp>
        <p:nvSpPr>
          <p:cNvPr id="8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Процессный подход - это систематическая идентификация и менеджмент применяемых организацией бизнес-процессов и особенно взаимодействия таких процесс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основе этого подхода – взгляд на организацию как на совокупность ключевых бизнес-процессов, а не функциональных подразделений. Основное внимание при таком подходе уделяется межфункциональным процессам, которые объединяют отдельные функции в общие потоки и в целом направлены на достижение конечного результата бизнеса, а не отдельного подразделения.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им образом, основное </a:t>
            </a:r>
            <a:r>
              <a:rPr b="0" i="1" lang="ru-RU" sz="2200" spc="-1" strike="noStrike">
                <a:solidFill>
                  <a:srgbClr val="ffffff"/>
                </a:solidFill>
                <a:latin typeface="Times New Roman"/>
              </a:rPr>
              <a:t>преимущество процессного подхода </a:t>
            </a:r>
            <a:r>
              <a:rPr b="0" lang="ru-RU" sz="2200" spc="-1" strike="noStrike">
                <a:solidFill>
                  <a:srgbClr val="ffffff"/>
                </a:solidFill>
                <a:latin typeface="Times New Roman"/>
              </a:rPr>
              <a:t>заключается в управлении и контроле взаимодействия между различными процессами и связующими звеньями в контексте функциональной иерархии (организационно-штатной структуры) организаци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ный подход</a:t>
            </a:r>
            <a:endParaRPr b="1" lang="en-US" sz="2400" spc="-1" strike="noStrike">
              <a:solidFill>
                <a:srgbClr val="ffffff"/>
              </a:solidFill>
              <a:latin typeface="Times New Roman"/>
            </a:endParaRPr>
          </a:p>
        </p:txBody>
      </p:sp>
      <p:sp>
        <p:nvSpPr>
          <p:cNvPr id="8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 ГОСТ Р ИСО 9000-2001 «Системы менеджмента качества. Основные положения и словарь» </a:t>
            </a:r>
            <a:r>
              <a:rPr b="0" lang="ru-RU" sz="2200" spc="-1" strike="noStrike">
                <a:solidFill>
                  <a:srgbClr val="ffffff"/>
                </a:solidFill>
                <a:latin typeface="Times New Roman"/>
              </a:rPr>
              <a:t>содержится ряд требований к реализации процессного подхода, основными из которых являются следующие:</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пределение процессов, необходимых для реализации в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пределение входов и выходов каждого процесса для установления последовательности и взаимодействия процессов;</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ланирование и обеспечение ресурсами (включая информацию), необходимыми для осуществления процессов и управления ими;</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пределение необходимой степени документированности и документирование процесс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ный подход</a:t>
            </a:r>
            <a:endParaRPr b="1" lang="en-US" sz="2400" spc="-1" strike="noStrike">
              <a:solidFill>
                <a:srgbClr val="ffffff"/>
              </a:solidFill>
              <a:latin typeface="Times New Roman"/>
            </a:endParaRPr>
          </a:p>
        </p:txBody>
      </p:sp>
      <p:sp>
        <p:nvSpPr>
          <p:cNvPr id="86"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80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уществление планирования процессов;</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личие критериев и методов оценки осуществления и управления процессами;</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уществление мониторинга, оценки и анализа процессов;</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ведение корректирующих и предупреждающих (иначе называемых превентивными) действий по результатам анализа процессов, включая совершенствование процессов, осуществляемых в организации;</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пределение методов и осуществление управления процессами, результаты которых нельзя проверить посредством последовательного мониторинга и измерения.</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88" name="PlaceHolder 2"/>
          <p:cNvSpPr>
            <a:spLocks noGrp="1"/>
          </p:cNvSpPr>
          <p:nvPr>
            <p:ph/>
          </p:nvPr>
        </p:nvSpPr>
        <p:spPr>
          <a:xfrm>
            <a:off x="179280" y="158436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Управление - древний вид человеческой деятельности, появившийся с возникновением совместной активности людей и регулирующий их отношения в этом процессе.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Управление представляет собой осознанную целенаправленную деятельность человека, с помощью которой он упорядочивает и подчиняет своим интересам элементы внешней среды – общества, живой и неживой природы, техник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оответствии с ранее введенным определением процесса любая деятельность может рассматриваться как процесс. Это справедливо и по отношению к управлению. Эго процесс, состоящий из серии непрерывных взаимосвязанных действий (управленческих функций), каждое из которых само по себе является процессом, важным для успеха организации.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90" name="PlaceHolder 2"/>
          <p:cNvSpPr>
            <a:spLocks noGrp="1"/>
          </p:cNvSpPr>
          <p:nvPr>
            <p:ph/>
          </p:nvPr>
        </p:nvSpPr>
        <p:spPr>
          <a:xfrm>
            <a:off x="179280" y="144144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Каждая управленческая функция тоже представляет собой процесс, потому что также состоит из серии взаимосвязанных действий. </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Управление суммирует все эти управленческие функции, состав которых впервые был предложен Анри Файолем: «Управлять – это значит предвидеть, организовывать, распоряжаться, координировать и контролировать». Некоторыми примерами управленческих процессов являются процессы коммуникационные и принятия управленческих решений, производственные (технологические) процессы и процесс закупок. </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Определим </a:t>
            </a:r>
            <a:r>
              <a:rPr b="1" i="1" lang="ru-RU" sz="2100" spc="-1" strike="noStrike">
                <a:solidFill>
                  <a:srgbClr val="ffffff"/>
                </a:solidFill>
                <a:latin typeface="Times New Roman"/>
              </a:rPr>
              <a:t>управление с позиции системного подхода как осуществление совокупности непрерывных взаимосвязанных воздействий на объект (управляемую систему), выбранных из множества возможных воздействий на основании информации о поведении объекта и состоянии внешней среды для достижения заданной цели.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9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Управление есть функция системы, направленная либо на сохранение ее основного качества (т. е. совокупности свойств, утеря которых приводит к разрушению системы), либо на выполнение некоторой программы, обеспечивающей устойчивость функционирования и достижение определенной цел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Управление предполагает измерение выходных параметров системы, сравнение результатов измерения с некоторыми заданными эталонами и последующее воздействие на вход системы (регулирование, корректировка входа) с целью установления необходимого режима работы.</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Системой управления называют систему, в которой реализуются функции управления</a:t>
            </a:r>
            <a:r>
              <a:rPr b="0" lang="ru-RU" sz="2200" spc="-1" strike="noStrike">
                <a:solidFill>
                  <a:srgbClr val="ffffff"/>
                </a:solidFill>
                <a:latin typeface="Times New Roman"/>
              </a:rPr>
              <a:t>. Она объединяет управляющую систему и систему связи.  Главные вопросы, стоящие перед системой управления,  – чем (объект управления) и как управлять.</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94" name="PlaceHolder 2"/>
          <p:cNvSpPr>
            <a:spLocks noGrp="1"/>
          </p:cNvSpPr>
          <p:nvPr>
            <p:ph/>
          </p:nvPr>
        </p:nvSpPr>
        <p:spPr>
          <a:xfrm>
            <a:off x="179280" y="1483920"/>
            <a:ext cx="8785440" cy="533412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сновной элемент управляющей системы Это – </a:t>
            </a:r>
            <a:r>
              <a:rPr b="1" i="1" lang="ru-RU" sz="2200" spc="-1" strike="noStrike">
                <a:solidFill>
                  <a:srgbClr val="ffffff"/>
                </a:solidFill>
                <a:latin typeface="Times New Roman"/>
              </a:rPr>
              <a:t>субъект управления</a:t>
            </a:r>
            <a:r>
              <a:rPr b="0" lang="ru-RU" sz="2200" spc="-1" strike="noStrike">
                <a:solidFill>
                  <a:srgbClr val="ffffff"/>
                </a:solidFill>
                <a:latin typeface="Times New Roman"/>
              </a:rPr>
              <a:t>. Это лицо, группа лиц или специально созданный орган, являющийся носителем управленческого воздействия на объект (управляемую систему), осуществляющий деятельность, направленную на сохранение качественной специфики, обеспечение его нормальною функционирования и успешное движение к заданной цел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Объект управления </a:t>
            </a:r>
            <a:r>
              <a:rPr b="0" lang="ru-RU" sz="2200" spc="-1" strike="noStrike">
                <a:solidFill>
                  <a:srgbClr val="ffffff"/>
                </a:solidFill>
                <a:latin typeface="Times New Roman"/>
              </a:rPr>
              <a:t>это система (организация, коллектив и т. п.), на которую направлены все виды управленческого воздействия с целью ее совершенствования, повышения качества функций и задач, успешного достижения запланированной цели (целей). Их соединяет система связ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Управление всегда связано с решением проблем, возникших в процессе функционирования объекта управления.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9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бъект управления, применяя системный подход, выявляет всю совокупность условий, причин и факторов, приведших к возникновению проблем, и определяет возможные пути и средства их разрешения.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убъект управления реализует задачи целеполагания, стабилизации, выполнения программы, слежения или оптимизации и тем самым обеспечивает либо удержание выходных характеристик системы при изменениях внешней среды в требуемых пределах, либо выполнение системой действий по изменению значений ее характеристик или характеристик внешней среды. Объект управления является исполнительным инструментом, реализующим основную функцию систем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98" name="PlaceHolder 2"/>
          <p:cNvSpPr>
            <a:spLocks noGrp="1"/>
          </p:cNvSpPr>
          <p:nvPr>
            <p:ph/>
          </p:nvPr>
        </p:nvSpPr>
        <p:spPr>
          <a:xfrm>
            <a:off x="179280" y="1512360"/>
            <a:ext cx="8785440" cy="5301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Times New Roman"/>
              </a:rPr>
              <a:t>Метод управления </a:t>
            </a:r>
            <a:r>
              <a:rPr b="0" lang="ru-RU" sz="2100" spc="-1" strike="noStrike">
                <a:solidFill>
                  <a:srgbClr val="ffffff"/>
                </a:solidFill>
                <a:latin typeface="Times New Roman"/>
              </a:rPr>
              <a:t>- эго совокупность сознательно и последовательно применяемых способов и приемов воздействия субъекта управления на объект управления посредством своей деятельности для достижения поставленной цели. В зависимости от функций методы управления подразделяются на три основные группы: управление функциональными подсистемами, выполнение функций управления и принятие управленческих решений. Также существует и другая классификация методов управления, реализуемых системами управления.</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Times New Roman"/>
              </a:rPr>
              <a:t>Программное управление: </a:t>
            </a:r>
            <a:r>
              <a:rPr b="0" lang="ru-RU" sz="2100" spc="-1" strike="noStrike">
                <a:solidFill>
                  <a:srgbClr val="ffffff"/>
                </a:solidFill>
                <a:latin typeface="Times New Roman"/>
              </a:rPr>
              <a:t>выполнение последовательности действий (операций) в строгом соответствии с предписанной программой (правилами, распоряжениями, законами и т. п.). Не предполагается знание объектом управления цели управления, цели функционирования (существования) объекта управления, пути к цели и промежуточных этапов продвижения к намеченной цели, состояния объекта управления в каждой точке пути.</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0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Управление по отклонениям от намеченного пути с обратной связью</a:t>
            </a:r>
            <a:r>
              <a:rPr b="0" lang="ru-RU" sz="2400" spc="-1" strike="noStrike">
                <a:solidFill>
                  <a:srgbClr val="ffffff"/>
                </a:solidFill>
                <a:latin typeface="Times New Roman"/>
              </a:rPr>
              <a:t>: предполагает знание объектом управления своего состояния в каждый момент времени и пути следования к намеченной цели, но конечная цель пути объекту управления неизвестна – строгое следование намеченному пути приведет к ней.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ъект управления определяет свое действительное положение на пути к цели по соответствию его реальных контролируемых параметров запланированным. При отклонении текущих параметров от требуемых в данный момент включается программа коррекции пути, что позволяет компенсировать некоторые ошибки при запуске программы, а также учесть и компенсировать небольшие случайные внешние возмущения.</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47"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3.</a:t>
            </a:r>
            <a:r>
              <a:rPr b="0" i="1" lang="ru-RU" sz="2200" spc="-1" strike="noStrike">
                <a:solidFill>
                  <a:srgbClr val="ffffff"/>
                </a:solidFill>
                <a:latin typeface="Times New Roman"/>
              </a:rPr>
              <a:t>	</a:t>
            </a:r>
            <a:r>
              <a:rPr b="0" i="1" lang="ru-RU" sz="2200" spc="-1" strike="noStrike">
                <a:solidFill>
                  <a:srgbClr val="ffffff"/>
                </a:solidFill>
                <a:latin typeface="Times New Roman"/>
              </a:rPr>
              <a:t>Какие бы подгруппы элементов ни образовались, каждый элемент воздействует на поведение целого, и ни один из них не воздействует на них самостоятельно. Иными словами, элементы системы соединены таким образом, что образование ими независимых подгрупп невозможно</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пределим систему как множество (совокупность) элементов (объектов) любой природы, взаимодействующих между собой для достижения общей цели и обладающее системными свойствами. (Этого свойства не имеет ни один из элементов и ни одно из подмножеств элементов при любом способе членения)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0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Терминальное управление</a:t>
            </a:r>
            <a:r>
              <a:rPr b="0" lang="ru-RU" sz="2400" spc="-1" strike="noStrike">
                <a:solidFill>
                  <a:srgbClr val="ffffff"/>
                </a:solidFill>
                <a:latin typeface="Times New Roman"/>
              </a:rPr>
              <a:t>: предполагает знание объектом управления конечной цели его функционирования и наличие у него достаточных ресурсов для достижения поставленной цели.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акой метод управления предоставляет системе управления широкую свободу в выборе путей достижения желаемого результата процесса (при соблюдении необходимых ограничений), позволяет достигнуть оптимального (квазиоптимального) результата функционирования системы в условиях случайных возмущений и предъявляет более высокие требования к возможностям системы управления (прежде всего, к интеллектуальным ресурса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04"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Часто применяют </a:t>
            </a:r>
            <a:r>
              <a:rPr b="0" i="1" lang="ru-RU" sz="2200" spc="-1" strike="noStrike">
                <a:solidFill>
                  <a:srgbClr val="ffffff"/>
                </a:solidFill>
                <a:latin typeface="Times New Roman"/>
              </a:rPr>
              <a:t>два основных типа управления </a:t>
            </a:r>
            <a:r>
              <a:rPr b="0" lang="ru-RU" sz="2200" spc="-1" strike="noStrike">
                <a:solidFill>
                  <a:srgbClr val="ffffff"/>
                </a:solidFill>
                <a:latin typeface="Times New Roman"/>
              </a:rPr>
              <a:t>- </a:t>
            </a:r>
            <a:r>
              <a:rPr b="1" i="1" lang="ru-RU" sz="2200" spc="-1" strike="noStrike">
                <a:solidFill>
                  <a:srgbClr val="ffffff"/>
                </a:solidFill>
                <a:latin typeface="Times New Roman"/>
              </a:rPr>
              <a:t>иерархический и органический. </a:t>
            </a:r>
            <a:r>
              <a:rPr b="0" lang="ru-RU" sz="2200" spc="-1" strike="noStrike">
                <a:solidFill>
                  <a:srgbClr val="ffffff"/>
                </a:solidFill>
                <a:latin typeface="Times New Roman"/>
              </a:rPr>
              <a:t>Первый тип больше ассоциируется с армейской структурой управления с жесткой вертикальной системой управления и постоянно закрепленными обязанностями каждого элемента системы. Второй тип отличается высокой адаптивностью к условиям работы с большими горизонтальными связями управления, при которых обязанности участников процесса могут достаточно часто меняться.</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рганизационно в системе управления выделяются следующие основные элементы: уровни (ступени), звенья и горизонтальные и вертикальные связ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еория управления как наука о принципах и методах управления различными системами, процессами и объектами применяет научные методы анализа с целью выработки определенных методов и рекомендаций для практики управления.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06"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 теории управления существует три основных подхода: </a:t>
            </a:r>
            <a:r>
              <a:rPr b="1" i="1" lang="ru-RU" sz="2400" spc="-1" strike="noStrike">
                <a:solidFill>
                  <a:srgbClr val="ffffff"/>
                </a:solidFill>
                <a:latin typeface="Times New Roman"/>
              </a:rPr>
              <a:t>системный, процессный и ситуационный.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истемный и процессный </a:t>
            </a:r>
            <a:r>
              <a:rPr b="0" lang="ru-RU" sz="2400" spc="-1" strike="noStrike">
                <a:solidFill>
                  <a:srgbClr val="ffffff"/>
                </a:solidFill>
                <a:latin typeface="Times New Roman"/>
              </a:rPr>
              <a:t>подходы являются общими подходами.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итуационный</a:t>
            </a:r>
            <a:r>
              <a:rPr b="0" lang="ru-RU" sz="2400" spc="-1" strike="noStrike">
                <a:solidFill>
                  <a:srgbClr val="ffffff"/>
                </a:solidFill>
                <a:latin typeface="Times New Roman"/>
              </a:rPr>
              <a:t> подход применяет различные приемы и концепции к конкретным ситуациям функционирования организации для достижения ею своих целей. При этом учитываются ситуационные различия как между организациями, так и внутри самих организаций и определяются значимые переменные ситуации и их влияние на эффективность деятельности организаци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0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ожно выделить некоторые характерные отличительные черты всех современных систем управления:</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нятие решений на основе установленных фактов - объективной информации, полученной в результате измерения параметров управляемых процессов, а не на основе предшествующего опыта, интуиции или руководящих указаний;</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активное управление параметрами процесса (с прогнозированием развития ситуации и упреждающим регулированием этих параметров) с целью недопущения нежелательного результата процесса, а не реактивное с принятием мер по устранению последствий неадекватного процесса;</a:t>
            </a:r>
            <a:r>
              <a:rPr b="0" lang="ru-RU" sz="2200" spc="-1" strike="noStrike">
                <a:solidFill>
                  <a:srgbClr val="ffffff"/>
                </a:solidFill>
                <a:latin typeface="Times New Roman"/>
              </a:rPr>
              <a:t>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10" name="PlaceHolder 2"/>
          <p:cNvSpPr>
            <a:spLocks noGrp="1"/>
          </p:cNvSpPr>
          <p:nvPr>
            <p:ph/>
          </p:nvPr>
        </p:nvSpPr>
        <p:spPr>
          <a:xfrm>
            <a:off x="179280" y="1557000"/>
            <a:ext cx="8785440" cy="5111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рминальное управление – планирование цели процесса и реализация управления по отклонениям от цели, а не программное (реализация установленных извне требований к содержанию процессов, не связанных с определенной целью каждого процесса);</a:t>
            </a:r>
            <a:endParaRPr b="0" lang="en-US" sz="24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епрерывное совершенствование процессов и системы управления процессами, поскольку постоянное улучшение процесса неизбежно приведет и к постоянному улучшению его результата.</a:t>
            </a:r>
            <a:endParaRPr b="0"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ля полноты раскрытия термина «управление» необходимо отметить, что с английского языка несколько слов переводится па русский как «управлени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1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Control – </a:t>
            </a:r>
            <a:r>
              <a:rPr b="0" lang="ru-RU" sz="2200" spc="-1" strike="noStrike">
                <a:solidFill>
                  <a:srgbClr val="ffffff"/>
                </a:solidFill>
                <a:latin typeface="Times New Roman"/>
              </a:rPr>
              <a:t>исторически первый из применяемых в информационных технологиях (ИТ) терминов, отражающий самые простейшие операции в области управления, в большей степени с точки зрения технического аспекта деятельност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Management – </a:t>
            </a:r>
            <a:r>
              <a:rPr b="0" lang="ru-RU" sz="2200" spc="-1" strike="noStrike">
                <a:solidFill>
                  <a:srgbClr val="ffffff"/>
                </a:solidFill>
                <a:latin typeface="Times New Roman"/>
              </a:rPr>
              <a:t>термин, который первоначально употреблялся в отношении управления человеческими ресурсами; в настоящее время встречается в сочетании с множеством понятий из области ИТ и имеет смысл организации и регулирования какой-либо деятельности, т. с. ее администрирования.</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Governance </a:t>
            </a:r>
            <a:r>
              <a:rPr b="0" lang="ru-RU" sz="2200" spc="-1" strike="noStrike">
                <a:solidFill>
                  <a:srgbClr val="ffffff"/>
                </a:solidFill>
                <a:latin typeface="Times New Roman"/>
              </a:rPr>
              <a:t>–  термин, который стал активно использоваться применительно к ИТ только в последнем десятилетии; под ним обычно понима¬ется руководство по организации и контролю за какой-либо деятельностью. Это слово переводится на русский как «власть, руководство, управление».</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14" name="PlaceHolder 2"/>
          <p:cNvSpPr>
            <a:spLocks noGrp="1"/>
          </p:cNvSpPr>
          <p:nvPr>
            <p:ph/>
          </p:nvPr>
        </p:nvSpPr>
        <p:spPr>
          <a:xfrm>
            <a:off x="179280" y="158436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рганизация JT Governance Institute (</a:t>
            </a:r>
            <a:r>
              <a:rPr b="0" lang="en-US" sz="2200" spc="-1" strike="noStrike">
                <a:solidFill>
                  <a:srgbClr val="ffffff"/>
                </a:solidFill>
                <a:latin typeface="Times New Roman"/>
              </a:rPr>
              <a:t>J</a:t>
            </a:r>
            <a:r>
              <a:rPr b="0" lang="ru-RU" sz="2200" spc="-1" strike="noStrike">
                <a:solidFill>
                  <a:srgbClr val="ffffff"/>
                </a:solidFill>
                <a:latin typeface="Times New Roman"/>
              </a:rPr>
              <a:t>TGI, http://www.itgi.org) определяет руководство ИТ как «структуру взаимоотношений и процессов в организации по управлению и контролю для достижения ею поставленных целей посредством увеличения ее стоимости в процессе снижения рисков и повышения дохода от использования ИТ и связанных с ними процессов».</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Просто управление ИТ ориентировано на ИТ-сервисы и продукты и управление ИТ-операциями. Руководство ИТ значительно шире и концентрируется на том, что ИТ должны делать для удовлетворения нынешних и будущих потребностей бизнеса и клиентов организации. В основе такого руководства лежит концепция, согласно которой управление организацией должно быть хорошо организованной деятельностью, осуществляемой специалистами, осознающими полную ответственность и подотчетность своих действий.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16" name="PlaceHolder 2"/>
          <p:cNvSpPr>
            <a:spLocks noGrp="1"/>
          </p:cNvSpPr>
          <p:nvPr>
            <p:ph/>
          </p:nvPr>
        </p:nvSpPr>
        <p:spPr>
          <a:xfrm>
            <a:off x="179280" y="180036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уководство является формальным средством исполнения своих обязанностей представителями исполнительной власти в государственных, коммерческих, образовательных и иных организациях.</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Руководство обусловлено необходимостью управления рисками и защитой самой организации и по своей сути связано с двумя функциями: производство продукции и снижение рисков. В организации должна быть создана система руководства, применимая ко всем видам деятельности и процессам - планированию, проектированию, закупкам, разработке, внедрению и мониторингу.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18"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истема руководства включает в себя управление окружающей средой и различными областями деятельности и строится на определенных принципах: </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нятные ожидания (понятные показатели, четкие политики и стандарты, сильные связи, ясная стратегия); </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нятное выполнение операций с установленной ответственностью (компетентные организационные структуры, четко определенные роли и обязанности, упорядоченные процессы и процедуры, эффективное использование технологий, ответственное управление активами; проактивное управление изменениями; своевременное и точное обнаружение); </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езависимый анализ и постоянное совершенствование.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20"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Руководство осуществляется в следующих условиях и обстоятельствах:</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федеральные и государственные законы, директивы и руководящие указания;</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мышленное регулирование практики управления;</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иссия и стратегия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опустимые для организации риск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этика, культура и ценности организ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асположение организации и подход к управлению - централизованный или децентрализованны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49"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войствами системы являются:</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целостность - первичность целого но отношению к элементам;</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неаддитивность - принципиальная несводимость свойств системы к сумме свойств составляющих её элементов;</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инергетичность - однонаправленность (или целенаправленность) действий совокупности элементов системы усиливает эффективность функционирования системы;</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эмерджентность - наличие новых свойств и качеств у множества элементов системы, которых не было до их объединения в систему; элемент системы обладает свойствами, которые он теряет в случае отделения от системы;</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22"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литики, стандарты, процессы и процедуры, принятые в организации;</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оли и ответственность в организации;</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ланы и отчетность организации;</a:t>
            </a:r>
            <a:endParaRPr b="0" lang="en-US" sz="2200" spc="-1" strike="noStrike">
              <a:solidFill>
                <a:srgbClr val="ffffff"/>
              </a:solidFill>
              <a:latin typeface="Arial"/>
            </a:endParaRPr>
          </a:p>
          <a:p>
            <a:pPr marL="343080" indent="-343080" algn="just">
              <a:lnSpc>
                <a:spcPct val="100000"/>
              </a:lnSpc>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верка организации на различные виды соответствия.</a:t>
            </a:r>
            <a:endParaRPr b="0" lang="en-US" sz="2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озможные области руководства таковы:</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ратегическое планирование и регулирование – прогноз и возможности, необходимые для поставки продуктов организации;</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ставка продукции – создание прибыли во время и в рамках бюджета;</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24" name="PlaceHolder 2"/>
          <p:cNvSpPr>
            <a:spLocks noGrp="1"/>
          </p:cNvSpPr>
          <p:nvPr>
            <p:ph/>
          </p:nvPr>
        </p:nvSpPr>
        <p:spPr>
          <a:xfrm>
            <a:off x="179280" y="1438200"/>
            <a:ext cx="8785440" cy="5300640"/>
          </a:xfrm>
          <a:prstGeom prst="rect">
            <a:avLst/>
          </a:prstGeom>
          <a:noFill/>
          <a:ln w="0">
            <a:noFill/>
          </a:ln>
        </p:spPr>
        <p:txBody>
          <a:bodyPr anchor="t">
            <a:normAutofit fontScale="99000"/>
          </a:bodyPr>
          <a:p>
            <a:pPr marL="339480" indent="-3394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управление рисками ИБ - непрерывный процесс, начинающийся с идентификации рисков ИБ (угроз ИБ и уязвимостей) и оценки их воздействия на активы, снижение рисков ИБ посредством контрмер и формальное принятие руководством остаточных рисков ИБ;</a:t>
            </a:r>
            <a:endParaRPr b="0" lang="en-US" sz="2100" spc="-1" strike="noStrike">
              <a:solidFill>
                <a:srgbClr val="ffffff"/>
              </a:solidFill>
              <a:latin typeface="Arial"/>
            </a:endParaRPr>
          </a:p>
          <a:p>
            <a:pPr marL="339480" indent="-3394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управление ресурсами - правильное использование возможностей (людей, оборудования, АО, ПО и т.д.) для удовлетворения потребностей организации; измерение производительности – обеспечивает обратную связь с потребностями организации, чтобы она оставалась дееспособной или вовремя принимались корректирующие меры.</a:t>
            </a:r>
            <a:endParaRPr b="0" lang="en-US" sz="2100" spc="-1" strike="noStrike">
              <a:solidFill>
                <a:srgbClr val="ffffff"/>
              </a:solidFill>
              <a:latin typeface="Arial"/>
            </a:endParaRPr>
          </a:p>
          <a:p>
            <a:pPr marL="3394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В начале XX века стала развиваться наука управления, которую стали называть менеджментом. Для России это понятие является заимствованным. Глагол, от которого произошел этот термин, в переводе на русский язык означает «управлять», «руководить», «организовывать», «заведовать».</a:t>
            </a:r>
            <a:endParaRPr b="0" lang="en-US" sz="2100" spc="-1" strike="noStrike">
              <a:solidFill>
                <a:srgbClr val="ffffff"/>
              </a:solidFill>
              <a:latin typeface="Arial"/>
            </a:endParaRPr>
          </a:p>
          <a:p>
            <a:pPr marL="3394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26" name="PlaceHolder 2"/>
          <p:cNvSpPr>
            <a:spLocks noGrp="1"/>
          </p:cNvSpPr>
          <p:nvPr>
            <p:ph/>
          </p:nvPr>
        </p:nvSpPr>
        <p:spPr>
          <a:xfrm>
            <a:off x="179280" y="1392120"/>
            <a:ext cx="8785440" cy="5516640"/>
          </a:xfrm>
          <a:prstGeom prst="rect">
            <a:avLst/>
          </a:prstGeom>
          <a:noFill/>
          <a:ln w="0">
            <a:noFill/>
          </a:ln>
        </p:spPr>
        <p:txBody>
          <a:bodyPr anchor="t">
            <a:normAutofit/>
          </a:bodyPr>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современной литературе имеются разные определения менеджмента, раскрывающие это понятие с различных точек зрения:</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пособ (манера) обращения с людьми, власть и искусство управления, особого рода административные навыки, орган управления;</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овокупность принципов, форм, методов, приемов и средств управления производством и производственным персоналом с использованием достижений науки управления;</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скусство управления интеллектуальными, финансовыми, материальными ресурсами;</a:t>
            </a:r>
            <a:endParaRPr b="0" lang="en-US" sz="2200" spc="-1" strike="noStrike">
              <a:solidFill>
                <a:srgbClr val="ffffff"/>
              </a:solidFill>
              <a:latin typeface="Arial"/>
            </a:endParaRPr>
          </a:p>
          <a:p>
            <a:pPr algn="just">
              <a:lnSpc>
                <a:spcPct val="100000"/>
              </a:lnSpc>
              <a:spcBef>
                <a:spcPts val="11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эффективное и результативное достижение целей организации посредством планирования, организации, лидерства (руководства) и контроля над организационными ресурсами;</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28"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457200" algn="just">
              <a:lnSpc>
                <a:spcPct val="100000"/>
              </a:lnSpc>
              <a:spcBef>
                <a:spcPts val="1199"/>
              </a:spcBef>
              <a:buClr>
                <a:srgbClr val="ff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координированная деятельность по руководству и управлению организацией (поэтому иногда делают вывод, что понятие менеджмента шире, чем просто управление).</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 других источниках менеджмент определяется:</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ак особый вид профессионально осуществляемой (осуществляемой профессионалами - профессиональными управляющими) деятельности, направленной па достижение определенных целей путем рационального использования материальных и трудовых ресурсов с применением определенных научных подходов, принципов, функций и методов;</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объединение управленческой деятельности с кадровой политикой;</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30"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состояние всей управленческой инфраструктуры в различных масштабах;</a:t>
            </a:r>
            <a:endParaRPr b="0" lang="en-US" sz="23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процесс оптимизации человеческих, материальных и финансовых ресурсов для достижения организационных целей;</a:t>
            </a:r>
            <a:endParaRPr b="0" lang="en-US" sz="23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теория и практика научного и хозяйственного управления организацией в условиях рынка;</a:t>
            </a:r>
            <a:endParaRPr b="0" lang="en-US" sz="23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система научных знаний, составляющих теоретическую базу практического опыта в области управления и имеющих междисциплинарный характер;</a:t>
            </a:r>
            <a:endParaRPr b="0" lang="en-US" sz="23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300" spc="-1" strike="noStrike">
                <a:solidFill>
                  <a:srgbClr val="ffffff"/>
                </a:solidFill>
                <a:latin typeface="Times New Roman"/>
              </a:rPr>
              <a:t>совокупность лиц, идентифицируемых с менеджерами, а также с органами или аппаратом управления и т.п.</a:t>
            </a:r>
            <a:endParaRPr b="0" lang="en-US" sz="23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Управление</a:t>
            </a:r>
            <a:endParaRPr b="1" lang="en-US" sz="2400" spc="-1" strike="noStrike">
              <a:solidFill>
                <a:srgbClr val="ffffff"/>
              </a:solidFill>
              <a:latin typeface="Times New Roman"/>
            </a:endParaRPr>
          </a:p>
        </p:txBody>
      </p:sp>
      <p:sp>
        <p:nvSpPr>
          <p:cNvPr id="132"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Менеджмент</a:t>
            </a:r>
            <a:r>
              <a:rPr b="0" lang="ru-RU" sz="2400" spc="-1" strike="noStrike">
                <a:solidFill>
                  <a:srgbClr val="ffffff"/>
                </a:solidFill>
                <a:latin typeface="Times New Roman"/>
              </a:rPr>
              <a:t> включает основные функции управления (прогнозирование, целеполагание, планирование, организация деятельности, мотивирование персонала, лидерство, контроль, учет и анализ, корректировка деятельности и т. д.) и определяет эффективное достижение целей организации при оптимальном использовании ресурсов. Ограниченность ресурсов при выполнении функций управления требует эффективного их распределения и использования с учетом взаимозависимости и взаимосвязанности этих функций. Менеджмент использует и реализует специальные технологии и инструменты управления: организация и организационные отношения (формальные и неформальные), организационная культура, мотивирование, стимулирование и други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26964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Циклическая </a:t>
            </a:r>
            <a:br>
              <a:rPr sz="2400"/>
            </a:br>
            <a:r>
              <a:rPr b="1" lang="ru-RU" sz="2400" spc="-1" strike="noStrike">
                <a:solidFill>
                  <a:srgbClr val="ffffff"/>
                </a:solidFill>
                <a:latin typeface="Times New Roman"/>
              </a:rPr>
              <a:t>модель улучшения процессов</a:t>
            </a:r>
            <a:endParaRPr b="1" lang="en-US" sz="2400" spc="-1" strike="noStrike">
              <a:solidFill>
                <a:srgbClr val="ffffff"/>
              </a:solidFill>
              <a:latin typeface="Times New Roman"/>
            </a:endParaRPr>
          </a:p>
        </p:txBody>
      </p:sp>
      <p:sp>
        <p:nvSpPr>
          <p:cNvPr id="134" name="PlaceHolder 2"/>
          <p:cNvSpPr>
            <a:spLocks noGrp="1"/>
          </p:cNvSpPr>
          <p:nvPr>
            <p:ph/>
          </p:nvPr>
        </p:nvSpPr>
        <p:spPr>
          <a:xfrm>
            <a:off x="179280" y="1483920"/>
            <a:ext cx="8785440" cy="5445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ля структурирования всех процессов управления и для обеспечения учета всех значимых элементов процессного подхода применяется циклическая модель, или цикл, PDCA (от англ. </a:t>
            </a:r>
            <a:r>
              <a:rPr b="0" i="1" lang="ru-RU" sz="2200" spc="-1" strike="noStrike">
                <a:solidFill>
                  <a:srgbClr val="ffffff"/>
                </a:solidFill>
                <a:latin typeface="Times New Roman"/>
              </a:rPr>
              <a:t>Plan-Do-Check-Act</a:t>
            </a:r>
            <a:r>
              <a:rPr b="0" lang="ru-RU" sz="2200" spc="-1" strike="noStrike">
                <a:solidFill>
                  <a:srgbClr val="ffffff"/>
                </a:solidFill>
                <a:latin typeface="Times New Roman"/>
              </a:rPr>
              <a:t> — планируй - выполняй - проверяй - действуй») (упрощенно цикл представлена ниже), предложенная и развитая двумя американскими учеными и специалистами в теории управления качеством. </a:t>
            </a:r>
            <a:endParaRPr b="0" lang="en-US" sz="2200" spc="-1" strike="noStrike">
              <a:solidFill>
                <a:srgbClr val="ffffff"/>
              </a:solidFill>
              <a:latin typeface="Arial"/>
            </a:endParaRPr>
          </a:p>
        </p:txBody>
      </p:sp>
      <p:pic>
        <p:nvPicPr>
          <p:cNvPr id="135" name="Picture 2" descr=""/>
          <p:cNvPicPr/>
          <p:nvPr/>
        </p:nvPicPr>
        <p:blipFill>
          <a:blip r:embed="rId1"/>
          <a:stretch/>
        </p:blipFill>
        <p:spPr>
          <a:xfrm>
            <a:off x="179280" y="3538440"/>
            <a:ext cx="8793360" cy="3191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Циклическая </a:t>
            </a:r>
            <a:br>
              <a:rPr sz="2400"/>
            </a:br>
            <a:r>
              <a:rPr b="1" lang="ru-RU" sz="2400" spc="-1" strike="noStrike">
                <a:solidFill>
                  <a:srgbClr val="ffffff"/>
                </a:solidFill>
                <a:latin typeface="Times New Roman"/>
              </a:rPr>
              <a:t>модель улучшения процессов</a:t>
            </a:r>
            <a:endParaRPr b="1" lang="en-US" sz="2400" spc="-1" strike="noStrike">
              <a:solidFill>
                <a:srgbClr val="ffffff"/>
              </a:solidFill>
              <a:latin typeface="Times New Roman"/>
            </a:endParaRPr>
          </a:p>
        </p:txBody>
      </p:sp>
      <p:sp>
        <p:nvSpPr>
          <p:cNvPr id="137"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Шухарт (Walter А. Shewhart) впервые описал цикл PDCA в 1939 г. в своей книге «Стати-стические методы с точки зрения управления качеством».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еминг (William Edwards Deming) пропагандировал использование цикла PDCA в качестве основного способа достижения непрерывного улучшения процессов, и поэтому в современном мире эта формула больше известна как «цикл Деминга». Он также ввел модификацию цикла PDCA - цикл PDSA (от англ. study - изуча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Планируй» (Plan) </a:t>
            </a:r>
            <a:r>
              <a:rPr b="0" lang="ru-RU" sz="2200" spc="-1" strike="noStrike">
                <a:solidFill>
                  <a:srgbClr val="ffffff"/>
                </a:solidFill>
                <a:latin typeface="Times New Roman"/>
              </a:rPr>
              <a:t>– определение целей и задач, а также способов достижения целей. На данном этапе обеспечивается единое направление деятельности организации к достижению ее целей за счет установления процессов, необходимых для получения результатов в соответствии с существующими требованиями в обозначенный отрезок времени.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Циклическая </a:t>
            </a:r>
            <a:br>
              <a:rPr sz="2400"/>
            </a:br>
            <a:r>
              <a:rPr b="1" lang="ru-RU" sz="2400" spc="-1" strike="noStrike">
                <a:solidFill>
                  <a:srgbClr val="ffffff"/>
                </a:solidFill>
                <a:latin typeface="Times New Roman"/>
              </a:rPr>
              <a:t>модель улучшения процессов</a:t>
            </a:r>
            <a:endParaRPr b="1" lang="en-US" sz="2400" spc="-1" strike="noStrike">
              <a:solidFill>
                <a:srgbClr val="ffffff"/>
              </a:solidFill>
              <a:latin typeface="Times New Roman"/>
            </a:endParaRPr>
          </a:p>
        </p:txBody>
      </p:sp>
      <p:sp>
        <p:nvSpPr>
          <p:cNvPr id="139" name="PlaceHolder 2"/>
          <p:cNvSpPr>
            <a:spLocks noGrp="1"/>
          </p:cNvSpPr>
          <p:nvPr>
            <p:ph/>
          </p:nvPr>
        </p:nvSpPr>
        <p:spPr>
          <a:xfrm>
            <a:off x="179280" y="1387080"/>
            <a:ext cx="8785440" cy="5445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Для этого определяются и описываются текущее и желаемое состояния процессов за счет выявленных несоответствий и причин их появления. Планирование не является отдельным разовым событием, если организация стремится функционировать как можно дольше. Поэтому она пересматривает свои цели, если полное достижение первоначальных практически завершено или их выполнение невозможно в силу ряда причин. </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Вторая причина, по которой планирование должно осуществляться непрерывно, - это постоянная неопределенность будущего. Изменения в окружающей среде, ошибки в суждениях и другие факторы приводят к тому, что события разворачиваются не так, как это предвидело руководство при выработке первоначальных планов. Поэтому чтобы планы согласовывались с реальностью, их необходимо регулярно пересматривать. В процессе планирования необходимо консультироваться с владельцами процессов, которые обладают самими полными знаниями о них.</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Циклическая </a:t>
            </a:r>
            <a:br>
              <a:rPr sz="2400"/>
            </a:br>
            <a:r>
              <a:rPr b="1" lang="ru-RU" sz="2400" spc="-1" strike="noStrike">
                <a:solidFill>
                  <a:srgbClr val="ffffff"/>
                </a:solidFill>
                <a:latin typeface="Times New Roman"/>
              </a:rPr>
              <a:t>модель улучшения процессов</a:t>
            </a:r>
            <a:endParaRPr b="1" lang="en-US" sz="2400" spc="-1" strike="noStrike">
              <a:solidFill>
                <a:srgbClr val="ffffff"/>
              </a:solidFill>
              <a:latin typeface="Times New Roman"/>
            </a:endParaRPr>
          </a:p>
        </p:txBody>
      </p:sp>
      <p:sp>
        <p:nvSpPr>
          <p:cNvPr id="141"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a:t>
            </a:r>
            <a:r>
              <a:rPr b="1" i="1" lang="ru-RU" sz="2400" spc="-1" strike="noStrike">
                <a:solidFill>
                  <a:srgbClr val="ffffff"/>
                </a:solidFill>
                <a:latin typeface="Times New Roman"/>
              </a:rPr>
              <a:t>Осуществляй» (Do) </a:t>
            </a:r>
            <a:r>
              <a:rPr b="0" i="1" lang="ru-RU" sz="2400" spc="-1" strike="noStrike">
                <a:solidFill>
                  <a:srgbClr val="ffffff"/>
                </a:solidFill>
                <a:latin typeface="Times New Roman"/>
              </a:rPr>
              <a:t>- реализация процесса: обучение и подготовка кадров, выполнение работ</a:t>
            </a:r>
            <a:r>
              <a:rPr b="0" lang="ru-RU" sz="2400" spc="-1" strike="noStrike">
                <a:solidFill>
                  <a:srgbClr val="ffffff"/>
                </a:solidFill>
                <a:latin typeface="Times New Roman"/>
              </a:rPr>
              <a:t>. На данном этапе в первую очередь происходит создание некоторой структуры, которая должна выполнять намеченные планы и тем самым достигать цели организации.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оисходит внедрение процессов, осуществляется выполнение запланированных мероприятий. Здесь следует помнить о том, что стандарты всегда несовершенны, поэтому необходимо полагаться на опыт и знания квалифицированных работников. На всех этапах прохождения цикла Деминга возникает проблема нехватки квалифицированных и подготовленных работников. Поэтому необходимо внедрять программы обучения и целенаправленной подготовки кадров</a:t>
            </a:r>
            <a:r>
              <a:rPr b="0" i="1" lang="ru-RU" sz="2200" spc="-1" strike="noStrike">
                <a:solidFill>
                  <a:srgbClr val="ffffff"/>
                </a:solidFill>
                <a:latin typeface="Times New Roman"/>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51"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мультипликативность - эффекты функционирования элементов в системе обладают свойством умножения, а не сложения;</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взаимодействие и взаимозависимость системы и внешней среды;</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труктурность - возможны декомпозиция системы на части и установление связей между ними;</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иерархичность - каждая часть системы может рассматриваться как система (подсистема) более широкой глобальной системы;</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непрерывность функционирования;</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целенаправленность - система всегда рассматривается относительно некоторой/некоторых цели/целей;</a:t>
            </a: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Циклическая </a:t>
            </a:r>
            <a:br>
              <a:rPr sz="2400"/>
            </a:br>
            <a:r>
              <a:rPr b="1" lang="ru-RU" sz="2400" spc="-1" strike="noStrike">
                <a:solidFill>
                  <a:srgbClr val="ffffff"/>
                </a:solidFill>
                <a:latin typeface="Times New Roman"/>
              </a:rPr>
              <a:t>модель улучшения процессов</a:t>
            </a:r>
            <a:endParaRPr b="1" lang="en-US" sz="2400" spc="-1" strike="noStrike">
              <a:solidFill>
                <a:srgbClr val="ffffff"/>
              </a:solidFill>
              <a:latin typeface="Times New Roman"/>
            </a:endParaRPr>
          </a:p>
        </p:txBody>
      </p:sp>
      <p:sp>
        <p:nvSpPr>
          <p:cNvPr id="143" name="PlaceHolder 2"/>
          <p:cNvSpPr>
            <a:spLocks noGrp="1"/>
          </p:cNvSpPr>
          <p:nvPr>
            <p:ph/>
          </p:nvPr>
        </p:nvSpPr>
        <p:spPr>
          <a:xfrm>
            <a:off x="179280" y="165744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Проверяй» (Check) </a:t>
            </a:r>
            <a:r>
              <a:rPr b="0" i="1" lang="ru-RU" sz="2200" spc="-1" strike="noStrike">
                <a:solidFill>
                  <a:srgbClr val="ffffff"/>
                </a:solidFill>
                <a:latin typeface="Times New Roman"/>
              </a:rPr>
              <a:t>- проверка результатов выполнения работ, проведенных на предыдущем этапе. </a:t>
            </a:r>
            <a:r>
              <a:rPr b="0" lang="ru-RU" sz="2200" spc="-1" strike="noStrike">
                <a:solidFill>
                  <a:srgbClr val="ffffff"/>
                </a:solidFill>
                <a:latin typeface="Times New Roman"/>
              </a:rPr>
              <a:t>Данный этап говорит о том, что необходимо проводить мониторинг процессов и измерять их по отношению к политикам, целям и требованиям к продукции за определенный период и сообщать о полученных результатах в сравнении с ожидаемым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Контроль и оценка обеспечивают организации достижение своих целей. Если все идет в соответствии с поставленными задачами и согласно требованиям стандартов, то соответственно никакой корректировки не требуется. Однако если обнаружено отклонение, то вмешательство руководства для установления причин неэффективной работы процессов и планирования мер по улучшению становится необходимым.</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8000" y="18864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Циклическая </a:t>
            </a:r>
            <a:br>
              <a:rPr sz="2400"/>
            </a:br>
            <a:r>
              <a:rPr b="1" lang="ru-RU" sz="2400" spc="-1" strike="noStrike">
                <a:solidFill>
                  <a:srgbClr val="ffffff"/>
                </a:solidFill>
                <a:latin typeface="Times New Roman"/>
              </a:rPr>
              <a:t>модель улучшения процессов</a:t>
            </a:r>
            <a:endParaRPr b="1" lang="en-US" sz="2400" spc="-1" strike="noStrike">
              <a:solidFill>
                <a:srgbClr val="ffffff"/>
              </a:solidFill>
              <a:latin typeface="Times New Roman"/>
            </a:endParaRPr>
          </a:p>
        </p:txBody>
      </p:sp>
      <p:sp>
        <p:nvSpPr>
          <p:cNvPr id="145" name="PlaceHolder 2"/>
          <p:cNvSpPr>
            <a:spLocks noGrp="1"/>
          </p:cNvSpPr>
          <p:nvPr>
            <p:ph/>
          </p:nvPr>
        </p:nvSpPr>
        <p:spPr>
          <a:xfrm>
            <a:off x="179280" y="1412640"/>
            <a:ext cx="8785440" cy="544500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ffff"/>
                </a:solidFill>
                <a:latin typeface="Times New Roman"/>
              </a:rPr>
              <a:t>«Действуй, или воздействуй» (Асt) </a:t>
            </a:r>
            <a:r>
              <a:rPr b="0" i="1" lang="ru-RU" sz="2100" spc="-1" strike="noStrike">
                <a:solidFill>
                  <a:srgbClr val="ffffff"/>
                </a:solidFill>
                <a:latin typeface="Times New Roman"/>
              </a:rPr>
              <a:t>– соответствующих управляющих воздействий по постоянному усовершенствованию (улучшению) показателей процессов. </a:t>
            </a:r>
            <a:r>
              <a:rPr b="0" lang="ru-RU" sz="2100" spc="-1" strike="noStrike">
                <a:solidFill>
                  <a:srgbClr val="ffffff"/>
                </a:solidFill>
                <a:latin typeface="Times New Roman"/>
              </a:rPr>
              <a:t>На данном этапе на основе результатов, полученных ранее, предпринимаются действия по коррекции отклонений от первоначальных планов и постоянному улучшению функционирования процессов. Если вносимые изменения не решают поставленную задачу, цикл следует повторить. Тогда одно из возможных действий – пересмотр целей, для того, чтобы они стали более реалистичными и соответствовали ситуации.</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Данный цикл может быть применен внутри каждого процесса организации, как высокого уровня, так и к простым производственным процессам, а также по отношению к системе процессов в целом. Он тесно связан с планированием, внедрением, управлением и постоянным улучшением как бизнес-процессов организации, так и других процессов системы управления. Управление следует организовывать на основе комплексов мероприятий, которые доказали свою эффективность.</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a:t>
            </a:r>
            <a:br>
              <a:rPr sz="2400"/>
            </a:br>
            <a:r>
              <a:rPr b="1" lang="ru-RU" sz="2400" spc="-1" strike="noStrike">
                <a:solidFill>
                  <a:srgbClr val="ffffff"/>
                </a:solidFill>
                <a:latin typeface="Times New Roman"/>
              </a:rPr>
              <a:t> подход к управлению организацией</a:t>
            </a:r>
            <a:endParaRPr b="1" lang="en-US" sz="2400" spc="-1" strike="noStrike">
              <a:solidFill>
                <a:srgbClr val="ffffff"/>
              </a:solidFill>
              <a:latin typeface="Times New Roman"/>
            </a:endParaRPr>
          </a:p>
        </p:txBody>
      </p:sp>
      <p:sp>
        <p:nvSpPr>
          <p:cNvPr id="147"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истемный подход применительно к управлению рассматривает управленческую деятельность как систему, т. е. как совокупность элементов, взаимодействующих между собой в пространстве и времени, функционирование которых направлено на достижение обшей цели.</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Системный подход к управлению организацией это выявление, понимание и административное управление системой взаимосвязанных процессов с целью достижения заданной стратегической цели.</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и таком подходе организация представляется в виде иерархической системы взаимосвязанных моделей, позволяющих изучать ее целостные свойства, структуру.</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a:t>
            </a:r>
            <a:br>
              <a:rPr sz="2400"/>
            </a:br>
            <a:r>
              <a:rPr b="1" lang="ru-RU" sz="2400" spc="-1" strike="noStrike">
                <a:solidFill>
                  <a:srgbClr val="ffffff"/>
                </a:solidFill>
                <a:latin typeface="Times New Roman"/>
              </a:rPr>
              <a:t> подход к управлению организацией</a:t>
            </a:r>
            <a:endParaRPr b="1" lang="en-US" sz="2400" spc="-1" strike="noStrike">
              <a:solidFill>
                <a:srgbClr val="ffffff"/>
              </a:solidFill>
              <a:latin typeface="Times New Roman"/>
            </a:endParaRPr>
          </a:p>
        </p:txBody>
      </p:sp>
      <p:sp>
        <p:nvSpPr>
          <p:cNvPr id="149"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истемный подход к управлению организацией позволяет:</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пределить систему путем выявления или разработки процессов, влияющих на достижение заданной стратегической цел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руктурировать систему так, чтобы достичь заданной стратегической цели наиболее эффективным способом;</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ить понимание взаимосвязей между процессами системы;</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основать зависимость организации от переменных факторов внешней и внутренней среды, оказывающих прямое и косвенное воздействие на ее функционирование;</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оводить непрерывное совершенствование системы посредством измерения и оценк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a:t>
            </a:r>
            <a:br>
              <a:rPr sz="2400"/>
            </a:br>
            <a:r>
              <a:rPr b="1" lang="ru-RU" sz="2400" spc="-1" strike="noStrike">
                <a:solidFill>
                  <a:srgbClr val="ffffff"/>
                </a:solidFill>
                <a:latin typeface="Times New Roman"/>
              </a:rPr>
              <a:t> подход к управлению организацией</a:t>
            </a:r>
            <a:endParaRPr b="1" lang="en-US" sz="2400" spc="-1" strike="noStrike">
              <a:solidFill>
                <a:srgbClr val="ffffff"/>
              </a:solidFill>
              <a:latin typeface="Times New Roman"/>
            </a:endParaRPr>
          </a:p>
        </p:txBody>
      </p:sp>
      <p:sp>
        <p:nvSpPr>
          <p:cNvPr id="151"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обеспечить лучшее понимание распределения ролей и ответственности при достижения общих стратегических целей, уменьшая тем самым межфункциональные барьеры и улучшая коллективную работу.</a:t>
            </a: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Системный подход к управлению позволяет выделить ряд его сущностных признаков, важнейшими из которых являются следующие:</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сходным моментом в организации управления и конечным результатом его осуществления является человек с его потребностями, мотивами, ценностями; при этом создаются организационные, экономические и социально-психологические условия заинтересованности человека в результатах труда, удовлетворении его потребностей, что управляет мотивацией людей;</a:t>
            </a: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a:t>
            </a:r>
            <a:br>
              <a:rPr sz="2400"/>
            </a:br>
            <a:r>
              <a:rPr b="1" lang="ru-RU" sz="2400" spc="-1" strike="noStrike">
                <a:solidFill>
                  <a:srgbClr val="ffffff"/>
                </a:solidFill>
                <a:latin typeface="Times New Roman"/>
              </a:rPr>
              <a:t> подход к управлению организацией</a:t>
            </a:r>
            <a:endParaRPr b="1" lang="en-US" sz="2400" spc="-1" strike="noStrike">
              <a:solidFill>
                <a:srgbClr val="ffffff"/>
              </a:solidFill>
              <a:latin typeface="Times New Roman"/>
            </a:endParaRPr>
          </a:p>
        </p:txBody>
      </p:sp>
      <p:sp>
        <p:nvSpPr>
          <p:cNvPr id="153" name="PlaceHolder 2"/>
          <p:cNvSpPr>
            <a:spLocks noGrp="1"/>
          </p:cNvSpPr>
          <p:nvPr>
            <p:ph/>
          </p:nvPr>
        </p:nvSpPr>
        <p:spPr>
          <a:xfrm>
            <a:off x="179280" y="1484280"/>
            <a:ext cx="8785440" cy="5300640"/>
          </a:xfrm>
          <a:prstGeom prst="rect">
            <a:avLst/>
          </a:prstGeom>
          <a:noFill/>
          <a:ln w="0">
            <a:noFill/>
          </a:ln>
        </p:spPr>
        <p:txBody>
          <a:bodyPr anchor="t">
            <a:normAutofit/>
          </a:bodyPr>
          <a:p>
            <a:pPr marL="457200" indent="0" algn="just">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ринципы и методы системного подхода позволяют управлять как внутренними процессами деятельности людей, так и процессами поведения организации во внешней социально-экономической среде;</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руководство организации характеризует профессионализм управления, выступающий как одно из главных требований к персоналу;</a:t>
            </a:r>
            <a:endParaRPr b="0" lang="en-US" sz="2200" spc="-1" strike="noStrike">
              <a:solidFill>
                <a:srgbClr val="ffffff"/>
              </a:solidFill>
              <a:latin typeface="Arial"/>
            </a:endParaRPr>
          </a:p>
          <a:p>
            <a:pPr marL="457200" indent="-457200" algn="just">
              <a:lnSpc>
                <a:spcPct val="100000"/>
              </a:lnSpc>
              <a:spcBef>
                <a:spcPts val="1800"/>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ля руководства характерна гибкая организация управления, способная быстро перестаиваться в соответствии с меняющимися условиями, факторами внешней и внутренней среды.</a:t>
            </a:r>
            <a:endParaRPr b="0" lang="en-US" sz="2200" spc="-1" strike="noStrike">
              <a:solidFill>
                <a:srgbClr val="ffffff"/>
              </a:solidFill>
              <a:latin typeface="Arial"/>
            </a:endParaRPr>
          </a:p>
          <a:p>
            <a:pPr marL="45720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ный </a:t>
            </a:r>
            <a:br>
              <a:rPr sz="2400"/>
            </a:br>
            <a:r>
              <a:rPr b="1" lang="ru-RU" sz="2400" spc="-1" strike="noStrike">
                <a:solidFill>
                  <a:srgbClr val="ffffff"/>
                </a:solidFill>
                <a:latin typeface="Times New Roman"/>
              </a:rPr>
              <a:t>подход к управлению организацией</a:t>
            </a:r>
            <a:endParaRPr b="1" lang="en-US" sz="2400" spc="-1" strike="noStrike">
              <a:solidFill>
                <a:srgbClr val="ffffff"/>
              </a:solidFill>
              <a:latin typeface="Times New Roman"/>
            </a:endParaRPr>
          </a:p>
        </p:txBody>
      </p:sp>
      <p:sp>
        <p:nvSpPr>
          <p:cNvPr id="15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Процессный подход к управлению, пли процессное управление – подход к управлению, который рассматривает управление как непрерывную серию взаимосвязанных управленческий функций.</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оцессное управление </a:t>
            </a:r>
            <a:r>
              <a:rPr b="0" lang="ru-RU" sz="2200" spc="-1" strike="noStrike">
                <a:solidFill>
                  <a:srgbClr val="ffffff"/>
                </a:solidFill>
                <a:latin typeface="Times New Roman"/>
              </a:rPr>
              <a:t>– планомерная деятельность по формированию целенаправленного поведения организации посредством выделения, описания и менеджмента системы взаимосвязанных и взаимодополняющих процессов организации и их ресурсного окружения. Руководство организацией возможно осуществлять только управляя ее процессами (бизнес-процессам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этому</a:t>
            </a:r>
            <a:r>
              <a:rPr b="0" i="1" lang="ru-RU" sz="2200" spc="-1" strike="noStrike">
                <a:solidFill>
                  <a:srgbClr val="ffffff"/>
                </a:solidFill>
                <a:latin typeface="Times New Roman"/>
              </a:rPr>
              <a:t> процессное управление </a:t>
            </a:r>
            <a:r>
              <a:rPr b="0" lang="ru-RU" sz="2200" spc="-1" strike="noStrike">
                <a:solidFill>
                  <a:srgbClr val="ffffff"/>
                </a:solidFill>
                <a:latin typeface="Times New Roman"/>
              </a:rPr>
              <a:t>- это инструмент корпоративного управления, обеспечивающий реализацию стратегии организации. Управление может быть эффективно лишь тогда, когда оно сознательно нацелено на управление процессами, являющимися сутью деятельности системы при наличии цел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ный</a:t>
            </a:r>
            <a:br>
              <a:rPr sz="2400"/>
            </a:br>
            <a:r>
              <a:rPr b="1" lang="ru-RU" sz="2400" spc="-1" strike="noStrike">
                <a:solidFill>
                  <a:srgbClr val="ffffff"/>
                </a:solidFill>
                <a:latin typeface="Times New Roman"/>
              </a:rPr>
              <a:t> подход к управлению организацией</a:t>
            </a:r>
            <a:endParaRPr b="1" lang="en-US" sz="2400" spc="-1" strike="noStrike">
              <a:solidFill>
                <a:srgbClr val="ffffff"/>
              </a:solidFill>
              <a:latin typeface="Times New Roman"/>
            </a:endParaRPr>
          </a:p>
        </p:txBody>
      </p:sp>
      <p:sp>
        <p:nvSpPr>
          <p:cNvPr id="157" name="PlaceHolder 2"/>
          <p:cNvSpPr>
            <a:spLocks noGrp="1"/>
          </p:cNvSpPr>
          <p:nvPr>
            <p:ph/>
          </p:nvPr>
        </p:nvSpPr>
        <p:spPr>
          <a:xfrm>
            <a:off x="179280" y="1268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Система управления, основанная на процессном подходе </a:t>
            </a:r>
            <a:r>
              <a:rPr b="0" i="1" lang="ru-RU" sz="2400" spc="-1" strike="noStrike">
                <a:solidFill>
                  <a:srgbClr val="ffffff"/>
                </a:solidFill>
                <a:latin typeface="Times New Roman"/>
              </a:rPr>
              <a:t>– </a:t>
            </a:r>
            <a:r>
              <a:rPr b="0" lang="ru-RU" sz="2400" spc="-1" strike="noStrike">
                <a:solidFill>
                  <a:srgbClr val="ffffff"/>
                </a:solidFill>
                <a:latin typeface="Times New Roman"/>
              </a:rPr>
              <a:t>это система, в которой основным объектом управления является бизнес-процесс. Поэтому применение процессного подхода требует описания, оптимизации и автоматизации бизнес-процессов.</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При применении процессного подхода структура управления организацией включает два уровня:</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правление в рамках каждого бизнес-процесса;</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правление группой бизнес-процессов на уровне всей организации.</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Процессный </a:t>
            </a:r>
            <a:br>
              <a:rPr sz="2400"/>
            </a:br>
            <a:r>
              <a:rPr b="1" lang="ru-RU" sz="2400" spc="-1" strike="noStrike">
                <a:solidFill>
                  <a:srgbClr val="ffffff"/>
                </a:solidFill>
                <a:latin typeface="Times New Roman"/>
              </a:rPr>
              <a:t>подход к управлению организацией</a:t>
            </a:r>
            <a:endParaRPr b="1" lang="en-US" sz="2400" spc="-1" strike="noStrike">
              <a:solidFill>
                <a:srgbClr val="ffffff"/>
              </a:solidFill>
              <a:latin typeface="Times New Roman"/>
            </a:endParaRPr>
          </a:p>
        </p:txBody>
      </p:sp>
      <p:sp>
        <p:nvSpPr>
          <p:cNvPr id="159" name="PlaceHolder 2"/>
          <p:cNvSpPr>
            <a:spLocks noGrp="1"/>
          </p:cNvSpPr>
          <p:nvPr>
            <p:ph/>
          </p:nvPr>
        </p:nvSpPr>
        <p:spPr>
          <a:xfrm>
            <a:off x="179280" y="1773360"/>
            <a:ext cx="8785440" cy="4076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сновой управления отдельным бизнес-процессом и группой бизнес-процессов являются </a:t>
            </a:r>
            <a:r>
              <a:rPr b="0" i="1" lang="ru-RU" sz="2400" spc="-1" strike="noStrike">
                <a:solidFill>
                  <a:srgbClr val="ffffff"/>
                </a:solidFill>
                <a:latin typeface="Times New Roman"/>
              </a:rPr>
              <a:t>показатели эффективности</a:t>
            </a:r>
            <a:r>
              <a:rPr b="0" lang="ru-RU" sz="2400" spc="-1" strike="noStrike">
                <a:solidFill>
                  <a:srgbClr val="ffffff"/>
                </a:solidFill>
                <a:latin typeface="Times New Roman"/>
              </a:rPr>
              <a:t>, среди которых можно выделить:</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атраты на его осуществление;</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асчет времени на его осуществление;</a:t>
            </a:r>
            <a:endParaRPr b="0" lang="en-US" sz="24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каза гели качества бизнес-процесс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61" name="PlaceHolder 2"/>
          <p:cNvSpPr>
            <a:spLocks noGrp="1"/>
          </p:cNvSpPr>
          <p:nvPr>
            <p:ph/>
          </p:nvPr>
        </p:nvSpPr>
        <p:spPr>
          <a:xfrm>
            <a:off x="141120" y="1417320"/>
            <a:ext cx="8894880" cy="546588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процессе эволюции в данной области знаний в англоязычных публикациях в разнос время появлялись следующие понятия:</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в 1970-е гг. «безопасность данных» (англ. </a:t>
            </a:r>
            <a:r>
              <a:rPr b="0" i="1" lang="ru-RU" sz="2200" spc="-1" strike="noStrike">
                <a:solidFill>
                  <a:srgbClr val="ffffff"/>
                </a:solidFill>
                <a:latin typeface="Times New Roman"/>
              </a:rPr>
              <a:t>data security</a:t>
            </a:r>
            <a:r>
              <a:rPr b="0" lang="ru-RU" sz="2200" spc="-1" strike="noStrike">
                <a:solidFill>
                  <a:srgbClr val="ffffff"/>
                </a:solidFill>
                <a:latin typeface="Times New Roman"/>
              </a:rPr>
              <a:t>) и «компьютерная безопасность» (англ, </a:t>
            </a:r>
            <a:r>
              <a:rPr b="0" i="1" lang="ru-RU" sz="2200" spc="-1" strike="noStrike">
                <a:solidFill>
                  <a:srgbClr val="ffffff"/>
                </a:solidFill>
                <a:latin typeface="Times New Roman"/>
              </a:rPr>
              <a:t>computer security</a:t>
            </a:r>
            <a:r>
              <a:rPr b="0" lang="ru-RU" sz="2200" spc="-1" strike="noStrike">
                <a:solidFill>
                  <a:srgbClr val="ffffff"/>
                </a:solidFill>
                <a:latin typeface="Times New Roman"/>
              </a:rPr>
              <a:t>), </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1980-е гг. «безопасность информации» или «информационная безопасность» (англ, </a:t>
            </a:r>
            <a:r>
              <a:rPr b="0" i="1" lang="ru-RU" sz="2200" spc="-1" strike="noStrike">
                <a:solidFill>
                  <a:srgbClr val="ffffff"/>
                </a:solidFill>
                <a:latin typeface="Times New Roman"/>
              </a:rPr>
              <a:t>information security</a:t>
            </a:r>
            <a:r>
              <a:rPr b="0" lang="ru-RU" sz="2200" spc="-1" strike="noStrike">
                <a:solidFill>
                  <a:srgbClr val="ffffff"/>
                </a:solidFill>
                <a:latin typeface="Times New Roman"/>
              </a:rPr>
              <a:t>), «безопасность ИТ» (англ. </a:t>
            </a:r>
            <a:r>
              <a:rPr b="0" i="1" lang="ru-RU" sz="2200" spc="-1" strike="noStrike">
                <a:solidFill>
                  <a:srgbClr val="ffffff"/>
                </a:solidFill>
                <a:latin typeface="Times New Roman"/>
              </a:rPr>
              <a:t>IT security</a:t>
            </a:r>
            <a:r>
              <a:rPr b="0" lang="ru-RU" sz="2200" spc="-1" strike="noStrike">
                <a:solidFill>
                  <a:srgbClr val="ffffff"/>
                </a:solidFill>
                <a:latin typeface="Times New Roman"/>
              </a:rPr>
              <a:t>),«безопасность систем» (англ. </a:t>
            </a:r>
            <a:r>
              <a:rPr b="0" i="1" lang="ru-RU" sz="2200" spc="-1" strike="noStrike">
                <a:solidFill>
                  <a:srgbClr val="ffffff"/>
                </a:solidFill>
                <a:latin typeface="Times New Roman"/>
              </a:rPr>
              <a:t>systems security</a:t>
            </a:r>
            <a:r>
              <a:rPr b="0" lang="ru-RU" sz="2200" spc="-1" strike="noStrike">
                <a:solidFill>
                  <a:srgbClr val="ffffff"/>
                </a:solidFill>
                <a:latin typeface="Times New Roman"/>
              </a:rPr>
              <a:t>) и «защита информации» (англ, </a:t>
            </a:r>
            <a:r>
              <a:rPr b="0" i="1" lang="ru-RU" sz="2200" spc="-1" strike="noStrike">
                <a:solidFill>
                  <a:srgbClr val="ffffff"/>
                </a:solidFill>
                <a:latin typeface="Times New Roman"/>
              </a:rPr>
              <a:t>information protection</a:t>
            </a:r>
            <a:r>
              <a:rPr b="0" lang="ru-RU" sz="2200" spc="-1" strike="noStrike">
                <a:solidFill>
                  <a:srgbClr val="ffffff"/>
                </a:solidFill>
                <a:latin typeface="Times New Roman"/>
              </a:rPr>
              <a:t>), </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1990-с гг. «сетевая безопасность» (англ. </a:t>
            </a:r>
            <a:r>
              <a:rPr b="0" i="1" lang="ru-RU" sz="2200" spc="-1" strike="noStrike">
                <a:solidFill>
                  <a:srgbClr val="ffffff"/>
                </a:solidFill>
                <a:latin typeface="Times New Roman"/>
              </a:rPr>
              <a:t>Network security</a:t>
            </a:r>
            <a:r>
              <a:rPr b="0" lang="ru-RU" sz="2200" spc="-1" strike="noStrike">
                <a:solidFill>
                  <a:srgbClr val="ffffff"/>
                </a:solidFill>
                <a:latin typeface="Times New Roman"/>
              </a:rPr>
              <a:t>).</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скольку в настоящее время цифровая обработка информации является частью почти всех сфер жизни, нет различия между обработкой информация с использованием ИТ или коммуникационных технологий или с использованием бумажных носителей.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53" name="PlaceHolder 2"/>
          <p:cNvSpPr>
            <a:spLocks noGrp="1"/>
          </p:cNvSpPr>
          <p:nvPr>
            <p:ph/>
          </p:nvPr>
        </p:nvSpPr>
        <p:spPr>
          <a:xfrm>
            <a:off x="179280" y="1484280"/>
            <a:ext cx="8785440" cy="5300640"/>
          </a:xfrm>
          <a:prstGeom prst="rect">
            <a:avLst/>
          </a:prstGeom>
          <a:noFill/>
          <a:ln w="0">
            <a:noFill/>
          </a:ln>
        </p:spPr>
        <p:txBody>
          <a:bodyPr anchor="t">
            <a:normAutofit/>
          </a:bodyPr>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адаптивность - система стремится к состоянию устойчивого равновесия, которое предполагает адаптацию параметров системы к изменяющимся параметрам внешней среды;</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альтернативность путей функционирования и развития - в зависимости от конкретных параметров, возникающих при функционировании системы, могут существовать несколько альтернативных путей достижения конкретной цели;</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наследственность - передача преобладающих (наиболее сильных) признаков на определённых этапах развития (эволюции) системы от ее старой версии к новой;</a:t>
            </a:r>
            <a:endParaRPr b="0" lang="en-US" sz="2200" spc="-1" strike="noStrike">
              <a:solidFill>
                <a:srgbClr val="ffffff"/>
              </a:solidFill>
              <a:latin typeface="Arial"/>
            </a:endParaRPr>
          </a:p>
          <a:p>
            <a:pPr marL="343080" indent="-343080"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приоритет интересов системы более глобального уровня перед интересами ее частей или подсистем.</a:t>
            </a:r>
            <a:endParaRPr b="0" lang="en-US" sz="22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63"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этому считается, что термин «информационная безопасность» (а не «безопасность ИТ») более всеобъемлющ и более уместен. Однако словосочетание «безопасность ИТ» по-прежнему используется, но преимущественно в печатных изданиях, потому что оно короче.</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России в основном используются три термина - «безопасность информации», «защита информации» и «информационная безопасность».</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огласно Руководящему документу Гостехкомиссии России от 30 марта 1992 г. </a:t>
            </a:r>
            <a:r>
              <a:rPr b="0" i="1" lang="ru-RU" sz="2200" spc="-1" strike="noStrike">
                <a:solidFill>
                  <a:srgbClr val="ffffff"/>
                </a:solidFill>
                <a:latin typeface="Times New Roman"/>
              </a:rPr>
              <a:t>«Защита от несанкционированного доступа к информации. Термины и определения» безопасность информации (англ. information security</a:t>
            </a:r>
            <a:r>
              <a:rPr b="0" lang="ru-RU" sz="2200" spc="-1" strike="noStrike">
                <a:solidFill>
                  <a:srgbClr val="ffffff"/>
                </a:solidFill>
                <a:latin typeface="Times New Roman"/>
              </a:rPr>
              <a:t>) – это состояние защищенности информации, обрабатываемой средствами вычислительной техники или автоматизированной системы, от внутренних или внешних угроз.</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6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гласно Рекомендациям по стандартизации Р 50.1.053-2005 «Информационные технологии. Основные термины и определения в области технической защиты информации» и ГОСТ Р 50922-2006 «Защита информации. Основные термины и определения» </a:t>
            </a:r>
            <a:r>
              <a:rPr b="0" i="1" lang="ru-RU" sz="2400" spc="-1" strike="noStrike">
                <a:solidFill>
                  <a:srgbClr val="ffffff"/>
                </a:solidFill>
                <a:latin typeface="Times New Roman"/>
              </a:rPr>
              <a:t>безопасность информации данных </a:t>
            </a:r>
            <a:r>
              <a:rPr b="0" lang="ru-RU" sz="2400" spc="-1" strike="noStrike">
                <a:solidFill>
                  <a:srgbClr val="ffffff"/>
                </a:solidFill>
                <a:latin typeface="Times New Roman"/>
              </a:rPr>
              <a:t>- это состояние защищенности информации, при котором обеспечивается ее [их] конфиденциальность, доступность и целостность.</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гласно Р 50.1.053-2005 </a:t>
            </a:r>
            <a:r>
              <a:rPr b="0" i="1" lang="ru-RU" sz="2400" spc="-1" strike="noStrike">
                <a:solidFill>
                  <a:srgbClr val="ffffff"/>
                </a:solidFill>
                <a:latin typeface="Times New Roman"/>
              </a:rPr>
              <a:t>безопасность информации (применении информационных технологий (ИТ)) (англ. IT security) – эго состояние защищенности ИТ, обеспечивающее безопасность информации, для обработки которой она применяется, и ИБ автоматизированной ИС, в которой она реализована.</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67" name="PlaceHolder 2"/>
          <p:cNvSpPr>
            <a:spLocks noGrp="1"/>
          </p:cNvSpPr>
          <p:nvPr>
            <p:ph/>
          </p:nvPr>
        </p:nvSpPr>
        <p:spPr>
          <a:xfrm>
            <a:off x="179280" y="158436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Times New Roman"/>
              </a:rPr>
              <a:t>Словосочетание </a:t>
            </a:r>
            <a:r>
              <a:rPr b="0" i="1" lang="ru-RU" sz="2100" spc="-1" strike="noStrike">
                <a:solidFill>
                  <a:srgbClr val="ffffff"/>
                </a:solidFill>
                <a:latin typeface="Times New Roman"/>
              </a:rPr>
              <a:t>« информационная безопасность» </a:t>
            </a:r>
            <a:r>
              <a:rPr b="0" lang="ru-RU" sz="2100" spc="-1" strike="noStrike">
                <a:solidFill>
                  <a:srgbClr val="ffffff"/>
                </a:solidFill>
                <a:latin typeface="Times New Roman"/>
              </a:rPr>
              <a:t>в разных контекстах имеет разный смысл. Например, в Доктрине информационной безопасности Российской Федерации этот термин определяется как состояние защищенности национальных интересов в информационной сфере, определяемых совокупностью сбалансированных интересов личности, общества и государства. В Стандарте Банка России СТО БР ИББС-1.0 </a:t>
            </a:r>
            <a:r>
              <a:rPr b="0" i="1" lang="ru-RU" sz="2100" spc="-1" strike="noStrike">
                <a:solidFill>
                  <a:srgbClr val="ffffff"/>
                </a:solidFill>
                <a:latin typeface="Times New Roman"/>
              </a:rPr>
              <a:t>ИБ организации БСРФ </a:t>
            </a:r>
            <a:r>
              <a:rPr b="0" lang="ru-RU" sz="2100" spc="-1" strike="noStrike">
                <a:solidFill>
                  <a:srgbClr val="ffffff"/>
                </a:solidFill>
                <a:latin typeface="Times New Roman"/>
              </a:rPr>
              <a:t>- это безопасность (состояние защищенности интересов (целей) организации БС РФ в условиях угроз), связанная с угрозами в информационной сфере. При этом защищенность достигается обеспечением совокупности свойств ИБ – доступности, целостности, конфиденциальности информационных активов, а информационная сфера представляет собой совокупность информации, информационной инфраструктуры, субъектов, осуществляющих сбор, формирование, распространение, хранение и использование информации, а также системы регулирования возникающих при этом отношений.</a:t>
            </a:r>
            <a:endParaRPr b="0" lang="en-US" sz="21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69"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Под ИБ часто также понимается следующее:</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защищенность информации и поддерживающей инфраструктуры от случайных или преднамеренных воздействий естественного или искусственного характера, чреватых нанесением ущерба владельцам или пользователям информации и поддерживающей инфраструктуры;</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механизм защиты, обеспечивающий конфиденциальность, целостность и доступность информации;</a:t>
            </a:r>
            <a:endParaRPr b="0" lang="en-US" sz="2200" spc="-1" strike="noStrike">
              <a:solidFill>
                <a:srgbClr val="ffffff"/>
              </a:solidFill>
              <a:latin typeface="Arial"/>
            </a:endParaRPr>
          </a:p>
          <a:p>
            <a:pPr algn="just">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войство информации сохранять конфиденциальность, целостность и доступность.</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71"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огласно </a:t>
            </a:r>
            <a:r>
              <a:rPr b="0" i="1" lang="ru-RU" sz="2200" spc="-1" strike="noStrike">
                <a:solidFill>
                  <a:srgbClr val="ffffff"/>
                </a:solidFill>
                <a:latin typeface="Times New Roman"/>
              </a:rPr>
              <a:t>ГОСТ Р 53113.1-2008 «Информационная технология. Защита информационных технологий и автоматизированных систем от угроз ин-формационной безопасности, реализуемых с использованием скрытых каналов. Часть 1. Общие положения»</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ИБ - это все аспекты, связанные с определением, достижением и поддержанием конфиденциальности, целостности, доступности, неотказуемости, подотчетности, аутентичности и надежности информации или средства ее обработк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73"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ffffff"/>
                </a:solidFill>
                <a:latin typeface="Times New Roman"/>
              </a:rPr>
              <a:t>Кроме того, данное понятие в современных условиях должно включать в себя также и еще четыре свойства:</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аутентичность или подлинность (свойство, гарантирующее правдивость - подлинность, идентичность заявленным – происхождения, полномочий и т. и.) применяется к пользователям, процессам, системам, информации (англ. authenticity);</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учетность или подотчетность (однозначная прослеживаемость всех действий объектов, влияющих на ИБ) (англ, accountability),</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еотказуемость или неоспоримость (причастность к совершению операций с информацией) (англ, non-repudiation)’,</a:t>
            </a:r>
            <a:endParaRPr b="0" lang="en-US" sz="2200" spc="-1" strike="noStrike">
              <a:solidFill>
                <a:srgbClr val="ffffff"/>
              </a:solidFill>
              <a:latin typeface="Arial"/>
            </a:endParaRPr>
          </a:p>
          <a:p>
            <a:pPr algn="just">
              <a:lnSpc>
                <a:spcPct val="100000"/>
              </a:lnSpc>
              <a:spcBef>
                <a:spcPts val="18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дежность (соответствие преднамеренному поведению и результатам) (англ. reliability).</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7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Итак, в данном курсе ИБ определим как </a:t>
            </a:r>
            <a:r>
              <a:rPr b="0" i="1" lang="ru-RU" sz="2000" spc="-1" strike="noStrike">
                <a:solidFill>
                  <a:srgbClr val="ffffff"/>
                </a:solidFill>
                <a:latin typeface="Times New Roman"/>
              </a:rPr>
              <a:t>состояние защищённости информации, которое достигается обеспечением совокупности для нее свойств доступности, целостности, конфиденциальности, аутентичности, подотчетности, неотказуемости и надежности.</a:t>
            </a:r>
            <a:endParaRPr b="0" lang="en-US" sz="20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Под ИБ организации будем понимать состояние защищенности интересов (целей) организации в условиях угроз ИБ (угроз доступности, целостности, конфиденциальности, аутентичности, подотчетности, неотказуемости и надежности) в информационной сфере.</a:t>
            </a:r>
            <a:endParaRPr b="0" lang="en-US" sz="20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Б должна стать неотъемлемой частью производственной и деловой культуры организации. Для достижения целей ИБ организации перечисленные свойства информации поддерживаются комплексом мероприятий по управлению ИБ, осуществляемых на основе соответствующих нормативных актов и ПолИБ и организационных структур, за счет реализации установленных мер, методов, процедур и программно-аппаратных средств защиты информации (СЗИ), которыми необходимо постоянно управлять. </a:t>
            </a:r>
            <a:endParaRPr b="0" lang="en-US" sz="20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77"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Таким образом, ИБ представляет, главным образом, проблему управления (хотя в условиях сильной зависимости от использования ИТ и техническая сторона не должна оставаться без внимания), а </a:t>
            </a:r>
            <a:r>
              <a:rPr b="1" i="1" lang="ru-RU" sz="2200" spc="-1" strike="noStrike">
                <a:solidFill>
                  <a:srgbClr val="ffffff"/>
                </a:solidFill>
                <a:latin typeface="Times New Roman"/>
              </a:rPr>
              <a:t>ОИБ - это процесс поддержания состояния защищенности активов организации</a:t>
            </a:r>
            <a:r>
              <a:rPr b="0" lang="ru-RU" sz="2200" spc="-1" strike="noStrike">
                <a:solidFill>
                  <a:srgbClr val="ffffff"/>
                </a:solidFill>
                <a:latin typeface="Times New Roman"/>
              </a:rPr>
              <a:t>, который должен осуществляться постоянно и поэтому им необходимо управлять.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Этапы этого процесса представлены на рисунке ниже. Все этапы вместе с элементами представленного процесса составляют основу </a:t>
            </a:r>
            <a:r>
              <a:rPr b="1" i="1" lang="ru-RU" sz="2200" spc="-1" strike="noStrike">
                <a:solidFill>
                  <a:srgbClr val="ffffff"/>
                </a:solidFill>
                <a:latin typeface="Times New Roman"/>
              </a:rPr>
              <a:t>комплексной СОИБ организации</a:t>
            </a:r>
            <a:r>
              <a:rPr b="0" lang="ru-RU" sz="2200" spc="-1" strike="noStrike">
                <a:solidFill>
                  <a:srgbClr val="ffffff"/>
                </a:solidFill>
                <a:latin typeface="Times New Roman"/>
              </a:rPr>
              <a:t>, поскольку ОИБ требует комплексного подхода, включающего организационную (подготовленный персонал и нормативные документы), техническую (СЗИ) и другие составляющие.</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79" name="PlaceHolder 2"/>
          <p:cNvSpPr>
            <a:spLocks noGrp="1"/>
          </p:cNvSpPr>
          <p:nvPr>
            <p:ph/>
          </p:nvPr>
        </p:nvSpPr>
        <p:spPr>
          <a:xfrm>
            <a:off x="179280" y="1341360"/>
            <a:ext cx="8785440" cy="5300640"/>
          </a:xfrm>
          <a:prstGeom prst="rect">
            <a:avLst/>
          </a:prstGeom>
          <a:noFill/>
          <a:ln w="0">
            <a:noFill/>
          </a:ln>
        </p:spPr>
        <p:txBody>
          <a:bodyPr anchor="t">
            <a:normAutofit fontScale="98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rPr>
              <a:t>Этапы процесса ОИБ организации</a:t>
            </a:r>
            <a:endParaRPr b="0" lang="en-US" sz="1800" spc="-1" strike="noStrike">
              <a:solidFill>
                <a:srgbClr val="ffffff"/>
              </a:solidFill>
              <a:latin typeface="Arial"/>
            </a:endParaRPr>
          </a:p>
        </p:txBody>
      </p:sp>
      <p:pic>
        <p:nvPicPr>
          <p:cNvPr id="180" name="Picture 3" descr=""/>
          <p:cNvPicPr/>
          <p:nvPr/>
        </p:nvPicPr>
        <p:blipFill>
          <a:blip r:embed="rId1"/>
          <a:stretch/>
        </p:blipFill>
        <p:spPr>
          <a:xfrm>
            <a:off x="2098800" y="1536840"/>
            <a:ext cx="5110200" cy="4903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82"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а</a:t>
            </a:r>
            <a:endParaRPr b="1" lang="en-US" sz="2400" spc="-1" strike="noStrike">
              <a:solidFill>
                <a:srgbClr val="ffffff"/>
              </a:solidFill>
              <a:latin typeface="Times New Roman"/>
            </a:endParaRPr>
          </a:p>
        </p:txBody>
      </p:sp>
      <p:sp>
        <p:nvSpPr>
          <p:cNvPr id="55" name="PlaceHolder 2"/>
          <p:cNvSpPr>
            <a:spLocks noGrp="1"/>
          </p:cNvSpPr>
          <p:nvPr>
            <p:ph/>
          </p:nvPr>
        </p:nvSpPr>
        <p:spPr>
          <a:xfrm>
            <a:off x="179280" y="1484280"/>
            <a:ext cx="8785440" cy="5300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юбая система имеет </a:t>
            </a:r>
            <a:r>
              <a:rPr b="0" i="1" lang="ru-RU" sz="2400" spc="-1" strike="noStrike">
                <a:solidFill>
                  <a:srgbClr val="ffffff"/>
                </a:solidFill>
                <a:latin typeface="Times New Roman"/>
              </a:rPr>
              <a:t>внутреннее и внешнее </a:t>
            </a:r>
            <a:r>
              <a:rPr b="0" lang="ru-RU" sz="2400" spc="-1" strike="noStrike">
                <a:solidFill>
                  <a:srgbClr val="ffffff"/>
                </a:solidFill>
                <a:latin typeface="Times New Roman"/>
              </a:rPr>
              <a:t>описание.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ff"/>
                </a:solidFill>
                <a:uFillTx/>
                <a:latin typeface="Times New Roman"/>
              </a:rPr>
              <a:t>К внутреннему описанию </a:t>
            </a:r>
            <a:r>
              <a:rPr b="0" lang="ru-RU" sz="2400" spc="-1" strike="noStrike">
                <a:solidFill>
                  <a:srgbClr val="ffffff"/>
                </a:solidFill>
                <a:latin typeface="Times New Roman"/>
              </a:rPr>
              <a:t>системы относятся се внутреннее состояние и внутренний механизм преобразования входных данных в выходные. Это описание дает информацию о поведении системы, о соответствии или несоответствии внутренней структуры системы заданным целям, подсистемам (элементам) и ее ресурсам. </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ff"/>
                </a:solidFill>
                <a:uFillTx/>
                <a:latin typeface="Times New Roman"/>
              </a:rPr>
              <a:t>Внешнее описание </a:t>
            </a:r>
            <a:r>
              <a:rPr b="0" lang="ru-RU" sz="2400" spc="-1" strike="noStrike">
                <a:solidFill>
                  <a:srgbClr val="ffffff"/>
                </a:solidFill>
                <a:latin typeface="Times New Roman"/>
              </a:rPr>
              <a:t>включает внешние проявления системы и содержит информацию о взаимоотношениях с другими системами, с целями и ресурсами других систе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84"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86"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a:t>
            </a:r>
            <a:br>
              <a:rPr sz="2400"/>
            </a:br>
            <a:r>
              <a:rPr b="1" lang="ru-RU" sz="2400" spc="-1" strike="noStrike">
                <a:solidFill>
                  <a:srgbClr val="ffffff"/>
                </a:solidFill>
                <a:latin typeface="Times New Roman"/>
              </a:rPr>
              <a:t>Информационная безопасность</a:t>
            </a:r>
            <a:endParaRPr b="1" lang="en-US" sz="2400" spc="-1" strike="noStrike">
              <a:solidFill>
                <a:srgbClr val="ffffff"/>
              </a:solidFill>
              <a:latin typeface="Times New Roman"/>
            </a:endParaRPr>
          </a:p>
        </p:txBody>
      </p:sp>
      <p:sp>
        <p:nvSpPr>
          <p:cNvPr id="188" name="PlaceHolder 2"/>
          <p:cNvSpPr>
            <a:spLocks noGrp="1"/>
          </p:cNvSpPr>
          <p:nvPr>
            <p:ph/>
          </p:nvPr>
        </p:nvSpPr>
        <p:spPr>
          <a:xfrm>
            <a:off x="179280" y="1484280"/>
            <a:ext cx="8785440" cy="5300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 подход</a:t>
            </a:r>
            <a:endParaRPr b="1" lang="en-US" sz="2400" spc="-1" strike="noStrike">
              <a:solidFill>
                <a:srgbClr val="ffffff"/>
              </a:solidFill>
              <a:latin typeface="Times New Roman"/>
            </a:endParaRPr>
          </a:p>
        </p:txBody>
      </p:sp>
      <p:sp>
        <p:nvSpPr>
          <p:cNvPr id="57" name="PlaceHolder 2"/>
          <p:cNvSpPr>
            <a:spLocks noGrp="1"/>
          </p:cNvSpPr>
          <p:nvPr>
            <p:ph/>
          </p:nvPr>
        </p:nvSpPr>
        <p:spPr>
          <a:xfrm>
            <a:off x="179280" y="1557000"/>
            <a:ext cx="8785440" cy="5111640"/>
          </a:xfrm>
          <a:prstGeom prst="rect">
            <a:avLst/>
          </a:prstGeom>
          <a:noFill/>
          <a:ln w="0">
            <a:noFill/>
          </a:ln>
        </p:spPr>
        <p:txBody>
          <a:bodyPr anchor="t">
            <a:normAutofit/>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истемный подход - </a:t>
            </a:r>
            <a:r>
              <a:rPr b="0" lang="ru-RU" sz="2400" spc="-1" strike="noStrike">
                <a:solidFill>
                  <a:srgbClr val="ffffff"/>
                </a:solidFill>
                <a:latin typeface="Times New Roman"/>
              </a:rPr>
              <a:t>это методологическое направление исследования объекта как системы с разных сторон, комплексно в совокупности отношений и связей между его элементами, в отличие от ранее применявшихся.</a:t>
            </a:r>
            <a:endParaRPr b="0" lang="en-US" sz="24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imes New Roman"/>
              </a:rPr>
              <a:t>Системный подход </a:t>
            </a:r>
            <a:r>
              <a:rPr b="0" lang="ru-RU" sz="2400" spc="-1" strike="noStrike">
                <a:solidFill>
                  <a:srgbClr val="ffffff"/>
                </a:solidFill>
                <a:latin typeface="Times New Roman"/>
              </a:rPr>
              <a:t>ориентирован на раскрытие целостности объекта, на выявление многообразных типов связей и отношений, имеющих место как внутри исследуемого объекта, так и в его взаимоотношениях с внешней средой, и сведение их в единую теоретическую картину. Его основная задача состоит в разработке методов исследования и конструирования сложных развивающихся объектов – систем разных типов и классов, опираясь на изучение объективных закономерностей развития систе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198000"/>
            <a:ext cx="8928000" cy="1143000"/>
          </a:xfrm>
          <a:prstGeom prst="rect">
            <a:avLst/>
          </a:prstGeom>
          <a:noFill/>
          <a:ln w="0">
            <a:noFill/>
          </a:ln>
        </p:spPr>
        <p:txBody>
          <a:bodyPr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зовая терминология. Системный подход</a:t>
            </a:r>
            <a:endParaRPr b="1" lang="en-US" sz="2400" spc="-1" strike="noStrike">
              <a:solidFill>
                <a:srgbClr val="ffffff"/>
              </a:solidFill>
              <a:latin typeface="Times New Roman"/>
            </a:endParaRPr>
          </a:p>
        </p:txBody>
      </p:sp>
      <p:sp>
        <p:nvSpPr>
          <p:cNvPr id="59" name="PlaceHolder 2"/>
          <p:cNvSpPr>
            <a:spLocks noGrp="1"/>
          </p:cNvSpPr>
          <p:nvPr>
            <p:ph/>
          </p:nvPr>
        </p:nvSpPr>
        <p:spPr>
          <a:xfrm>
            <a:off x="179280" y="1413000"/>
            <a:ext cx="8785440" cy="5300640"/>
          </a:xfrm>
          <a:prstGeom prst="rect">
            <a:avLst/>
          </a:prstGeom>
          <a:noFill/>
          <a:ln w="0">
            <a:noFill/>
          </a:ln>
        </p:spPr>
        <p:txBody>
          <a:bodyPr anchor="t">
            <a:normAutofit fontScale="99000"/>
          </a:bodyPr>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Установлением структурных связей между элементами исследуемой системы, которая опирается на комплекс общенаучных, экспериментальных, естественнонаучных, статистических, математических методов, занимается </a:t>
            </a:r>
            <a:r>
              <a:rPr b="1" i="1" lang="ru-RU" sz="2200" spc="-1" strike="noStrike">
                <a:solidFill>
                  <a:srgbClr val="ffffff"/>
                </a:solidFill>
                <a:latin typeface="Times New Roman"/>
              </a:rPr>
              <a:t>системный анализ. </a:t>
            </a:r>
            <a:r>
              <a:rPr b="0" lang="ru-RU" sz="2200" spc="-1" strike="noStrike">
                <a:solidFill>
                  <a:srgbClr val="ffffff"/>
                </a:solidFill>
                <a:latin typeface="Times New Roman"/>
              </a:rPr>
              <a:t>Он представляет собой совокупность методов и средств исследования и построения сложных объектов за счет обоснования решений при создании и управлении техническими, экономическими и социальными системами. </a:t>
            </a:r>
            <a:endParaRPr b="0" lang="en-US" sz="2200" spc="-1" strike="noStrike">
              <a:solidFill>
                <a:srgbClr val="ffffff"/>
              </a:solidFill>
              <a:latin typeface="Arial"/>
            </a:endParaRPr>
          </a:p>
          <a:p>
            <a:pPr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Times New Roman"/>
              </a:rPr>
              <a:t>Системный анализ </a:t>
            </a:r>
            <a:r>
              <a:rPr b="0" lang="ru-RU" sz="2200" spc="-1" strike="noStrike">
                <a:solidFill>
                  <a:srgbClr val="ffffff"/>
                </a:solidFill>
                <a:latin typeface="Times New Roman"/>
              </a:rPr>
              <a:t>используется как один из важнейших методов в системном подходе, как эффективное средство решения сложных, обычно недостаточно четко сформулированных проблем, к которым относятся и проблемы управления различными объектами. Системный анализ позволяет уточнить проблемы и структурировать их в серию решаемых с помощью различных методов задач, найти критерии их решения, детализировать цели.</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4:31:21Z</dcterms:created>
  <dc:creator>Кривилёв М.А.</dc:creator>
  <dc:description/>
  <dc:language>en-US</dc:language>
  <cp:lastModifiedBy>sok306</cp:lastModifiedBy>
  <dcterms:modified xsi:type="dcterms:W3CDTF">2018-02-19T09:18:09Z</dcterms:modified>
  <cp:revision>534</cp:revision>
  <dc:subject/>
  <dc:title>Слайд 1</dc:title>
</cp:coreProperties>
</file>